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DC9C-317C-43C1-B951-DDF984A0BCEC}"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D1B7-395F-4025-8706-554EAE24325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ijete su 1977. godine sa ciljem da se </a:t>
            </a:r>
            <a:r>
              <a:rPr b="1" lang="sr-Latn-CS" sz="1200" spc="-1" strike="noStrike">
                <a:solidFill>
                  <a:srgbClr val="000000"/>
                </a:solidFill>
                <a:latin typeface="Arial"/>
              </a:rPr>
              <a:t>š</a:t>
            </a:r>
            <a:r>
              <a:rPr b="1" lang="en-GB" sz="1200" spc="-1" strike="noStrike">
                <a:solidFill>
                  <a:srgbClr val="000000"/>
                </a:solidFill>
                <a:latin typeface="Arial"/>
              </a:rPr>
              <a:t>to</a:t>
            </a:r>
            <a:r>
              <a:rPr b="1" lang="sr-Latn-CS" sz="1200" spc="-1" strike="noStrike">
                <a:solidFill>
                  <a:srgbClr val="000000"/>
                </a:solidFill>
                <a:latin typeface="Arial"/>
              </a:rPr>
              <a:t> bolje i</a:t>
            </a:r>
            <a:r>
              <a:rPr b="1" lang="en-GB" sz="1200" spc="-1" strike="noStrike">
                <a:solidFill>
                  <a:srgbClr val="000000"/>
                </a:solidFill>
                <a:latin typeface="Arial"/>
              </a:rPr>
              <a:t> pravednije defini</a:t>
            </a:r>
            <a:r>
              <a:rPr b="1" lang="sr-Latn-CS" sz="1200" spc="-1" strike="noStrike">
                <a:solidFill>
                  <a:srgbClr val="000000"/>
                </a:solidFill>
                <a:latin typeface="Arial"/>
              </a:rPr>
              <a:t>š</a:t>
            </a:r>
            <a:r>
              <a:rPr b="1" lang="en-GB" sz="1200" spc="-1" strike="noStrike">
                <a:solidFill>
                  <a:srgbClr val="000000"/>
                </a:solidFill>
                <a:latin typeface="Arial"/>
              </a:rPr>
              <a:t>u odnosi i</a:t>
            </a:r>
            <a:r>
              <a:rPr b="1" lang="sr-Latn-CS" sz="1200" spc="-1" strike="noStrike">
                <a:solidFill>
                  <a:srgbClr val="000000"/>
                </a:solidFill>
                <a:latin typeface="Arial"/>
              </a:rPr>
              <a:t>z</a:t>
            </a:r>
            <a:r>
              <a:rPr b="1" lang="en-GB" sz="1200" spc="-1" strike="noStrike">
                <a:solidFill>
                  <a:srgbClr val="000000"/>
                </a:solidFill>
                <a:latin typeface="Arial"/>
              </a:rPr>
              <a:t>me</a:t>
            </a:r>
            <a:r>
              <a:rPr b="1" lang="sr-Latn-CS" sz="1200" spc="-1" strike="noStrike">
                <a:solidFill>
                  <a:srgbClr val="000000"/>
                </a:solidFill>
                <a:latin typeface="Arial"/>
              </a:rPr>
              <a:t>đ</a:t>
            </a:r>
            <a:r>
              <a:rPr b="1" lang="en-GB" sz="1200" spc="-1" strike="noStrike">
                <a:solidFill>
                  <a:srgbClr val="000000"/>
                </a:solidFill>
                <a:latin typeface="Arial"/>
              </a:rPr>
              <a:t>u u</a:t>
            </a:r>
            <a:r>
              <a:rPr b="1" lang="sr-Latn-CS" sz="1200" spc="-1" strike="noStrike">
                <a:solidFill>
                  <a:srgbClr val="000000"/>
                </a:solidFill>
                <a:latin typeface="Arial"/>
              </a:rPr>
              <a:t>č</a:t>
            </a:r>
            <a:r>
              <a:rPr b="1" lang="en-GB" sz="1200" spc="-1" strike="noStrike">
                <a:solidFill>
                  <a:srgbClr val="000000"/>
                </a:solidFill>
                <a:latin typeface="Arial"/>
              </a:rPr>
              <a:t>esnika</a:t>
            </a:r>
            <a:r>
              <a:rPr b="1" lang="sr-Latn-CS" sz="1200" spc="-1" strike="noStrike">
                <a:solidFill>
                  <a:srgbClr val="000000"/>
                </a:solidFill>
                <a:latin typeface="Arial"/>
              </a:rPr>
              <a:t> u izgradnji objekata. </a:t>
            </a:r>
            <a:r>
              <a:rPr b="1" lang="en-US" sz="1200" spc="-1" strike="noStrike">
                <a:solidFill>
                  <a:srgbClr val="000000"/>
                </a:solidFill>
                <a:latin typeface="Arial"/>
              </a:rPr>
              <a:t>ranije </a:t>
            </a:r>
            <a:r>
              <a:rPr b="1" lang="sr-Latn-CS" sz="1200" spc="-1" strike="noStrike">
                <a:solidFill>
                  <a:srgbClr val="000000"/>
                </a:solidFill>
                <a:latin typeface="Arial"/>
              </a:rPr>
              <a:t>se smatra</a:t>
            </a:r>
            <a:r>
              <a:rPr b="1" lang="en-US" sz="1200" spc="-1" strike="noStrike">
                <a:solidFill>
                  <a:srgbClr val="000000"/>
                </a:solidFill>
                <a:latin typeface="Arial"/>
              </a:rPr>
              <a:t>lo</a:t>
            </a:r>
            <a:r>
              <a:rPr b="1" lang="sr-Latn-CS" sz="1200" spc="-1" strike="noStrike">
                <a:solidFill>
                  <a:srgbClr val="000000"/>
                </a:solidFill>
                <a:latin typeface="Arial"/>
              </a:rPr>
              <a:t> da su Investitor i izvođač u obavezi da ih primjenjuju, ukoliko se u ugovoru izričito ne odreknu ovog prava</a:t>
            </a:r>
            <a:r>
              <a:rPr b="1" lang="en-US" sz="1200" spc="-1" strike="noStrike">
                <a:solidFill>
                  <a:srgbClr val="000000"/>
                </a:solidFill>
                <a:latin typeface="Arial"/>
              </a:rPr>
              <a:t>, ali je to iskljuceno novim Zakonom o obligacionim odnosima, pa one vaze samo ukoliko se u Ugovoru direktno napise da ove va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Uzanse propisuju ono što je uobičajeno da se radi u praks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A690-175D-460B-89F3-2349EBD25CF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082960" y="228600"/>
            <a:ext cx="2539800" cy="1905120"/>
          </a:xfrm>
          <a:prstGeom prst="rect">
            <a:avLst/>
          </a:prstGeom>
          <a:ln w="0">
            <a:noFill/>
          </a:ln>
        </p:spPr>
      </p:sp>
      <p:sp>
        <p:nvSpPr>
          <p:cNvPr id="21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stabilnost tržišta je razlog za izmjenu cijena ugovorenih radova. Ovaj uslov postojao je i u Zakonu  o obligacionim odnosima, ali su granice promjene cijena ovdje drugačije definisane, odnosno:</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se cijene pojedinih materijala, odnosno usluga promijene za </a:t>
            </a:r>
            <a:r>
              <a:rPr b="0" lang="en-GB" sz="700" spc="-1" strike="noStrike">
                <a:solidFill>
                  <a:srgbClr val="000000"/>
                </a:solidFill>
                <a:latin typeface="Arial"/>
              </a:rPr>
              <a:t>&gt;</a:t>
            </a:r>
            <a:r>
              <a:rPr b="0" lang="sr-Latn-CS" sz="700" spc="-1" strike="noStrike">
                <a:solidFill>
                  <a:srgbClr val="000000"/>
                </a:solidFill>
                <a:latin typeface="Arial"/>
              </a:rPr>
              <a:t> od 5%,</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svih materijala i usluga iznosi  više  od </a:t>
            </a:r>
            <a:r>
              <a:rPr b="0" lang="en-GB" sz="700" spc="-1" strike="noStrike">
                <a:solidFill>
                  <a:srgbClr val="000000"/>
                </a:solidFill>
                <a:latin typeface="Arial"/>
              </a:rPr>
              <a:t>&gt;</a:t>
            </a:r>
            <a:r>
              <a:rPr b="0" lang="sr-Latn-CS" sz="700" spc="-1" strike="noStrike">
                <a:solidFill>
                  <a:srgbClr val="000000"/>
                </a:solidFill>
                <a:latin typeface="Arial"/>
              </a:rPr>
              <a:t> od 3%,</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materijala i usluga mijenja ugovorenu vrijednost radova za </a:t>
            </a:r>
            <a:r>
              <a:rPr b="0" lang="en-GB" sz="700" spc="-1" strike="noStrike">
                <a:solidFill>
                  <a:srgbClr val="000000"/>
                </a:solidFill>
                <a:latin typeface="Arial"/>
              </a:rPr>
              <a:t>&gt;</a:t>
            </a:r>
            <a:r>
              <a:rPr b="0" lang="sr-Latn-CS" sz="700" spc="-1" strike="noStrike">
                <a:solidFill>
                  <a:srgbClr val="000000"/>
                </a:solidFill>
                <a:latin typeface="Arial"/>
              </a:rPr>
              <a:t> od 2%, </a:t>
            </a:r>
            <a:endParaRPr b="0" lang="en-US" sz="700" spc="-1" strike="noStrike">
              <a:solidFill>
                <a:srgbClr val="000000"/>
              </a:solidFill>
              <a:latin typeface="Arial"/>
            </a:endParaRPr>
          </a:p>
          <a:p>
            <a:pPr lvl="1" marL="685800"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858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orast troškova života je takođe razlog za korekciju cijena. Rast troškova života se utvrđuje na osnovu statističkih podataka nadležnog organa za poslove statistike. Obračun ove razlike u cijeni radi se na osnovu podataka o % učešća ličnih dohodaka i terenskih dodataka u ukupnom prihodu iz prethodne godine za odgovarajuću granu iz oblasti građevinarstva, a ne za konkretnog izvoćača radova. Ovaj procenat učešća ličnih dohodaka i terenskih dodataka se uzima za proračun tročkova LD i TD u ugovoru (pomnoži se ukupna vrijednost ugovora sa ovim procentom). Na tako dobijen iznos bruto LD i TD primjenjuje se procenat porasta odnosno smanjenja troškova života. Kada tokom realizacije ugovora bude postignut uslov za povećanje porasta troškova života za više od 5 % ima se pravo obračuna razlike u cijeni po ovom osnovu. Sljedeći obračun razlike u cijeni po ovom osnovu radi se nakon 6 mjeseci (bez obzira koliki je rast troškova života u tom periodu). KOnačni obračun razlike u cijeni radi se na kraju u konačnom obračun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a osnovu ispunjenosti bilo kog uslova za izmjenu cijene po prethodno rečenom treba odrediti i koji se to procenat izmjene cijena priznaje. Uzansama je određeno da je to: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Xdz= Xst- Xgr + 0,5 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ka je </a:t>
            </a:r>
            <a:r>
              <a:rPr b="0" i="1" lang="sr-Latn-CS" sz="700" spc="-1" strike="noStrike">
                <a:solidFill>
                  <a:srgbClr val="000000"/>
                </a:solidFill>
                <a:latin typeface="Arial"/>
              </a:rPr>
              <a:t>Xgr – granični iznos u % (procenti koji su definisani kao granične vrijednosti u posebnim uzansam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st – stvarni iznos u % (stvarni % promjene nekih od uslova koji iniciraju izmjenu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dz – dozvoljeni iznos u % (dozvoljeni % izmjene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u="sng">
                <a:solidFill>
                  <a:srgbClr val="000000"/>
                </a:solidFill>
                <a:uFillTx/>
                <a:latin typeface="Arial"/>
              </a:rPr>
              <a:t>Prema ZOO je Xdz=Xst-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Slično ZOO ugovarač ne može zahtijevati izmjenu cijene zbog promijenjenih okolnosti koje su nastale po isteku roka odreženog za ispunjenje njegove obaveze, osim ako je za docnju kriva druga strana. Ovdje se međutim pravi izuzetak u smislu priznavanja prava na izmjenu cijene i u slučaju ako su promijenjene okolnosti koje bi nastupile i da je ugovorna obaveza  ispunjena u predviđenom roku. (ovakav slučaj postoji kod neočekivanih uslova fundiranja ili sl.)</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arači se mogu saglasiti da se cijena neće mijenjati kad nastupe promijenjene okolnosti. Međutim, prema Uzansama (u smislu pravičnosti i poštenja) je predviđeno da i pored te klauzule može se zahtijevati izmjena cijena, ukoliko ona iznosi više od 10%. Pri tome se ima pravo na rzliku u cijeni koja prelazi 10%. (NPR: stvarna promjena cijena bi bila 13%, može se zahtijevati izmjena cijena, pri čemu bi cijena bila izmijenjena za 13%-10%=3%.</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Izvođač nema pravo izmjene cijene zbog izmjene cijene materijala (u procentu većem od Xgr), ukoliko je primio avans za nabavku materijala, jer se smatra da je na taj način mogao izbjeći uticaj promjene cijene materijala. S obzirom da avansom izvođač slobodno raspolađe (ukoliko ugovorom nije drugačije rečeno), ovaj uticaj avansa važi samo ukoliko je u ugovoru izričito navedeno da se avans daje za nabavku materija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izvođač bez prethodne saglasnosti naručioca upotrijebi materijal boljeg kvaliteta od ugovorenog, cijena radova se po tom osnovu može izmijeniti uz pristanak naručioc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sim ovoga predviđeno je i pravo naručioca na srazmjerno samnjenje cijena ukoliko je kvalitet izvedenih radova ili upotrijebljenog materijala ispod ugovorenog, zatim zbog neestetskog izgleda objekta (što je posledica odstupanja od tehničke dokumentacije bez saglasnosti naručioca). Ovaj iznos se utvrđuje sporazumno između naručioca i izvođač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cijena nije ugovorena kao jedinična cijena nego u ukupnom iznosu (dakle za sve radove ukupno), onda se ona ne mijenja zbog viškova i manjkova radova. Takođe Cijena u ukupnom iznosu obuhvata i vrijednost nepredviđenih radova za radove za koje je izvođač u vrijeme zaključenja ugovora znao ili je morao znati da se moraju izvesti, dok se za ostale nepredbiđene radove cijena naknadno utvršuje ugovorom.</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 </a:t>
            </a:r>
            <a:r>
              <a:rPr b="0" lang="sr-Latn-CS" sz="700" spc="-1" strike="noStrike">
                <a:solidFill>
                  <a:srgbClr val="000000"/>
                </a:solidFill>
                <a:latin typeface="Arial"/>
              </a:rPr>
              <a:t>Odredba “ključ u ruke” ili slično, znači da ugovorena cijena obuhvata vrijednost svih nepredviđenih i viškova radova, a isključuje uticaj manjkova radova. Pa i pored toga, može se zahtijevati izmjena cijene zbog promijenjenih okolnosti koje su ranije navedene i plaćanja naknadnih radov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orena cijena ne obuhvata naknadne radove- oni se posebno ugovaraju.</a:t>
            </a:r>
            <a:endParaRPr b="0" lang="en-US" sz="7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0CCA1-06CC-4BEE-8E57-2582E67617C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2082960" y="228600"/>
            <a:ext cx="2539800" cy="1905120"/>
          </a:xfrm>
          <a:prstGeom prst="rect">
            <a:avLst/>
          </a:prstGeom>
          <a:ln w="0">
            <a:noFill/>
          </a:ln>
        </p:spPr>
      </p:sp>
      <p:sp>
        <p:nvSpPr>
          <p:cNvPr id="22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ne može teći prije dana uvođenja izvođača u posao, ali može kasnije. Ako nije definisan rok , izvođač je dužan da sa radovima otpočne odmah po uvođenju u posao i o tome obavijesti naručioc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radovi ne započnu u ugovorenom roku, naručilac može dati primjeren naknadni rok za započinjanje posla, a ako ni u tom roku izvođač ne započne, naručilac ima pravo raskida ugovoar i nadoknade štet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98CB-4106-4E69-A726-50C893E2B46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2082960" y="228600"/>
            <a:ext cx="2539800" cy="1905120"/>
          </a:xfrm>
          <a:prstGeom prst="rect">
            <a:avLst/>
          </a:prstGeom>
          <a:ln w="0">
            <a:noFill/>
          </a:ln>
        </p:spPr>
      </p:sp>
      <p:sp>
        <p:nvSpPr>
          <p:cNvPr id="22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duženje roka može da zahtijeva izvođač u slučaju da je zbog promijenjenih okolnosti ili neispunjavanja obaveza naručioca bio spriječen da izvodi radove. Produženje roka se određuje u zavisnosti od trajanja smetnje, ali uključuje u vrijeme potrebno da za ponovno otpočinjanje radova u nepovoljnije godišnje doba. Ovo se odnosi posebno 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rodne događaje (požar, poplave, zemljotrese izutetnoo neuobičajeno loše vrije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jere predviđene aktima nadležnih orga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slovi za izvođenje radova u zemlji ili vod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e uvođenja izvođača u posa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tupci naručioca(kapnjenje u isplati abansa ili situacija, neotklanjanje nedostataka u tehničkoj dokumentacij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a u isporuci opreme (ako je nabavlja naručilac)</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epredviđeni radov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škovi radova preko 10%</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su promijenjenen okolnosti nastupile nakon docnje izvožača, on nema pravo da traži produženje roka osim u slučaju ako su promijenjene okolnosti takve prirode da bi nastupie i da su radovi izvedeni u predviženom roku . Ova je odredba kao kod izmjene cijene i docnje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podnese zahtjev čim je saznao za razloge zbog kojih se rok može produžiti, on ima i dalje pravo da traži produženje roka, ali ako njegovo nepodnošenje zahrjeva izazove štetne posledice njemu ili naručiocu, izvođač će biti dužan da ih snosi.</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9614-A896-4442-AE10-AD73387CD40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2082960" y="228600"/>
            <a:ext cx="2539800" cy="1905120"/>
          </a:xfrm>
          <a:prstGeom prst="rect">
            <a:avLst/>
          </a:prstGeom>
          <a:ln w="0">
            <a:noFill/>
          </a:ln>
        </p:spPr>
      </p:sp>
      <p:sp>
        <p:nvSpPr>
          <p:cNvPr id="22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o su uobičajeni uslovi koje treba da obezbijedi naručilac, mećutim, ukoliko tehničku dokumentaciju daje izvođač, onda otpada obaveza naručioca da preda izvošaču tehničku dokumentacij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za uvođenje u posao se definiše u ugovoru, a ukoliko ga naručilac ne ispoštuje, i ili ne ispoštuje i naknadno određeni rok, izvođač može raskinuti ugovo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50EB-5D63-4BAE-90D3-66E0C77075F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2082960" y="228600"/>
            <a:ext cx="2539800" cy="1905120"/>
          </a:xfrm>
          <a:prstGeom prst="rect">
            <a:avLst/>
          </a:prstGeom>
          <a:ln w="0">
            <a:noFill/>
          </a:ln>
        </p:spPr>
      </p:sp>
      <p:sp>
        <p:nvSpPr>
          <p:cNvPr id="230"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DFBB-9951-4987-B7BE-AE7A9FE60F6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2082960" y="228600"/>
            <a:ext cx="2539800" cy="1905120"/>
          </a:xfrm>
          <a:prstGeom prst="rect">
            <a:avLst/>
          </a:prstGeom>
          <a:ln w="0">
            <a:noFill/>
          </a:ln>
        </p:spPr>
      </p:sp>
      <p:sp>
        <p:nvSpPr>
          <p:cNvPr id="23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ugovorom nije poredviđeno u kojim se slučajevima plaća ugovorna kazna onda se smatra da je ugovorena za slučaj </a:t>
            </a:r>
            <a:r>
              <a:rPr b="1" lang="sr-Latn-CS" sz="1000" spc="-1" strike="noStrike">
                <a:solidFill>
                  <a:srgbClr val="000000"/>
                </a:solidFill>
                <a:latin typeface="Arial"/>
              </a:rPr>
              <a:t>neurednog</a:t>
            </a:r>
            <a:r>
              <a:rPr b="0" lang="sr-Latn-CS" sz="1000" spc="-1" strike="noStrike">
                <a:solidFill>
                  <a:srgbClr val="000000"/>
                </a:solidFill>
                <a:latin typeface="Arial"/>
              </a:rPr>
              <a:t> ispunjenja ugovornih obavez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sina ugovorne kazne je stvar ugovora izvođača i naručioca, Uzanse predvićaju da ona iznosi 1%o od ukupne ugvorene cijene radova za svaki dan zakašnjenja, s tim što ne može preći 5% od ukupne cijene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snovicu za obračun čini vrijednost svih ugovorenih radova, a ne samo radova koji nijesu izvedeni u ugovorenom roku. Ukoliko je izvođač ranije završio i predao  dio objekta koji se samostalno može koristiti, onda se njegova vrijednost izuzima iz osnovice z a obračun ugovorne kazne. Ovo takođe znači, da ako je izvođač sve radove završio na vrijem, osim onih koji se odnose na posebnu funkcionalnu i tehničku cjelinu koja se posebno može koristiti, onda se ugovorna kazna plaća smo za te radove na posebnoj cjelin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je ugovarač pretrpio štetu onda može zahtijevati:</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i razliku i iznosu štete i ugovorne kazne u slučaju da  je iznos štete veći od ugovorne kazne,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u slučaju da  je iznos štete manji od ugovorne kazn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knadu štete i ugovornu kaznu, samo ako je tako ugovoren, a bez obzira na međusoban odnos kazne i štet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se podrazumijeva da duđnik može dokazivati da nije kriv za neuredno ispunjenje obaveza i u tom slučaju se može oslobađa plaćanja ugovorne kazne.</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E6E77-D086-4736-8534-0C89E522312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2082960" y="228600"/>
            <a:ext cx="2539800" cy="1905120"/>
          </a:xfrm>
          <a:prstGeom prst="rect">
            <a:avLst/>
          </a:prstGeom>
          <a:ln w="0">
            <a:noFill/>
          </a:ln>
        </p:spPr>
      </p:sp>
      <p:sp>
        <p:nvSpPr>
          <p:cNvPr id="23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običajeno radovi traju duži vremenski period, pa je neophodno redovno vršiti plaćanje (sukcesivnoo kako se radovi odvijaju) da ne bi izvođača doveli u situaciju da ne mogu da izvode radove. Privremena situacija je zaista privremena, pa se u sljedećoj može korigovati neki iznos koji je u prethodnoj bio odobren i čak plaće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može da ospori količnu, vrstu ili cijenu radova u situaciji i da o tome u roku obavijesti izvođača. Iz ovoga slijedi da se ne može u privremenim situacijama osporavati kvalitet radova, već se on vrednuje u okončanoj situaciji. Takođe se kaže da ovjeravanje situacije nije uslov za plaćanje na osnovu situacij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rok za plaćanje avansa nije ugovoren, onda se on mora platiti prije izvođenja radove, a to znači da zapravo rok početka radova počinje teći nakon isplate avans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raćanje avansa počinje nakon što vrijednost privremenih situacija dostigne 50% od ugovorene cijene (odnosno kad je realizovano 50% ugovorene vrijednosti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r>
              <a:rPr b="0" lang="sr-Latn-CS" sz="1000" spc="-1" strike="noStrike">
                <a:solidFill>
                  <a:srgbClr val="000000"/>
                </a:solidFill>
                <a:latin typeface="Arial"/>
              </a:rPr>
              <a:t>Avans se vraća sukcesivno srazmjerno primljenom avansu i vrijednosti ugovorenih a neizvršenih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CA09-9045-4D70-90DF-0A2075C8CE5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2082960" y="228600"/>
            <a:ext cx="2539800" cy="1905120"/>
          </a:xfrm>
          <a:prstGeom prst="rect">
            <a:avLst/>
          </a:prstGeom>
          <a:ln w="0">
            <a:noFill/>
          </a:ln>
        </p:spPr>
      </p:sp>
      <p:sp>
        <p:nvSpPr>
          <p:cNvPr id="23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vremene situacije</a:t>
            </a:r>
            <a:r>
              <a:rPr b="0" lang="sr-Latn-CS" sz="1000" spc="-1" strike="noStrike">
                <a:solidFill>
                  <a:srgbClr val="000000"/>
                </a:solidFill>
                <a:latin typeface="Arial"/>
              </a:rPr>
              <a:t> obuhvataju i viškove i nepredviđene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2E4B-C2FD-4442-9F23-41FB55AD248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2082960" y="228600"/>
            <a:ext cx="2539800" cy="1905120"/>
          </a:xfrm>
          <a:prstGeom prst="rect">
            <a:avLst/>
          </a:prstGeom>
          <a:ln w="0">
            <a:noFill/>
          </a:ln>
        </p:spPr>
      </p:sp>
      <p:sp>
        <p:nvSpPr>
          <p:cNvPr id="24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držani iznos se isplaćuje kad prestane svrha njihovog zadržava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D238-AB03-4CB9-BDBF-3323B2F5894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2082960" y="228600"/>
            <a:ext cx="2539800" cy="1905120"/>
          </a:xfrm>
          <a:prstGeom prst="rect">
            <a:avLst/>
          </a:prstGeom>
          <a:ln w="0">
            <a:noFill/>
          </a:ln>
        </p:spPr>
      </p:sp>
      <p:sp>
        <p:nvSpPr>
          <p:cNvPr id="24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može obustaviti radove tek po isteku primjerenog roka koji je ostavio naručiocu za ispunjenje obaveza. Po prestanku smetnje zbog kojih su radovi obustavljeni dužan je nastaviti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lučaju privremenog obustavljanja radova izvođač treba da zaštiti radove, i to na ekonomičan način, jer te troškove snosi naručilac, osim u slučaju da je za obustavljanje odgovoran izvođač.</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naj koji je odgovoran za obustavljanje radova dužan je da nadoknadi štetu drugom ugovaraču, a to uključuje i izgubljenu dobi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svim stvarima u vezi sa privremenim obustavljanjem radova potrebno je pismeno obavijestiti naručioca (to proističe i iz  uzanse br.8 koja se odnosi na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9F97-2940-4ABF-8457-253DB201DB1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7505-FA56-4B24-BA08-E3378BBA467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2082960" y="228600"/>
            <a:ext cx="2539800" cy="1905120"/>
          </a:xfrm>
          <a:prstGeom prst="rect">
            <a:avLst/>
          </a:prstGeom>
          <a:ln w="0">
            <a:noFill/>
          </a:ln>
        </p:spPr>
      </p:sp>
      <p:sp>
        <p:nvSpPr>
          <p:cNvPr id="24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eć je ranije bilo govora o obavezi izvođača da ispita pravilnost tehničke dokumentacije i da naručioca upozori na greške (pri čemu se ovdje ne podrazumijevaju skrivene ma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je dužan da u objekat ugrađuje materijal i opremu koji odgovaraju propisanom ili ugovorenom kvalitetu. Ako je potrebno izvođač je dužan da izvrši ispitivanje materijala (na način određen tehničkom dokumentacijom ili propisima) i da snosni troškove ispitivanja. To znači da se može ugraditi samomaterijal za koji postoji atest  (potvrda o kvalitetu koju je izdala stručna organizacija registrovana za djelatnost ispitivanja materijal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nedostacima materijala i opreme koja je predviđena tehn. dokumentacijom, ili ih je nabavio investitor, izvođač mora izvijestiti investitora, a takav materijal ili opremu ugraditi samo ako i dalje investitor na tome insistira, a nema opasnosti po stabilnost objekta, zdravlje i živote ljudi, susjedne objekte, saobraćaj i okolin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vim ostalim slučajevima izvođač je odgovoran za upotrebu materijala ili opreme koji ne odgovaraju propisanom, ili ugovoreno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3605-C5E6-4A0D-AE44-666C4B2D8F1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2082960" y="228600"/>
            <a:ext cx="2539800" cy="1905120"/>
          </a:xfrm>
          <a:prstGeom prst="rect">
            <a:avLst/>
          </a:prstGeom>
          <a:ln w="0">
            <a:noFill/>
          </a:ln>
        </p:spPr>
      </p:sp>
      <p:sp>
        <p:nvSpPr>
          <p:cNvPr id="25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76A2-F6F7-4BB4-99C1-115316CCE69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082960" y="228600"/>
            <a:ext cx="2539800" cy="1905120"/>
          </a:xfrm>
          <a:prstGeom prst="rect">
            <a:avLst/>
          </a:prstGeom>
          <a:ln w="0">
            <a:noFill/>
          </a:ln>
        </p:spPr>
      </p:sp>
      <p:sp>
        <p:nvSpPr>
          <p:cNvPr id="25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ABAF-3914-4D1E-9307-39427EB4F66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082960" y="228600"/>
            <a:ext cx="2539800" cy="1905120"/>
          </a:xfrm>
          <a:prstGeom prst="rect">
            <a:avLst/>
          </a:prstGeom>
          <a:ln w="0">
            <a:noFill/>
          </a:ln>
        </p:spPr>
      </p:sp>
      <p:sp>
        <p:nvSpPr>
          <p:cNvPr id="25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garantuje da su radovi u vrijeme primopredaje izvedeni :</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kladu s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om</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pisim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ilima struke</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a nemaju mana koje onemogućavaju ili umanjuju vrijednost ili podobnost za redovnu upotreb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ina garantnog roka predviđena ovom uzansom je u skladu sa obligacionim pravom i odgovarajućim ugovorom o građenju.Zakonom o izgradnji objekata bilo je predviđeno propisivanje minimalnih garažntnih rokova. što do danas nije urađeno, a garantni rokovi mogu biti ugovoreni i duži od ovih predviđenih Zakonom o obligacionim  odnosima i Posebnim uzansama o građenju. Garantni rok počinje teći od dana primopredaje objekta ili dijela objketa, odnosno od dana korišćenja objekta iako nije izvršena primopreda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pogledu garancije za opremu koju ugrađuje izvođač važi garancija proizvođača opreme, s tim što svu dokumentaciju u vezi sa garnacijom i uputstva za upotrebu treba da dostavi naručioc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a u garantnom roku važe za naručioca i sve dalje korisnike objekta (kupce, zakup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tklanjanje nedostataka u garantnom roku je na trošak izvođača, a treba ih obaviti u naknadnom primjerenom roku za otklanjanje nedostataka. Narušilac ima i pravo naplate štete po ovoj uzan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okviru ove uzanse ponavlja se pravo naručioca da u sljučaju neotklanjanja nedostataka od strane izvođača, naručilac može da otklonini nedostatke na račun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nema obavezu da otkloni nedsotatke koji su polsjedica nestručnog rukovanja, odnosno nenamjenskog korišćenja objekta ili njegovog dijela.</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2D33-2E57-4ED0-8414-B5DD27A6E22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082960" y="228600"/>
            <a:ext cx="2539800" cy="1905120"/>
          </a:xfrm>
          <a:prstGeom prst="rect">
            <a:avLst/>
          </a:prstGeom>
          <a:ln w="0">
            <a:noFill/>
          </a:ln>
        </p:spPr>
      </p:sp>
      <p:sp>
        <p:nvSpPr>
          <p:cNvPr id="260"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i mjesto predaje materijala i opreme utvrđeni su u ugovoru, a ako nijesu onda se rok utvrđuje u skladu sa dinamikom rad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Troškove skladištenja, čuvanja i održavanja primljenog materijala snosi izvođač, osim ako su materijal i oprema predati izvođaču prije ugovorenog ro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nogi izvođači kasno se sjete da su obavezni da plaćaju premiju osiguranja. U slučaju da je izvođač računao sa plaćanjem premije osiguranja, on je taj trošak zaračunao naručiocu još u ponudi, a ukoliko je to propustio da uradi, onda zbog toga nema pravo na izmjenu cij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izvrši osiguranje, onda ga može izvršiti naručilac na trošak izvođač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543D-EAEF-4BC2-B8B5-681C737CCF9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082960" y="228600"/>
            <a:ext cx="2539800" cy="1905120"/>
          </a:xfrm>
          <a:prstGeom prst="rect">
            <a:avLst/>
          </a:prstGeom>
          <a:ln w="0">
            <a:noFill/>
          </a:ln>
        </p:spPr>
      </p:sp>
      <p:sp>
        <p:nvSpPr>
          <p:cNvPr id="26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o primopredaje radova rizik slučajne propasti i oštećenja radova., materijala i opreme sno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10CF-CB5E-4550-A443-D4710711AC7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082960" y="228600"/>
            <a:ext cx="2539800" cy="1905120"/>
          </a:xfrm>
          <a:prstGeom prst="rect">
            <a:avLst/>
          </a:prstGeom>
          <a:ln w="0">
            <a:noFill/>
          </a:ln>
        </p:spPr>
      </p:sp>
      <p:sp>
        <p:nvSpPr>
          <p:cNvPr id="26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na gradilištu o svom trošku preduzima sve mjere radi obezbjeđenja sigurnosti objekata i radova, opreme, uređaja i instalacija,, radnika, prolaznika, saobraćaja, susjednih objekata  i okoli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na gradilištu radi više izvođača onda svaki od njih obezbjeđuje i čuva svoje radove.&lt; opremu i materija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B33D-26BF-4945-9C97-65146CCED16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082960" y="228600"/>
            <a:ext cx="2539800" cy="1905120"/>
          </a:xfrm>
          <a:prstGeom prst="rect">
            <a:avLst/>
          </a:prstGeom>
          <a:ln w="0">
            <a:noFill/>
          </a:ln>
        </p:spPr>
      </p:sp>
      <p:sp>
        <p:nvSpPr>
          <p:cNvPr id="26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odmah po završetku radova ovbavijesti naručioca da su radovi završeni. Ovako stoji i u zakonu o izgradnji objek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se radovi ili objekat koriste prije primopredaje smatra se da je primopredaja izvršena danom početka korišće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opredaju obavljaju ovlašćeni predstavnici naručioca i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zapisnik se mogu unositi i drugi podaci, a potpisuju ga predstavnici naručioca i izvođača radova. Ako se u zapisniku obostrano konstatuje da izvođač treba da o svom trošku popravi, doradi ili ponovo izvede neke radove, dužan je da tome odmah pristup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može saćiniti i samo jedan ugovarač, ukoliko se drugi ne odazove i odbije učešć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95E9-7B15-49D3-8CC4-2907A73A08B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2082960" y="228600"/>
            <a:ext cx="2539800" cy="1905120"/>
          </a:xfrm>
          <a:prstGeom prst="rect">
            <a:avLst/>
          </a:prstGeom>
          <a:ln w="0">
            <a:noFill/>
          </a:ln>
        </p:spPr>
      </p:sp>
      <p:sp>
        <p:nvSpPr>
          <p:cNvPr id="27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je dat orijentacioni sadržaj konačnog obračun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načni obračun se vrši na osnovu dokumenata koji sadrže podatke o činjenicama koje se ovdje pominju. Ta dokumenta su narošito: ugovor (uključujući i tehničku dokumentaciju), građevinski dnevnik, građevinska knjig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o primopredaji radova, drugi zapisnici, dopisi i sl. KOnačni obračun vrše ovlašćeni predstavnici naručioca i izvođača u pismenoj formi i oni ga i potpisuju sa datumom završetk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ao i kod primopredaje i ovdje postoji pravo ugovarača da sm izvrši konačni obraču ukoliko druga strana bez opravdanog razloga odbije da učestvuje ili odugovlač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7853-D34E-47FD-BB15-44DDE7403EA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2082960" y="228600"/>
            <a:ext cx="2539800" cy="1905120"/>
          </a:xfrm>
          <a:prstGeom prst="rect">
            <a:avLst/>
          </a:prstGeom>
          <a:ln w="0">
            <a:noFill/>
          </a:ln>
        </p:spPr>
      </p:sp>
      <p:sp>
        <p:nvSpPr>
          <p:cNvPr id="27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ve što naručilac plati ostaje u njegovom vlasništviu. Pitanje je da li sav materijal mora da “otkupi” od izvođača, s obzirom da ga izvođač može iskoristiti na nekom drugom gradilištu.</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3131-4ECB-49CC-97BE-5656630BBAB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032C-CF7E-42A9-A1C1-4C08E3C2638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2082960" y="228600"/>
            <a:ext cx="2539800" cy="1905120"/>
          </a:xfrm>
          <a:prstGeom prst="rect">
            <a:avLst/>
          </a:prstGeom>
          <a:ln w="0">
            <a:noFill/>
          </a:ln>
        </p:spPr>
      </p:sp>
      <p:sp>
        <p:nvSpPr>
          <p:cNvPr id="27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6BB2-AA0B-4006-8F83-D1B616D7B1A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može biti investitor, koji sklapa ugovor sa izvođačem, ali naručilac može biti i izvođač prema svojim podizvođačima. Uzanse se primjenjuju u svim ovim odnosima. Ne primjenju se na one djelove ugovora koji se ne odnose na građenje- izvođenje radova- Na primjer: u slučaju da se ugovorom ustupa i izrada tehničke dokumentacije i građenje, onda se uzanse ne primjenjuj na dio ugovora koji se odnosi na izradu rehničkje dokumentaci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zanse daju okvir za regulisanje ugovornih odnosa naručioca i izvođača, ali to ne znači da se ovi odnosi ne mogu i drugačije regulisati u samom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ažnja dobrog privrednika - način postupanja u realizaciji obaveza koji se zahtijeva i od naručioca i izvođača (da postupaju po pravilima struke, odnosno stručno i kvalitetno)</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 može se zahtijevati ispunjenje obaveza od jedne strane (npr. izvođenje radova), a da se pri tome ne izvršavaju sopstvene obaveze (npr. redovno plać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 neizvršavanju obaveza od jedne strana, druga strana treba da učini sve da štetu koja zbog toga može nastati smanjina najmanju moguću mjeru: Primjer: ukoliko izvođač ne raspolaže sa odgovarajućom tehničkom dokumentacijom zbog propusta investitora, treba da otpočne izvođenje nekih drugih radova za koje ima tehničku dokumentaci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ne strane treba svoje obaveze de realizuju u ugovorenim rokovima, a u slučaju kašnjenja ispunjenja obaveze, saglasno načelu poštenja i savjesnosti treba strani koja je u kašnjenju ostaviti primjeren rok za ispunjenje obaveze ‘ osim kad ona izrišito saopšti da tu obavez neće ili ne može izvršiti.</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B8FB-4761-40BA-ABBF-357CE7CB2DC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082960" y="228600"/>
            <a:ext cx="2539800" cy="1905120"/>
          </a:xfrm>
          <a:prstGeom prst="rect">
            <a:avLst/>
          </a:prstGeom>
          <a:ln w="0">
            <a:noFill/>
          </a:ln>
        </p:spPr>
      </p:sp>
      <p:sp>
        <p:nvSpPr>
          <p:cNvPr id="20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Određivanje pojmova (definicije), koje se u ugovoru može i drugaćije definisati</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 lice koje je ugovorom zaključenim sa izvođačem naručilo izvođenje radova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 lice koje je ugovorom zaključenim sa naručiocem prihvatilo obavezu da izvede radove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dovi na građevinskim objektima – izvođenje građevinskih, montažnih, instalaterskih i završnih radova, kao i ugrađivanje uređaja, postrojenja i opreme na novim ili postojećim objektima ili njihovim djelovim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đevinski objekti: zgrade, brane mostovi, tuneli, vodovodi kanalizacije, putevi, željezničke pruge, bunari i ostale građevine koje predstavljaju zaokruženu funkcionalnu cjelinu</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viškovi radova- količne izvedenih radova koje prelaze ugovorene količine</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manjkovi radova- negativna odstupanja izvedenih radova u odnosu na ugovorene količine. </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i radovi – oni koji ugovorom nijesu obuhvaćeni a moraju se izvesti da bi objekt imao normalnu funkciju ili sigurnost objekta i-ili susjednih objekata i sl.</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knadni radovi – ugovorom nijesu obuhvaćeni i nijesu nužni za ispunjenje ugovora, ali njihovu realizaciju zahtjeva naručilac</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dilište -  zemljište na kojem se izvode radovi i zemljište koje izvođač koristi radi izvođenja radov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mjereni rok – rok u kojem se po redovnom toku stvari može izvršiti obaveza koja je u pitan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967E-3167-49B7-802C-122F1896A9D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082960" y="228600"/>
            <a:ext cx="2539800" cy="1905120"/>
          </a:xfrm>
          <a:prstGeom prst="rect">
            <a:avLst/>
          </a:prstGeom>
          <a:ln w="0">
            <a:noFill/>
          </a:ln>
        </p:spPr>
      </p:sp>
      <p:sp>
        <p:nvSpPr>
          <p:cNvPr id="20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 ovoga slijedi da je nezavisno od želje ugovrnih strana tehnička dokumentacija ibavezan sastavni dio ugovora, jer se prema njoj radovi i izvode, tako da je bez nje skoro nemoguće opisati predmet ugovora. Izuzetak je kada Naučilac istim ugovorom ustupa i izradu tehničke dokumentacije i izvođenje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Za razliku od tehničke dokumentacije, ostala dokumentacija (npr. ponuda izvođača) je sastavni dio ugovora, samo ako se tako navede u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Dinamički pan radova je od posebnog zančaja ako radove izvodi više izvođača i kada su u pitanju složenij objekti.</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1BD8-BB79-49A3-94F6-24F2B7FEAD6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082960" y="228600"/>
            <a:ext cx="2539800" cy="1905120"/>
          </a:xfrm>
          <a:prstGeom prst="rect">
            <a:avLst/>
          </a:prstGeom>
          <a:ln w="0">
            <a:noFill/>
          </a:ln>
        </p:spPr>
      </p:sp>
      <p:sp>
        <p:nvSpPr>
          <p:cNvPr id="20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izvođača u proučavnju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vremeno i detaljno proučavanje tehn. dok.</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ovremeno traženje razjašnjenja od naručioc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naručioca u slučaju da on obezbjeđuje tehničku dokumentaciju:</a:t>
            </a:r>
            <a:endParaRPr b="0" lang="en-US" sz="800" spc="-1" strike="noStrike">
              <a:solidFill>
                <a:srgbClr val="000000"/>
              </a:solidFill>
              <a:latin typeface="Arial"/>
            </a:endParaRPr>
          </a:p>
          <a:p>
            <a:pPr lvl="1" marL="685800" indent="-2286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avanje razjašnjenja (blagovremeno i u pismenoj formi)</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mjena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izvođač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nema pravo da je mijenj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je dužan da o uočenim nedostacima blagovremeno obavijesti naručioca, kako i o potrebi njene izmjene zbog poboljšanja ili drugih razlog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kid radova u slučaju da nedostaci ugrožavaju sigurnost objekta, život i zdravlje ljudi, susjedne objekta i sl.</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naručioc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ručilac ima pravo izmjene tehn. dokumentacije</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 odgovarjući način se mijenjaju elementi ugovora (rok, cijene i sl.)</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itne izmjene daju pravo izvođaču na izmjenu ili raskid ugovor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zlozi zbog kojih izvođač nema pravo da mijenja tehničku dokumentaciju, pa čak i kad je on sam izradio:</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astavni je dio ugovorai prema njoj se izvode radov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jekat se radi za investitora, a on se već opredijelio da se objekat radi prema tehničkoj dokumentacij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akonska obaveza izvođača da se pridržava tehničke dokumentacije na osnovu koje je dobijena građevinska dozvola </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7922-C021-433F-86CE-FA1234CFF53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082960" y="228600"/>
            <a:ext cx="2539800" cy="1905120"/>
          </a:xfrm>
          <a:prstGeom prst="rect">
            <a:avLst/>
          </a:prstGeom>
          <a:ln w="0">
            <a:noFill/>
          </a:ln>
        </p:spPr>
      </p:sp>
      <p:sp>
        <p:nvSpPr>
          <p:cNvPr id="212"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e i naknadne radove najprije treba ponuditi na izvođenje izvođaču, a ukoliko on ne može da ih izvrši na vrijeme ili uopšte, onda se mogu ustupiti trećem licu.</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3FBA-2782-43C3-A71F-8D8F03129A3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2082960" y="228600"/>
            <a:ext cx="2539800" cy="1905120"/>
          </a:xfrm>
          <a:prstGeom prst="rect">
            <a:avLst/>
          </a:prstGeom>
          <a:ln w="0">
            <a:noFill/>
          </a:ln>
        </p:spPr>
      </p:sp>
      <p:sp>
        <p:nvSpPr>
          <p:cNvPr id="21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dređivanje cijene kao jedinićne cijene je povoljnije zbog toga što se na taj način naručilac obezbjeđuje da ne plati više nego što je izvedeno, ali se obezbjeđuje i izvođač da ne pretrpi štet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Jedinične cijene važe i za viškove, odnosno manjkove radova, ukoliko one ne prelaze 10% od ugovorenih količin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Vanrednim događajima zbog  kojih se pruža mogućnost izmjena cijena (a mogućnost izmjene cijene daje se bilo kojem od ugovarača) smatraju se:</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mjere utvrđene aktima nadležnih organ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a cijena materijala i usluga trećih lica na tržištui</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e troškova život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slovi za ozvođenje radova u tlu (zemlji) ili vodi</a:t>
            </a:r>
            <a:endParaRPr b="0" lang="en-US" sz="7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11EEF8-F7B4-4D92-AF69-68286F139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8F5509-73BD-4BDF-A2E7-547F07AF7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BBB572-5596-4BAE-AE2F-A716577BB7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9FC57A-D03C-41AF-9C43-6F4A69FA6F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1B940-3FFA-48EC-A4DA-58F30321AD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4B8C4-88A5-42AC-9693-817B5850A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8E60E-FBD9-4EDA-8AC6-9D37B6123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E13C5-6946-4535-B19B-CECA41855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DC05F-A49B-4BE7-BFCB-4A07F4D5E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705E2-D0C2-4198-AC6B-5E52C14B2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81B8F-3D1E-421F-9262-75CC17C65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817AD9-CD23-4A47-950B-1A80F1CCE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90DE2-7A53-436E-84FC-69DEDC33A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F8F33-669E-4C8E-A10E-D02C12939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F9144-643B-43E6-AEA0-E2346C149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EBC10-F1ED-486C-AAE6-CF3E72CA5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3C6DB-1A5C-4C63-A5A2-010465CF4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F0DDD4-7477-446C-9EF4-2CA9845267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8848BD-641D-416E-A1D6-44DD85D53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C2B7D0-3DCD-4082-9162-371E23351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3CEFB9-F782-476D-8570-2AE5BFA1A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856C90-4D9E-44E8-8BA3-8CE1FF831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85C4F0-E61F-4307-ABA6-A7E443EC19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ADAA6D-91C7-4E26-8BA8-D96BA3ADD99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A6E1-C4B8-4CCF-A9D4-73C50AB41180}"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0301-81E4-40DE-8EDF-22591BD6C458}"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POSEBNE UZANSE O GRA</a:t>
            </a:r>
            <a:r>
              <a:rPr b="1" lang="sr-Latn-CS" sz="3800" spc="-1" strike="noStrike">
                <a:solidFill>
                  <a:srgbClr val="ffffff"/>
                </a:solidFill>
                <a:latin typeface="Arial"/>
              </a:rPr>
              <a:t>ĐENJU</a:t>
            </a:r>
            <a:r>
              <a:rPr b="1" lang="sr-Latn-CS" sz="3600" spc="-1" strike="noStrike">
                <a:solidFill>
                  <a:srgbClr val="ffffff"/>
                </a:solidFill>
                <a:latin typeface="Arial"/>
              </a:rPr>
              <a:t> </a:t>
            </a:r>
            <a:endParaRPr b="0" lang="en-US" sz="36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a:t>
            </a:r>
            <a:endParaRPr b="0" lang="en-US" sz="3200" spc="-1" strike="noStrike">
              <a:solidFill>
                <a:srgbClr val="ffffff"/>
              </a:solidFill>
              <a:latin typeface="Arial"/>
            </a:endParaRPr>
          </a:p>
        </p:txBody>
      </p:sp>
      <p:sp>
        <p:nvSpPr>
          <p:cNvPr id="140" name="PlaceHolder 2"/>
          <p:cNvSpPr>
            <a:spLocks noGrp="1"/>
          </p:cNvSpPr>
          <p:nvPr>
            <p:ph/>
          </p:nvPr>
        </p:nvSpPr>
        <p:spPr>
          <a:xfrm>
            <a:off x="611280" y="1904760"/>
            <a:ext cx="8075520" cy="4190760"/>
          </a:xfrm>
          <a:prstGeom prst="rect">
            <a:avLst/>
          </a:prstGeom>
          <a:noFill/>
          <a:ln w="0">
            <a:noFill/>
          </a:ln>
        </p:spPr>
        <p:txBody>
          <a:bodyPr anchor="t">
            <a:normAutofit/>
          </a:bodyPr>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procenat izmjene cijene usled ispunjenih uslova za izmjenu cijene (iznad graničnih procenata+1/2 iznosa izad tih procenata)</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se cijene pojedinih materijala, odnosno usluga promijene za </a:t>
            </a:r>
            <a:r>
              <a:rPr b="0" lang="en-GB" sz="1300" spc="-1" strike="noStrike">
                <a:solidFill>
                  <a:srgbClr val="ffffff"/>
                </a:solidFill>
                <a:latin typeface="Arial"/>
              </a:rPr>
              <a:t>&gt;</a:t>
            </a:r>
            <a:r>
              <a:rPr b="0" lang="sr-Latn-CS" sz="1300" spc="-1" strike="noStrike">
                <a:solidFill>
                  <a:srgbClr val="ffffff"/>
                </a:solidFill>
                <a:latin typeface="Arial"/>
              </a:rPr>
              <a:t> od 5%,</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ukupna promjena cijena svih materijala i usluga iznosi  više  od </a:t>
            </a:r>
            <a:r>
              <a:rPr b="0" lang="en-GB" sz="1300" spc="-1" strike="noStrike">
                <a:solidFill>
                  <a:srgbClr val="ffffff"/>
                </a:solidFill>
                <a:latin typeface="Arial"/>
              </a:rPr>
              <a:t>&gt;</a:t>
            </a:r>
            <a:r>
              <a:rPr b="0" lang="sr-Latn-CS" sz="1300" spc="-1" strike="noStrike">
                <a:solidFill>
                  <a:srgbClr val="ffffff"/>
                </a:solidFill>
                <a:latin typeface="Arial"/>
              </a:rPr>
              <a:t> od 3%,</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ukupna promjena cijena materijala i usluga mijenja ugovorenu vrijednost radova za </a:t>
            </a:r>
            <a:r>
              <a:rPr b="0" lang="en-GB" sz="1300" spc="-1" strike="noStrike">
                <a:solidFill>
                  <a:srgbClr val="ffffff"/>
                </a:solidFill>
                <a:latin typeface="Arial"/>
              </a:rPr>
              <a:t>&gt;</a:t>
            </a:r>
            <a:r>
              <a:rPr b="0" lang="sr-Latn-CS" sz="1300" spc="-1" strike="noStrike">
                <a:solidFill>
                  <a:srgbClr val="ffffff"/>
                </a:solidFill>
                <a:latin typeface="Arial"/>
              </a:rPr>
              <a:t> od 2%, </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docnje-kašnjenja na izmjenu cijene- samo ako do promijenjenih okolnosti dođe u roku određenog za ispunjenje ugovora, ili ako je za docnju kriva druga stran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klauzule o nepromjenjivosti cijena (dozvoljena promjena iznad graničnog procenta od 10%)</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primjenog avansa na ugovorenu cijenu (ako je avans namjenski dat za materijal, ne može se tražiti povećanje cijene zbog povećanja cijene materijal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kvaliteta na ugovorenu cijenu (za losiji kvalitet srazmjerno smanjenje cijene, a za bolji povećanje samo ako je prethodno naručilac to odobrio)</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viškova i manjkova radova i nepredviđenih radova na cijenu određenu u ukupnom iznosu (manjkovi i viškovi radova ne utiču na cijenu, a nepredviđeni radovi  se naknadno utvrđuju, osim ako je za njih mogao ili morao znati u vrijeme zaključenja ugovor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odredba “Ključ u ruke” (cijenom obuhvaćeni viškovi i manjkovi radova i nepredviđeni radovi, ali se ima pravoo na izmjenu cijene usled promjene okolnosti)</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cijena naknadnih radova (uvijek se naknadno ugovara, bez obzira na oblik ugovora)</a:t>
            </a:r>
            <a:endParaRPr b="0" lang="en-US" sz="1300" spc="-1" strike="noStrike">
              <a:solidFill>
                <a:srgbClr val="ffffff"/>
              </a:solidFill>
              <a:latin typeface="Arial"/>
            </a:endParaRPr>
          </a:p>
          <a:p>
            <a:pPr lvl="1" marL="933480" indent="0">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2"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t>
            </a:r>
            <a:r>
              <a:rPr b="0" lang="en-GB" sz="1500" spc="-1" strike="noStrike">
                <a:solidFill>
                  <a:srgbClr val="ffffff"/>
                </a:solidFill>
                <a:latin typeface="Arial"/>
              </a:rPr>
              <a:t>okovi </a:t>
            </a:r>
            <a:r>
              <a:rPr b="0" lang="sr-Latn-CS" sz="1500" spc="-1" strike="noStrike">
                <a:solidFill>
                  <a:srgbClr val="ffffff"/>
                </a:solidFill>
                <a:latin typeface="Arial"/>
              </a:rPr>
              <a:t>za izvođenje radova mogu biti i rokovi definisani u dinamičkim pl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teče od datuma uvođenja izvođača u posao, ako nije drugačije ugovoreno</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mjereno produženje roka za otpočinjanje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za ubrzanje radova ‘ na zahtjev naručioca, po procjeni da se radovi neće realizovati u ugovorenom rok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ordiniranje radova – obaveza naručioca u slučaju ustupanja radova dvojici ili većem broju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ova – pravo izvođača da zahtijeva u određenim slučajevim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rodni događaji (poplave, požari, zemljotres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predviđene aktima nadležnih organ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čekivani uslovi za izvođenje radova u tlu ili vod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predviđeni radovi (ali ne sv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škovi radova  (preko10%)od ugovorenih količin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neispunjavanja obaveza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vođenja u posao</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 isporuci opreme od strane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tklanjanje nedistataka u teh. dok.</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nje isplate avans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plaćanja privremenih situacij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ocnja izvođača – isključuje pravo na produženje roka, osim u posebnom slučaj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nošenje zahtjeva za produženje roka – čim izvođač sazna za razlog zbog kojeg se rok može produži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VOĐENJE IZVOĐAČA U POSAO</a:t>
            </a:r>
            <a:endParaRPr b="0" lang="en-US" sz="3200" spc="-1" strike="noStrike">
              <a:solidFill>
                <a:srgbClr val="ffffff"/>
              </a:solidFill>
              <a:latin typeface="Arial"/>
            </a:endParaRPr>
          </a:p>
        </p:txBody>
      </p:sp>
      <p:sp>
        <p:nvSpPr>
          <p:cNvPr id="146" name="PlaceHolder 2"/>
          <p:cNvSpPr>
            <a:spLocks noGrp="1"/>
          </p:cNvSpPr>
          <p:nvPr>
            <p:ph/>
          </p:nvPr>
        </p:nvSpPr>
        <p:spPr>
          <a:xfrm>
            <a:off x="914400" y="1752120"/>
            <a:ext cx="7772400" cy="434340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unjenje obaveza naručioca bez čijeg prethodnog ispunjenja započninjanje radova nije faktički moguće, ili pravno nije dozvoljen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dilišt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 predaja izvošaču parcele ili dijela parcele na kojoj će se izvoditi radovi, s obilježenim linijama osovinama i visinskim tačkam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zvošaču prava pristupa na gradilišt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tehničke dokumentacije </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đevinske dozvol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sredstava za finansiranje izgradnje objekta i sredstava za plaćanje po zaključenom ugovoru i ptuđanje dokaza o tom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lja se zapisnik i konstatuje u građevinskom dnevnik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za uvođenje u posao- definiše se ugovorom</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knadni rok za uvođenje u posao, ako se ne ispoštuje, izvođač može raskinuti ugovor</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a za uvođenje u posao zbog dejstva više sile za onoliko vremena koliko traje viša sila i koliko je trebalo za otklanjanje njenih posljedic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STUPANJE RADOVA TREĆEM LICU</a:t>
            </a:r>
            <a:endParaRPr b="0" lang="en-US" sz="3200" spc="-1" strike="noStrike">
              <a:solidFill>
                <a:srgbClr val="ffffff"/>
              </a:solidFill>
              <a:latin typeface="Arial"/>
            </a:endParaRPr>
          </a:p>
        </p:txBody>
      </p:sp>
      <p:sp>
        <p:nvSpPr>
          <p:cNvPr id="14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može da izvođenje pojedinih radova ustupi trećem lic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zbor lica kojima ustupa izvođe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tupanje radova  trećem licu nema uticaja na pravne odnose i međusobna prava i obaveze naručioca i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GOVORNA KAZNA</a:t>
            </a:r>
            <a:endParaRPr b="0" lang="en-US" sz="3200" spc="-1" strike="noStrike">
              <a:solidFill>
                <a:srgbClr val="ffffff"/>
              </a:solidFill>
              <a:latin typeface="Arial"/>
            </a:endParaRPr>
          </a:p>
        </p:txBody>
      </p:sp>
      <p:sp>
        <p:nvSpPr>
          <p:cNvPr id="150" name="PlaceHolder 2"/>
          <p:cNvSpPr>
            <a:spLocks noGrp="1"/>
          </p:cNvSpPr>
          <p:nvPr>
            <p:ph/>
          </p:nvPr>
        </p:nvSpPr>
        <p:spPr>
          <a:xfrm>
            <a:off x="914400" y="1844280"/>
            <a:ext cx="777240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ože biti predviđena ugovorom- smatra se da  je ugovorena za slučaj neurednog ispunjenja ugovornih obavez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sina ugovorne kazne 1 promil od ukupne ugovorene cijene za svaki dan kašnjenja, ali ne više od 5% od ukupne cijen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novica za obračun – ukupno ugovoreni radovi umanjeni za vrijednost radova, ako je predat dio objekta koji se može koristiti kao funkcionalno tehnička cjeli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do koga se obračunava ugovona kazna – do primopredaje objekta, odnosno do početka korišćenja objekta od stran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htjev za ostvarivanje prava na ugovonu kaznu – najkasnije do završetka konačnog obraču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nos ugovorne kazne (UK) i naknade štete (Š);</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gt;UK, povjerilac može naplatiti UK i tražiti naknadu štete za razliku Š-UK uz dokazivanje štet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lt;UK, povjerilac može naplatiti UK bez dokazivanja štete </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lobađanje dužnika od plaćanja ugovorne kazne – u slučaju da nije kriv za neispunjenje ugovor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2"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osnovu privremenih i okončane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o osnovu situacije – nesporni dio u roku od 8 (za privremenu situaciju) odnosno 15 dana (za okonč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ospori  situaciju ili njen dio u pogledu:</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ste izvedenih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o osporenom  iznosu i razlozima obavijesti izvođač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jeravanje situacije od strane naručioca nije uslov za plaćanje na osnovu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vans:</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me plaćanja avansa – ako je ugovoren, ali ne i rok plaćanja, onda se plaća prije početk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račun avansa</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da se vraća kada se privremenim sitaucijama dostigne 50% ugovorene cijene</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aća se srazmjerno primljenom avansu  i vrijednosti ugovorenih a neizvršenih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4"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spostavljanje situacij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na osnovu i</a:t>
            </a:r>
            <a:r>
              <a:rPr b="0" lang="sr-Latn-CS" sz="1500" spc="-1" strike="noStrike">
                <a:solidFill>
                  <a:srgbClr val="ffffff"/>
                </a:solidFill>
                <a:latin typeface="Arial"/>
              </a:rPr>
              <a:t>z</a:t>
            </a:r>
            <a:r>
              <a:rPr b="0" lang="en-GB" sz="1500" spc="-1" strike="noStrike">
                <a:solidFill>
                  <a:srgbClr val="ffffff"/>
                </a:solidFill>
                <a:latin typeface="Arial"/>
              </a:rPr>
              <a:t>vedenih</a:t>
            </a:r>
            <a:r>
              <a:rPr b="0" lang="sr-Latn-CS" sz="1500" spc="-1" strike="noStrike">
                <a:solidFill>
                  <a:srgbClr val="ffffff"/>
                </a:solidFill>
                <a:latin typeface="Arial"/>
              </a:rPr>
              <a:t> kolićina</a:t>
            </a:r>
            <a:r>
              <a:rPr b="0" lang="en-GB" sz="1500" spc="-1" strike="noStrike">
                <a:solidFill>
                  <a:srgbClr val="ffffff"/>
                </a:solidFill>
                <a:latin typeface="Arial"/>
              </a:rPr>
              <a:t> ugovorenih radova i ugovorenih cije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kazuju se radovi na način i po specifikaciji u skladu sa tehničkom dokumentacijom</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vremene situacije su za period od mjesec da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končana se dostavlja po izvršenoj primopredaji izvedenih radov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e sadrž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a vrijednost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nije isplaćeni iznos</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za plaćanje po situaciji</a:t>
            </a: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6"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vanje dijela cijen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zadrži srazmjerni dio cijene za otklanjanje nedostataka utvrđenih tokom primopredaje radova, čak i kad ovo pravo nije utvrđeno ugovorom</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ugovorom definisano pravo naručioca da zadrži dio  cijene za otklanjanje nedostataka, smatra se da se taj iznos služi za otklanjanje nedostataka utvrđenih tokom primopredaj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može se koristiti za otklanjanje nedostataka, ako izvođač na pismeni poziv ne izvrši otklanjanje nedostatak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odnosno njegov nepotrošeni dio isplaćuje se izvođaču u roku od 8 dana od primopredaje odnosno odmah po otklanjanju nedostataka</a:t>
            </a:r>
            <a:endParaRPr b="0" lang="en-US" sz="1500" spc="-1" strike="noStrike">
              <a:solidFill>
                <a:srgbClr val="ffffff"/>
              </a:solidFill>
              <a:latin typeface="Arial"/>
            </a:endParaRPr>
          </a:p>
          <a:p>
            <a:pPr lvl="2" marL="133344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PRIVREMENO OBUSTAVLJANJE IZVOĐENJA RADOVA</a:t>
            </a:r>
            <a:endParaRPr b="0" lang="en-US" sz="2800" spc="-1" strike="noStrike">
              <a:solidFill>
                <a:srgbClr val="ffffff"/>
              </a:solidFill>
              <a:latin typeface="Arial"/>
            </a:endParaRPr>
          </a:p>
        </p:txBody>
      </p:sp>
      <p:sp>
        <p:nvSpPr>
          <p:cNvPr id="15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lučajevi u kojima izvođač može obustaviti radove- neispunjenje ili neuredno ispunjenje obaveza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aka u tehn. dokumentacij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avans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rivremene situaci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a nakon isteka primjerenog roka za ispunjenje obavez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stavljanje obustavljenih radova, po prestanku smetn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obustavljenih radova od propadanja preduzimanjem nužnih i najjeftinijih mjera , jer troškove snosi naručilac</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 naknadu štete i izgubljenu dobit ima onaj koji nije odgovoran za obustavlja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odmah obavijesti  naručioca o uzrocima obustavljanja radova, preduzetim mjerama i o nastavku radov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4" name="PlaceHolder 2"/>
          <p:cNvSpPr>
            <a:spLocks noGrp="1"/>
          </p:cNvSpPr>
          <p:nvPr>
            <p:ph/>
          </p:nvPr>
        </p:nvSpPr>
        <p:spPr>
          <a:xfrm>
            <a:off x="914400" y="2057400"/>
            <a:ext cx="7772400" cy="4038480"/>
          </a:xfrm>
          <a:prstGeom prst="rect">
            <a:avLst/>
          </a:prstGeom>
          <a:noFill/>
          <a:ln w="0">
            <a:noFill/>
          </a:ln>
        </p:spPr>
        <p:txBody>
          <a:bodyPr anchor="t">
            <a:normAutofit fontScale="96000"/>
          </a:bodyPr>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PŠTE ODREDB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ASTAVNI DIJELOVI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OUČAVANJE I IZMJENA TEHNIČKE DOKUMENTACI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STUPANJE OD PREDMETA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CIJEN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ROKOVI ZA IZVOĐENJE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VOĐENJE IZVOĐAČA U POSAO</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STUPANJE RADOVA TREĆEM LICU</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GOVORNA KAZN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LAĆAN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VREMENO OBUSTAVLJANJE IZVOĐENJA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VALITET RADOVA I MATERIJAL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GARANCIJA ZA KVALITET IZVEDENIH RADOV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0"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upozori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nepravilnost tehničkih rješenja u tehn. dokumentacij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i su predviđeni tehn. dokument.</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u je naručilac nabavio ili izabrao</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aterijal i opremu sa nedostacima može ugrađivati samo ako su ispunjena oba usl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 pored upozorenja naručilac insistira da se ugrade 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njihovo ugrađivanje ne ugrožava stabilnost objekta, živote, susjedne objekte saobraćaj i okolin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govara naručiocu za vidljive i skrivene mane materijale ako on ne odgovara ugovorenom ili propisanom kvalitetu (osim u prethodno navedenom slučaj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2" name="PlaceHolder 2"/>
          <p:cNvSpPr>
            <a:spLocks noGrp="1"/>
          </p:cNvSpPr>
          <p:nvPr>
            <p:ph/>
          </p:nvPr>
        </p:nvSpPr>
        <p:spPr>
          <a:xfrm>
            <a:off x="914400" y="2133720"/>
            <a:ext cx="7772400" cy="396216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valitet materijala utvrđen ugovor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spitivanje materijala po potreb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ređuje metode ispitivanja ako nijesu odrežene tehn. dokumentacij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ni troškove ispitiv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trola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ruža dokaze o kvalitetu materijala, opreme i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ava naručiocu da vrši kontrolu (u okviru stručnog nadzora i van njeg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snosi troškove kontrole kvaliteta (izuzev ako ga je izvođač spriječio u pogledu vršenja kontrole na vrijem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pis u građevinski dnevnik o nalazima kontrole izvođača i kontrole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nesaglasnih rezultata radi se zajednička naknadna kontrola čije troškove snosi onaj čiji nalaz nije potvrđe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4"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izvođenje radova po tehn. dokumentaciji, odnosno ugrađivanjee nekvalitetnog rada i materijala daju pravo naručiocu da zahtije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ljanje daljeg izvođenja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u materijala i opreme odgovarajućeg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izvođač poruši radove i ponovo ih io svom trošku zvede kako je ugovoreno (ukoliko je dovedena u pitanje sigurnost objekta, života ljudi i susjednih objeka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 </a:t>
            </a:r>
            <a:r>
              <a:rPr b="0" lang="sr-Latn-CS" sz="1500" spc="-1" strike="noStrike">
                <a:solidFill>
                  <a:srgbClr val="ffffff"/>
                </a:solidFill>
                <a:latin typeface="Arial"/>
              </a:rPr>
              <a:t>neotklanjanje nedostataka od strane izvođač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raskinuti ugovor i traćiti naknadu štete zbog nekvalitetnih radova i raskida ugovor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radi o nedostacima koji su utvrđeni tokom tehničkog pregleda i primopredaje, naručilac može to ustupiti trećem licu (na teret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GARANCIJA ZA KVALITET IZVEDENIH RADOVA</a:t>
            </a:r>
            <a:endParaRPr b="0" lang="en-US" sz="3200" spc="-1" strike="noStrike">
              <a:solidFill>
                <a:srgbClr val="ffffff"/>
              </a:solidFill>
              <a:latin typeface="Arial"/>
            </a:endParaRPr>
          </a:p>
        </p:txBody>
      </p:sp>
      <p:sp>
        <p:nvSpPr>
          <p:cNvPr id="166" name="PlaceHolder 2"/>
          <p:cNvSpPr>
            <a:spLocks noGrp="1"/>
          </p:cNvSpPr>
          <p:nvPr>
            <p:ph/>
          </p:nvPr>
        </p:nvSpPr>
        <p:spPr>
          <a:xfrm>
            <a:off x="755280" y="1773000"/>
            <a:ext cx="7931160" cy="432252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ina garancije -izvođač garantuje da su izvedeni radovi u vrijeme primopredaje:</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edni u skladu sa ugovorom, propisima i pravilima struke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maju mana koje onemogućavaju njihovo korišćenje, umanjuju vrijednost ili podobnost za upotrebu u odnosu na ono utvrđeno ugovorom</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ještenje o nedostacima bez odlaganj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tni rok za radove– 2 godine ako propisima ilii ugovorom nije drugačije rečeno, počinje teći od primopredaje, odnosno početka korišćenja objek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cija za opremu važi garancija proizvođača opreme (izvođač svu dokumentaciju sa uputstvima predaje naručiocu)</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a docnijih korisnika prelaze sa naručioca i važe do kraja garantnog rok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ka u garantnom roku:</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samo ako su nedostaci  posledica slabog kvaliteta radova i materijala, a ne nestručnog rukovanja i upotrebe i nenamjenskog korišćenj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tklanja neodstatke u primjerenom roku nakon obavještenja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otkloniti nedostatake na račun izvođača ukoliko se on ogluši o zahtjev</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ma pravo na naknadu štete  (uključujući i izgubljenu dobit) zbog ovoga</a:t>
            </a:r>
            <a:endParaRPr b="0" lang="en-US" sz="1500" spc="-1" strike="noStrike">
              <a:solidFill>
                <a:srgbClr val="ffffff"/>
              </a:solidFill>
              <a:latin typeface="Arial"/>
            </a:endParaRPr>
          </a:p>
          <a:p>
            <a:pPr marL="5119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MATERIJAL I OPREMA KOJU NABAVLJA NARUČILAC</a:t>
            </a:r>
            <a:endParaRPr b="0" lang="en-US" sz="3200" spc="-1" strike="noStrike">
              <a:solidFill>
                <a:srgbClr val="ffffff"/>
              </a:solidFill>
              <a:latin typeface="Arial"/>
            </a:endParaRPr>
          </a:p>
        </p:txBody>
      </p:sp>
      <p:sp>
        <p:nvSpPr>
          <p:cNvPr id="168" name="PlaceHolder 2"/>
          <p:cNvSpPr>
            <a:spLocks noGrp="1"/>
          </p:cNvSpPr>
          <p:nvPr>
            <p:ph/>
          </p:nvPr>
        </p:nvSpPr>
        <p:spPr>
          <a:xfrm>
            <a:off x="914400" y="1915920"/>
            <a:ext cx="7772400" cy="1873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materijal i opremu koju primi od naručioca čuva i skladišti do upotreb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predaje materijala i opreme utvrđen u skladu sa dinamikom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sto utvrđeno ugovorom, a ako nije određeno onda je to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skladištenja, čuvanja i održavanja primljenog materijala snosi izvođač, osim ako ih je predao prije ugovorenog rok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69" name="Rectangle 2"/>
          <p:cNvSpPr/>
          <p:nvPr/>
        </p:nvSpPr>
        <p:spPr>
          <a:xfrm>
            <a:off x="1828800" y="3500280"/>
            <a:ext cx="7010280" cy="107640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SIGURANJE</a:t>
            </a:r>
            <a:endParaRPr b="0" lang="en-US" sz="3200" spc="-1" strike="noStrike">
              <a:solidFill>
                <a:srgbClr val="ffffff"/>
              </a:solidFill>
              <a:latin typeface="Arial"/>
            </a:endParaRPr>
          </a:p>
        </p:txBody>
      </p:sp>
      <p:sp>
        <p:nvSpPr>
          <p:cNvPr id="170" name="Rectangle 3"/>
          <p:cNvSpPr/>
          <p:nvPr/>
        </p:nvSpPr>
        <p:spPr>
          <a:xfrm>
            <a:off x="990720" y="4653000"/>
            <a:ext cx="7772400" cy="144792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sigurava radove, materijal i opremu do njihove pune vrijednosti od uobičajenih rizika (požar, poplava, lom, krađ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laća premiju osigur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pust izvođača da izvrši osiguranje –pravo naručioca da to on uradi o trošku izvođač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18920" y="476280"/>
            <a:ext cx="7010280" cy="1447920"/>
          </a:xfrm>
          <a:prstGeom prst="rect">
            <a:avLst/>
          </a:prstGeom>
          <a:noFill/>
          <a:ln w="0">
            <a:noFill/>
          </a:ln>
        </p:spPr>
        <p:txBody>
          <a:bodyPr anchor="ctr">
            <a:noAutofit/>
          </a:bodyPr>
          <a:p>
            <a:pPr marL="743040" indent="-74304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NOŠENJE RIZIKA</a:t>
            </a:r>
            <a:endParaRPr b="0" lang="en-US" sz="3200" spc="-1" strike="noStrike">
              <a:solidFill>
                <a:srgbClr val="ffffff"/>
              </a:solidFill>
              <a:latin typeface="Arial"/>
            </a:endParaRPr>
          </a:p>
        </p:txBody>
      </p:sp>
      <p:sp>
        <p:nvSpPr>
          <p:cNvPr id="172" name="PlaceHolder 2"/>
          <p:cNvSpPr>
            <a:spLocks noGrp="1"/>
          </p:cNvSpPr>
          <p:nvPr>
            <p:ph/>
          </p:nvPr>
        </p:nvSpPr>
        <p:spPr>
          <a:xfrm>
            <a:off x="865080" y="3213000"/>
            <a:ext cx="7772400" cy="264960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vršenja stručnog nadzora od strane naručioc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pogledu vrsta, količina i kvaliteta radova, materijala i opreme i rokov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gradilištu radionicama, pogonima  i mjestima skladištenja materijal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utem  imenovanog lica (nadzornog inženjera prema Zakonu o uređ. prost. i izgradnji objeka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uje vršenja stručnog nadzor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opštavanje i upisivanje primjedaba u pismenoj formi ili upisom u građevinski dnevni</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tupanje po osnovanim zahtjevima naručioc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a ovlašćenja stručnog nadzora (daju mu pravo mijenjanja tehn. dokumentacije, ugovora, cijene i drugih odredbi ugovora)</a:t>
            </a:r>
            <a:endParaRPr b="0" lang="en-US" sz="1500" spc="-1" strike="noStrike">
              <a:solidFill>
                <a:srgbClr val="ffffff"/>
              </a:solidFill>
              <a:latin typeface="Arial"/>
            </a:endParaRPr>
          </a:p>
        </p:txBody>
      </p:sp>
      <p:sp>
        <p:nvSpPr>
          <p:cNvPr id="173" name="Rectangle 2"/>
          <p:cNvSpPr/>
          <p:nvPr/>
        </p:nvSpPr>
        <p:spPr>
          <a:xfrm>
            <a:off x="1042920" y="2363760"/>
            <a:ext cx="7416720" cy="97776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ea typeface="Arial"/>
              </a:rPr>
              <a:t>STRUČNI NADZOR NARUČIOCA</a:t>
            </a:r>
            <a:endParaRPr b="0" lang="en-US" sz="3200" spc="-1" strike="noStrike">
              <a:solidFill>
                <a:srgbClr val="ffffff"/>
              </a:solidFill>
              <a:latin typeface="Arial"/>
            </a:endParaRPr>
          </a:p>
        </p:txBody>
      </p:sp>
      <p:sp>
        <p:nvSpPr>
          <p:cNvPr id="174" name="Rectangle 5"/>
          <p:cNvSpPr/>
          <p:nvPr/>
        </p:nvSpPr>
        <p:spPr>
          <a:xfrm>
            <a:off x="1046160" y="1773360"/>
            <a:ext cx="7772400" cy="86364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izvođača do primopredaje izveden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naručioca nakon primopredaje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7200"/>
            <a:ext cx="7010280" cy="1295280"/>
          </a:xfrm>
          <a:prstGeom prst="rect">
            <a:avLst/>
          </a:prstGeom>
          <a:noFill/>
          <a:ln w="0">
            <a:noFill/>
          </a:ln>
        </p:spPr>
        <p:txBody>
          <a:bodyPr anchor="ctr">
            <a:noAutofit/>
          </a:bodyPr>
          <a:p>
            <a:pPr marL="743040" indent="-743040">
              <a:buClr>
                <a:srgbClr val="ffffff"/>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DGOVORNOST IZVOĐAČA ZA STABILNOST I SIGURNOST OBJEKTA</a:t>
            </a:r>
            <a:endParaRPr b="0" lang="en-US" sz="2600" spc="-1" strike="noStrike">
              <a:solidFill>
                <a:srgbClr val="ffffff"/>
              </a:solidFill>
              <a:latin typeface="Arial"/>
            </a:endParaRPr>
          </a:p>
        </p:txBody>
      </p:sp>
      <p:sp>
        <p:nvSpPr>
          <p:cNvPr id="176" name=""/>
          <p:cNvSpPr txBox="1"/>
          <p:nvPr/>
        </p:nvSpPr>
        <p:spPr>
          <a:xfrm>
            <a:off x="914400" y="1822320"/>
            <a:ext cx="7772400" cy="11606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eriod odgovornosti je 10 godina, osim ako su nedostaci posledica grešaka u projektu naručioca, i ako greške nije mogao uočit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govornost izvođača i prema drugima korisnicima objekt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 drugi korisnici o ovim nedostacima obavještavanju izvođača bez odlag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77" name="Rectangle 6"/>
          <p:cNvSpPr/>
          <p:nvPr/>
        </p:nvSpPr>
        <p:spPr>
          <a:xfrm>
            <a:off x="1763640" y="2997360"/>
            <a:ext cx="6769080" cy="48996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ffffff"/>
              </a:buClr>
              <a:buSzPct val="85000"/>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MJERE SIGURNOSTI</a:t>
            </a:r>
            <a:endParaRPr b="0" lang="en-US" sz="2600" spc="-1" strike="noStrike">
              <a:solidFill>
                <a:srgbClr val="ffffff"/>
              </a:solidFill>
              <a:latin typeface="Arial"/>
            </a:endParaRPr>
          </a:p>
        </p:txBody>
      </p:sp>
      <p:sp>
        <p:nvSpPr>
          <p:cNvPr id="178" name="Rectangle 3"/>
          <p:cNvSpPr/>
          <p:nvPr/>
        </p:nvSpPr>
        <p:spPr>
          <a:xfrm>
            <a:off x="914400" y="3498840"/>
            <a:ext cx="7772400" cy="11811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 trošak  izvođača radi obezbjeđanja sigurnosti objekta, radova, opreme, uređaja, instalacija radnika prolaznika saobraćaja, susjednih objekata i okolin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j i nepredviđene radove u funkciji obezbjeđanja susjednih objekata i druge mjere  sigurnosti</a:t>
            </a:r>
            <a:endParaRPr b="0" lang="en-US" sz="1500" spc="-1" strike="noStrike">
              <a:solidFill>
                <a:srgbClr val="ffffff"/>
              </a:solidFill>
              <a:latin typeface="Arial"/>
            </a:endParaRPr>
          </a:p>
        </p:txBody>
      </p:sp>
      <p:sp>
        <p:nvSpPr>
          <p:cNvPr id="179" name="Rectangle 4"/>
          <p:cNvSpPr/>
          <p:nvPr/>
        </p:nvSpPr>
        <p:spPr>
          <a:xfrm>
            <a:off x="1295280" y="4687920"/>
            <a:ext cx="7669440" cy="53352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BEZBJEĐENJE I ČUVANJE GRADILIŠTA</a:t>
            </a:r>
            <a:endParaRPr b="0" lang="en-US" sz="2600" spc="-1" strike="noStrike">
              <a:solidFill>
                <a:srgbClr val="ffffff"/>
              </a:solidFill>
              <a:latin typeface="Arial"/>
            </a:endParaRPr>
          </a:p>
        </p:txBody>
      </p:sp>
      <p:sp>
        <p:nvSpPr>
          <p:cNvPr id="180" name="Rectangle 5"/>
          <p:cNvSpPr/>
          <p:nvPr/>
        </p:nvSpPr>
        <p:spPr>
          <a:xfrm>
            <a:off x="990720" y="5372280"/>
            <a:ext cx="7772400" cy="723600"/>
          </a:xfrm>
          <a:prstGeom prst="rect">
            <a:avLst/>
          </a:prstGeom>
          <a:noFill/>
          <a:ln w="0">
            <a:noFill/>
          </a:ln>
        </p:spPr>
        <p:style>
          <a:lnRef idx="0"/>
          <a:fillRef idx="0"/>
          <a:effectRef idx="0"/>
          <a:fontRef idx="minor"/>
        </p:style>
        <p:txBody>
          <a:bodyPr lIns="90000" rIns="90000" tIns="46800" bIns="46800" anchor="t">
            <a:normAutofit fontScale="86000"/>
          </a:bodyPr>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 početka radova do primopredaje je to obaveza izvođač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i troškove obezbjeđenja i čuvanja gradilišta, odnosno radova, opreme, materijala od uništenja, oštećenja, krađe i propadanj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MOPREDAJA IZVEDENIH RADOVA</a:t>
            </a:r>
            <a:endParaRPr b="0" lang="en-US" sz="3200" spc="-1" strike="noStrike">
              <a:solidFill>
                <a:srgbClr val="ffffff"/>
              </a:solidFill>
              <a:latin typeface="Arial"/>
            </a:endParaRPr>
          </a:p>
        </p:txBody>
      </p:sp>
      <p:sp>
        <p:nvSpPr>
          <p:cNvPr id="182" name="PlaceHolder 2"/>
          <p:cNvSpPr>
            <a:spLocks noGrp="1"/>
          </p:cNvSpPr>
          <p:nvPr>
            <p:ph/>
          </p:nvPr>
        </p:nvSpPr>
        <p:spPr>
          <a:xfrm>
            <a:off x="611280" y="1844280"/>
            <a:ext cx="807552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bavještava naručioca da su radovi završeni</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stupa se primopredaji bez odlaganja (nakon tehničkog pregleda i dobijene upotrebne dozvol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matra se da je primopredaja izvršena, ako naručilac koristi objekat prije formal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pisnik o primopredaji (uz učešće ovlašćenih predstavnika ugovornih strana ili samo jedne strane, ako druga odbije učešće) obuhvata podat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su radovi izvedeni po ugovoru,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kvalitet odgovara  ugrađenom kvalitetu i nalozi izvođaču u vezi sa ti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 koijm tehničkim pitanjima nije postignuta saglasnost između ovlašćenih predstavnika ugovar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statacije o predaji garantnih listova i uzans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tum završetka radova i datum izvrše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u zapisniku konstatuje da treba neke radove doraditi, popraviti ili ponovno izvesti, izvođač mora odmah  da pristupi izvođenju t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e nedostatke može otkloniti naručilac tako što o trošku izvođača angažuje drugo lice</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ONAČAN OBRAČUN</a:t>
            </a:r>
            <a:endParaRPr b="0" lang="en-US" sz="3200" spc="-1" strike="noStrike">
              <a:solidFill>
                <a:srgbClr val="ffffff"/>
              </a:solidFill>
              <a:latin typeface="Arial"/>
            </a:endParaRPr>
          </a:p>
        </p:txBody>
      </p:sp>
      <p:sp>
        <p:nvSpPr>
          <p:cNvPr id="184" name="PlaceHolder 2"/>
          <p:cNvSpPr>
            <a:spLocks noGrp="1"/>
          </p:cNvSpPr>
          <p:nvPr>
            <p:ph/>
          </p:nvPr>
        </p:nvSpPr>
        <p:spPr>
          <a:xfrm>
            <a:off x="914400" y="1773000"/>
            <a:ext cx="7772400" cy="4322520"/>
          </a:xfrm>
          <a:prstGeom prst="rect">
            <a:avLst/>
          </a:prstGeom>
          <a:noFill/>
          <a:ln w="0">
            <a:noFill/>
          </a:ln>
        </p:spPr>
        <p:txBody>
          <a:bodyPr anchor="t">
            <a:normAutofit fontScale="99000"/>
          </a:bodyPr>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efinitivno utvrđivanje izvršenja prava i obaveza ugovarač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po primopredaji radov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vršava se u roku od 60 dana od dana primopredaje</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 sve radove (ugovorene, naknadne, nepredviđene)  bez obzira da li su bili obuhvaćeni privremenim situacijam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aj konačnog obračuna (uz učešće ovlašćenih predstavnika narućioca i izvođača, ili samo jedne stran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dnost izvedenih radova prema ugovorenimm cijenam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razlika u cijeni</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isplaćen po osnovu situacij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aćan iznos koji izvođač treba da primi ili vrati po nespornom dijelu obračun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cijene koji naručilac zadržava za otklanjanje nedostata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eventualnom prekoračenju ro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tom ekoji ugovarač, po kom osnovu i u kom iznosu traži naplatu ugovorne kazne i naknade štete i njihove osporene i neosporene iznos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i iznos cijene izvedenih radov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kte o drugim spornim činjenicam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OSLEDICE RASKIDANJA UGOVORA</a:t>
            </a:r>
            <a:endParaRPr b="0" lang="en-US" sz="3200" spc="-1" strike="noStrike">
              <a:solidFill>
                <a:srgbClr val="ffffff"/>
              </a:solidFill>
              <a:latin typeface="Arial"/>
            </a:endParaRPr>
          </a:p>
        </p:txBody>
      </p:sp>
      <p:sp>
        <p:nvSpPr>
          <p:cNvPr id="186" name="PlaceHolder 2"/>
          <p:cNvSpPr>
            <a:spLocks noGrp="1"/>
          </p:cNvSpPr>
          <p:nvPr>
            <p:ph/>
          </p:nvPr>
        </p:nvSpPr>
        <p:spPr>
          <a:xfrm>
            <a:off x="914400" y="2349000"/>
            <a:ext cx="7772400" cy="374652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plati izvedene radove izvođaču, bez obzira ko je odgovoran za r</a:t>
            </a:r>
            <a:r>
              <a:rPr b="0" lang="en-US" sz="1500" spc="-1" strike="noStrike">
                <a:solidFill>
                  <a:srgbClr val="ffffff"/>
                </a:solidFill>
                <a:latin typeface="Arial"/>
              </a:rPr>
              <a:t>a</a:t>
            </a:r>
            <a:r>
              <a:rPr b="0" lang="sr-Latn-CS" sz="1500" spc="-1" strike="noStrike">
                <a:solidFill>
                  <a:srgbClr val="ffffff"/>
                </a:solidFill>
                <a:latin typeface="Arial"/>
              </a:rPr>
              <a:t>skidanje ugovor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odgovornosti naručioca, njegova je obaveza da plati i pripremljen materijal i oremu za ugrađivanje, koji su ostali neugrađeni i da mu nadoknadii amortizovanu vrijednost pripremnih radova i izdatke za uređenje gr</a:t>
            </a:r>
            <a:r>
              <a:rPr b="0" lang="en-US" sz="1500" spc="-1" strike="noStrike">
                <a:solidFill>
                  <a:srgbClr val="ffffff"/>
                </a:solidFill>
                <a:latin typeface="Arial"/>
              </a:rPr>
              <a:t>a</a:t>
            </a:r>
            <a:r>
              <a:rPr b="0" lang="sr-Latn-CS" sz="1500" spc="-1" strike="noStrike">
                <a:solidFill>
                  <a:srgbClr val="ffffff"/>
                </a:solidFill>
                <a:latin typeface="Arial"/>
              </a:rPr>
              <a:t>diliš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ugovarača koji je odgovoran za raskidanje ugovora da drugom naknadi štetu koja je zbog toga nastala, pa i izgubljenu dobit</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radova u slučaju raskida je obaveza izvođača, ali na teret naručioca, osim ako je za raskid odgovoran izvođač</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užne, što jeftinije mjere zaštit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6" name="PlaceHolder 2"/>
          <p:cNvSpPr>
            <a:spLocks noGrp="1"/>
          </p:cNvSpPr>
          <p:nvPr>
            <p:ph/>
          </p:nvPr>
        </p:nvSpPr>
        <p:spPr>
          <a:xfrm>
            <a:off x="914400" y="2057400"/>
            <a:ext cx="7772400" cy="4038480"/>
          </a:xfrm>
          <a:prstGeom prst="rect">
            <a:avLst/>
          </a:prstGeom>
          <a:noFill/>
          <a:ln w="0">
            <a:noFill/>
          </a:ln>
        </p:spPr>
        <p:txBody>
          <a:bodyPr anchor="t">
            <a:normAutofit fontScale="97000"/>
          </a:bodyPr>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ATERIJAL I OPREMA KOJE NABAVLJA NARUČILAC</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SIGURANJE</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NOŠENJE RIZIK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TRUČNI NADZOR NARUČIOC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GOVORNOST IZVOĐAČA ZA STABILNOST I SIGURNOST OBJEK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JERE SIGURNOSTI</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BEZBJEĐENJE I ČUVA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MOPREDAJA IZVEDENIH RADOV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ONAČAN OBRAČUN</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OSLEDICE RASKIDANJA UGOVOR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REĐE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ZAVRŠNA ODREDB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REĐENJE GRADILIŠTA</a:t>
            </a:r>
            <a:endParaRPr b="0" lang="en-US" sz="3200" spc="-1" strike="noStrike">
              <a:solidFill>
                <a:srgbClr val="ffffff"/>
              </a:solidFill>
              <a:latin typeface="Arial"/>
            </a:endParaRPr>
          </a:p>
        </p:txBody>
      </p:sp>
      <p:sp>
        <p:nvSpPr>
          <p:cNvPr id="188" name="PlaceHolder 2"/>
          <p:cNvSpPr>
            <a:spLocks noGrp="1"/>
          </p:cNvSpPr>
          <p:nvPr>
            <p:ph/>
          </p:nvPr>
        </p:nvSpPr>
        <p:spPr>
          <a:xfrm>
            <a:off x="914400" y="1828440"/>
            <a:ext cx="7772400" cy="4267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da po okončanju (ili raskidu ugovora) sa gradiliš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vuče svoje radni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eostali materijal, opremu ili sredstva za rad,</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ivremene objekte koje je sagradi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čisti objekat i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e snosi izvođač odnosno strana odgovorna za raskid ugovor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28"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rimjenjivost uzansi :</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dnosi između naručioca i izvođača radova u izvođenju radova na građevinskim objektim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samo</a:t>
            </a:r>
            <a:r>
              <a:rPr b="1" lang="sr-Latn-CS" sz="1700" spc="-1" strike="noStrike" u="sng">
                <a:solidFill>
                  <a:srgbClr val="ffffff"/>
                </a:solidFill>
                <a:uFillTx/>
                <a:latin typeface="Arial"/>
              </a:rPr>
              <a:t> ukoliko </a:t>
            </a:r>
            <a:r>
              <a:rPr b="1" lang="en-US" sz="1700" spc="-1" strike="noStrike" u="sng">
                <a:solidFill>
                  <a:srgbClr val="ffffff"/>
                </a:solidFill>
                <a:uFillTx/>
                <a:latin typeface="Arial"/>
              </a:rPr>
              <a:t>je</a:t>
            </a:r>
            <a:r>
              <a:rPr b="1" lang="sr-Latn-CS" sz="1700" spc="-1" strike="noStrike" u="sng">
                <a:solidFill>
                  <a:srgbClr val="ffffff"/>
                </a:solidFill>
                <a:uFillTx/>
                <a:latin typeface="Arial"/>
              </a:rPr>
              <a:t> ugovoru izričito </a:t>
            </a:r>
            <a:r>
              <a:rPr b="1" lang="en-US" sz="1700" spc="-1" strike="noStrike" u="sng">
                <a:solidFill>
                  <a:srgbClr val="ffffff"/>
                </a:solidFill>
                <a:uFillTx/>
                <a:latin typeface="Arial"/>
              </a:rPr>
              <a:t>nagla</a:t>
            </a:r>
            <a:r>
              <a:rPr b="1" lang="sr-Latn-CS" sz="1700" spc="-1" strike="noStrike" u="sng">
                <a:solidFill>
                  <a:srgbClr val="ffffff"/>
                </a:solidFill>
                <a:uFillTx/>
                <a:latin typeface="Arial"/>
              </a:rPr>
              <a:t>šeno da se primjenjuju</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sim u dijelovima ugovora koji na drugačiji način reguliše materiju obrađenu u Uzansama</a:t>
            </a:r>
            <a:endParaRPr b="0" lang="en-US" sz="17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ačelo poštenja i savjesnosti – bitno za potrebe tumačenja ugovora i ponašanja učesnika ugovora</a:t>
            </a:r>
            <a:endParaRPr b="0" lang="en-US" sz="18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Ispunjenje obaveza</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 pažnjom dobrog privrednik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zavisnost uzajamnih obavez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aradnja u ostvarivanju ciljeva ugovor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osledice neizvršenja obaveza treba svesti na najmaju moguću mjeru i samo se u tom slučaju može trađiti nadoknada štete</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 ugovorenom ili naknadnom primjerenom rok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30" name="PlaceHolder 2"/>
          <p:cNvSpPr>
            <a:spLocks noGrp="1"/>
          </p:cNvSpPr>
          <p:nvPr>
            <p:ph/>
          </p:nvPr>
        </p:nvSpPr>
        <p:spPr>
          <a:xfrm>
            <a:off x="684000" y="1484280"/>
            <a:ext cx="8002440" cy="4611600"/>
          </a:xfrm>
          <a:prstGeom prst="rect">
            <a:avLst/>
          </a:prstGeom>
          <a:noFill/>
          <a:ln w="0">
            <a:noFill/>
          </a:ln>
        </p:spPr>
        <p:txBody>
          <a:bodyPr anchor="t">
            <a:normAutofit fontScale="98000"/>
          </a:bodyPr>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bavještavan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blagovremeno o činjenicama koje su od uticaja na ispunjenje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pismenoj formi ili upisom u građevinski dnevni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ređivanje pojmova (definici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a:t>
            </a:r>
            <a:r>
              <a:rPr b="0" lang="vi-VN" sz="1400" spc="-1" strike="noStrike">
                <a:solidFill>
                  <a:srgbClr val="ffffff"/>
                </a:solidFill>
                <a:latin typeface="Arial"/>
              </a:rPr>
              <a:t>lice koje je ugovorom zaključenim sa izvođačem naručilo izvođenje radova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zvođač- lice koje je ugovorom zaključenim sa naručiocem prihvatilo obavezu da izvede radove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dovi na građevinskim objektim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đevinski objekti</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iškovi radova- količne izvedenih radova koje prelaze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njkovi radov- negativna odstupanja izvedenih radova u odnosu na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epredviđeni radovi- oni koji ugovorom nijesu obuhvaćeni a moraju se izvesti da bi objekt imao normalnu funkciju ili sigurnost objekta i-ili susjednih objekata i sl</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knadni radovi- ugovorom nijesu obuhvaćeni i nijesu nužni za ispunjenje ugovora, ali njihovu realizaciju zahtjeva naručilac</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dilište- zemljište na kojem se izvode radovi i zemljište koje izvođač koristi radi izvođenja radov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imjereni ro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čunanje rokova određenih u danima – kalendarski dan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ASTAVNI DJELOVI UGOVORA</a:t>
            </a:r>
            <a:endParaRPr b="0" lang="en-US" sz="3200" spc="-1" strike="noStrike">
              <a:solidFill>
                <a:srgbClr val="ffffff"/>
              </a:solidFill>
              <a:latin typeface="Arial"/>
            </a:endParaRPr>
          </a:p>
        </p:txBody>
      </p:sp>
      <p:sp>
        <p:nvSpPr>
          <p:cNvPr id="132" name="PlaceHolder 2"/>
          <p:cNvSpPr>
            <a:spLocks noGrp="1"/>
          </p:cNvSpPr>
          <p:nvPr>
            <p:ph/>
          </p:nvPr>
        </p:nvSpPr>
        <p:spPr>
          <a:xfrm>
            <a:off x="914400" y="2285640"/>
            <a:ext cx="7772400" cy="3809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ni djelovi ugovora (koje naručilac treba da preda izvođaču prije početka izvođenja radova) su:</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ehnička dokumentacij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i i drugi uslovi naručioca koji su određeni ugovoro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inamički plan radova ako su tako odredili ugovarač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OUČAVANJE I IZMJENA TEHNIČKE DOKUMENTACIJE</a:t>
            </a:r>
            <a:endParaRPr b="0" lang="en-US" sz="3200" spc="-1" strike="noStrike">
              <a:solidFill>
                <a:srgbClr val="ffffff"/>
              </a:solidFill>
              <a:latin typeface="Arial"/>
            </a:endParaRPr>
          </a:p>
        </p:txBody>
      </p:sp>
      <p:sp>
        <p:nvSpPr>
          <p:cNvPr id="13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učavanje tehničke dokumentacije: </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 </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vremeno i detaljno proučavanje tehn. dok.</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ovremeno traženje razjašnjenja od naručioc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 -davanje razjašnjenja (blagovremeno i u pismenoj formi)</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a tehničke dokumentacije u nadleđnosti naručioc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izmjene tehničke dokumentacij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nosi ih naručilac,osim:</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izmjena u cilju otklanjanja nedostataka tehn. dokumentacije koju je obezbijedio izvođač</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jekat izvedenih radova – projekat izvedenog objekta prema Zakonu o izgradnji objekat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rteži i proračuni izvršenih izmjena i dopuna tehničke dokumenatcije i stvarno izvedenih radova po osnovu tih izmjena i dopun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e izvođač naručiocu nakon završetka radova</a:t>
            </a:r>
            <a:endParaRPr b="0" lang="en-US" sz="1500" spc="-1" strike="noStrike">
              <a:solidFill>
                <a:srgbClr val="ffffff"/>
              </a:solidFill>
              <a:latin typeface="Arial"/>
            </a:endParaRPr>
          </a:p>
          <a:p>
            <a:pPr lvl="2" marL="108576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DSTUPANJE OD PREDMETA UGOVORA</a:t>
            </a:r>
            <a:endParaRPr b="0" lang="en-US" sz="3200" spc="-1" strike="noStrike">
              <a:solidFill>
                <a:srgbClr val="ffffff"/>
              </a:solidFill>
              <a:latin typeface="Arial"/>
            </a:endParaRPr>
          </a:p>
        </p:txBody>
      </p:sp>
      <p:sp>
        <p:nvSpPr>
          <p:cNvPr id="136"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ugovorene radove (uključujući i viškove radova) izvede na način i u rokovima koji su određeni ugovorom,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na osnovu pismenog naloga naručioca izvede i nepredviđene radove (a bez obavještenja hitne nepredviđene radove za obezbjeđenje stabilnosti objekta, sprećavanja nastanka štete, normalnog korišćenja izgrađenog objek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o preduzetim hitnim nepredviđenim radovima odmah obavijesti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epredviđenih radova ustupi izvođaču, a trećem licu ako ovaj ne može ili odbije da ih završ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aknadnih radova ponudi izvođaču</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 </a:t>
            </a:r>
            <a:endParaRPr b="0" lang="en-US" sz="3200" spc="-1" strike="noStrike">
              <a:solidFill>
                <a:srgbClr val="ffffff"/>
              </a:solidFill>
              <a:latin typeface="Arial"/>
            </a:endParaRPr>
          </a:p>
        </p:txBody>
      </p:sp>
      <p:sp>
        <p:nvSpPr>
          <p:cNvPr id="138"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ređivanj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čin određivanja cijena može biti propisan u uslovima za podnošenje ponud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jedinične cijene (za jedinicu mjere ugovorenih radova, faza radova ili jedinicu mjere objek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an iznos za vrijednost cijelog objekt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e cijen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vanrednih događaj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utvrđene aktima nadležnih organ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cijena materijala i usluga trećih lica na tržištu (više od graničnih procena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troškova života (za više od 5%) šestomjesečni obračun</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 za izvođenje radova u zemlji ili vodi koji nijesu predviđeni tehničkom dokumentacijom</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20:29:16Z</dcterms:modified>
  <cp:revision>383</cp:revision>
  <dc:subject/>
  <dc:title>ZAKON O IZGRADNJI OBJEKATA</dc:title>
</cp:coreProperties>
</file>