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02C6D6-516F-4A39-BA53-AA60B1BD2E00}"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3C45FF-116C-49C0-AD30-8B7EA1967C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E9C003-291F-4C4D-9214-E91070B348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1C73FC-5A75-4FD2-985B-3ECE496DFDE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7A5107-ED5A-42EB-8353-265F8C4A8B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FC774F-B338-4B4E-88B0-98EB7FB2CF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E5DC3A-DF5A-41D4-93B4-EC496263675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C7BCD2-0A5C-409D-B0F7-6F9901E867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A22AF8-6BE0-46C4-8E4F-D89EF45493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FB73D6-EFDF-4DE3-902D-58BCDA3DC5D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3DB71A-8510-432B-B61F-FCDD77793F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FE9ED68-E5C8-4432-A0B8-2397768308A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64CD36C-900B-4122-B5F2-8452DBE2F74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E15446-7257-4CCB-B7C5-6D1A9D26E6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7447E1-6014-4EAD-9FD5-60026F8243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C4B94A-D498-4DAE-BFC1-3651C3F2F1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C21D70A-3B7C-42CB-8A66-9B36A05880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D6BF8E-AF94-49F7-8940-0C6FFB9AEC8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D741880-D224-42D8-B33D-2CF6B68EB3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BC73B5-18B2-4BBD-820F-47CE53103AA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2A9934B-E501-494F-8373-CDD19A78D41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B100783-A9C1-431C-B2FD-B7C78CEEEE9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27A200-2056-49B9-9C83-3AAAA2135A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DB87A6-5969-4842-B0B4-62440B92DB8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F38FF1-8F05-4627-BADE-F756296A78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E668B9-A391-486B-B76B-2F01695260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CA8288-7BDA-4C37-BF80-053DB1880B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0B5EAC-D964-47CE-92AE-BA99C550C4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92A7CE-2AC1-43BB-9AF3-212507AC56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DFF021-266A-44A6-8BD0-633A3CFFA9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B7F779-1D48-4147-974A-952F3C2512A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9039509-9A79-40EF-9277-CC8E947141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E60C9C-FF1F-440C-8805-D91DC7A575A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FC6AA0-6BD8-454F-887A-B703B6C7E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888487-A42F-4D78-A15B-EF5B85C58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2ADB8B-1F5E-4D4D-B5B9-01C7334670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F2AD40-CF19-4BB0-882C-FE1B05F5F2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5BB32-7358-4EA3-AB02-E27536E29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5F4AA-FE1B-460E-9C23-1268CEEC0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CEF06-74A4-48E9-856E-9D14DA2BB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06629-39DD-4ABC-9EC0-0F4C70566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24D64-D107-460E-87D7-F76A59F1F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7D8E6-0D31-4E16-9711-C9A07B693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769D6-B767-41B2-A931-37C6B7E6E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B8BF64-7A14-419C-B366-2D082E4E1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51352-1139-4ED9-B149-7246110AE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44FFE-291E-4E45-B92B-D4D61EA5E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79241-CA0E-475D-8FBE-884AC4AAB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93308-70CA-4A7F-A69D-6A8525DEF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372A5-D000-471A-92DB-16CC3F3F1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DC188-5435-4465-82F1-21AEB213C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BB15C-A545-420E-A68A-B478EF3BF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94B1FD-75F2-43D6-94CA-C7A4901CD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417D9-C253-4232-A386-6447ACD75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73B21D-EC6B-459E-A657-CED8356E0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167718-BCB4-48D2-B5F7-F7331C9F8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8BB29-1701-48A1-91F5-14F06929F5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79FF-7A51-45FB-B9B0-F40DF62305D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36E3-BE20-4747-B6B9-DC603DAD69D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ovo se podrazumijeva da se nalazi u dokumentaciji kod inspekcisj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a:t>
            </a:r>
            <a:r>
              <a:rPr b="0" lang="sr-Latn-ME" sz="1400" spc="-1" strike="noStrike">
                <a:solidFill>
                  <a:srgbClr val="ffffff"/>
                </a:solidFill>
                <a:latin typeface="Arial"/>
              </a:rPr>
              <a:t>radova I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Ako u toku gra</a:t>
            </a:r>
            <a:r>
              <a:rPr b="0" lang="sr-Latn-ME" sz="1500" spc="-1" strike="noStrike">
                <a:solidFill>
                  <a:srgbClr val="ffffff"/>
                </a:solidFill>
                <a:latin typeface="Arial"/>
              </a:rPr>
              <a:t>đ</a:t>
            </a:r>
            <a:r>
              <a:rPr b="0" lang="vi-VN" sz="1500" spc="-1" strike="noStrike">
                <a:solidFill>
                  <a:srgbClr val="ffffff"/>
                </a:solidFill>
                <a:latin typeface="Arial"/>
              </a:rPr>
              <a:t>enja objekta do</a:t>
            </a:r>
            <a:r>
              <a:rPr b="0" lang="sr-Latn-ME" sz="1500" spc="-1" strike="noStrike">
                <a:solidFill>
                  <a:srgbClr val="ffffff"/>
                </a:solidFill>
                <a:latin typeface="Arial"/>
              </a:rPr>
              <a:t>đ</a:t>
            </a:r>
            <a:r>
              <a:rPr b="0" lang="vi-VN" sz="1500" spc="-1" strike="noStrike">
                <a:solidFill>
                  <a:srgbClr val="ffffff"/>
                </a:solidFill>
                <a:latin typeface="Arial"/>
              </a:rPr>
              <a:t>e do promjene izvo</a:t>
            </a:r>
            <a:r>
              <a:rPr b="0" lang="sr-Latn-ME" sz="1500" spc="-1" strike="noStrike">
                <a:solidFill>
                  <a:srgbClr val="ffffff"/>
                </a:solidFill>
                <a:latin typeface="Arial"/>
              </a:rPr>
              <a:t>đ</a:t>
            </a:r>
            <a:r>
              <a:rPr b="0" lang="vi-VN" sz="1500" spc="-1" strike="noStrike">
                <a:solidFill>
                  <a:srgbClr val="ffffff"/>
                </a:solidFill>
                <a:latin typeface="Arial"/>
              </a:rPr>
              <a:t>a</a:t>
            </a:r>
            <a:r>
              <a:rPr b="0" lang="sr-Latn-ME" sz="1500" spc="-1" strike="noStrike">
                <a:solidFill>
                  <a:srgbClr val="ffffff"/>
                </a:solidFill>
                <a:latin typeface="Arial"/>
              </a:rPr>
              <a:t>č</a:t>
            </a:r>
            <a:r>
              <a:rPr b="0" lang="vi-VN" sz="1500" spc="-1" strike="noStrike">
                <a:solidFill>
                  <a:srgbClr val="ffffff"/>
                </a:solidFill>
                <a:latin typeface="Arial"/>
              </a:rPr>
              <a:t>a radova, odnosno stru</a:t>
            </a:r>
            <a:r>
              <a:rPr b="0" lang="sr-Latn-ME" sz="1500" spc="-1" strike="noStrike">
                <a:solidFill>
                  <a:srgbClr val="ffffff"/>
                </a:solidFill>
                <a:latin typeface="Arial"/>
              </a:rPr>
              <a:t>č</a:t>
            </a:r>
            <a:r>
              <a:rPr b="0" lang="vi-VN" sz="1500" spc="-1" strike="noStrike">
                <a:solidFill>
                  <a:srgbClr val="ffffff"/>
                </a:solidFill>
                <a:latin typeface="Arial"/>
              </a:rPr>
              <a:t>nog nadzora</a:t>
            </a:r>
            <a:r>
              <a:rPr b="0" lang="sr-Latn-ME" sz="1500" spc="-1" strike="noStrike">
                <a:solidFill>
                  <a:srgbClr val="ffffff"/>
                </a:solidFill>
                <a:latin typeface="Arial"/>
              </a:rPr>
              <a:t> - </a:t>
            </a:r>
            <a:r>
              <a:rPr b="0" lang="vi-VN" sz="1500" spc="-1" strike="noStrike">
                <a:solidFill>
                  <a:srgbClr val="ffffff"/>
                </a:solidFill>
                <a:latin typeface="Arial"/>
              </a:rPr>
              <a:t>u roku od tri dana od dana nastanka promjene, pisanim putem obavijesti nadle</a:t>
            </a:r>
            <a:r>
              <a:rPr b="0" lang="sr-Latn-ME" sz="1500" spc="-1" strike="noStrike">
                <a:solidFill>
                  <a:srgbClr val="ffffff"/>
                </a:solidFill>
                <a:latin typeface="Arial"/>
              </a:rPr>
              <a:t>ž</a:t>
            </a:r>
            <a:r>
              <a:rPr b="0" lang="vi-VN" sz="1500" spc="-1" strike="noStrike">
                <a:solidFill>
                  <a:srgbClr val="ffffff"/>
                </a:solidFill>
                <a:latin typeface="Arial"/>
              </a:rPr>
              <a:t>ni inspekcijski organ</a:t>
            </a:r>
            <a:r>
              <a:rPr b="0" lang="sr-Latn-ME" sz="1500" spc="-1" strike="noStrike">
                <a:solidFill>
                  <a:srgbClr val="ffffff"/>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svu gradilišnu dokumentaciju (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a:t>
            </a:r>
            <a:r>
              <a:rPr b="0" lang="sr-Latn-ME" sz="1600" spc="-1" strike="noStrike">
                <a:solidFill>
                  <a:srgbClr val="ffffff"/>
                </a:solidFill>
                <a:latin typeface="Arial"/>
              </a:rPr>
              <a:t>,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a:t>
            </a:r>
            <a:r>
              <a:rPr b="0" lang="sr-Latn-ME" sz="1400" spc="-1" strike="noStrike">
                <a:solidFill>
                  <a:srgbClr val="ffffff"/>
                </a:solidFill>
                <a:latin typeface="Arial"/>
              </a:rPr>
              <a:t>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u prethodnom zakonu  „preliminarna primopredaja“) nakon završetka građenj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a:t>
            </a:r>
            <a:r>
              <a:rPr b="0" lang="sr-Latn-ME" sz="1200" spc="-1" strike="noStrike">
                <a:solidFill>
                  <a:srgbClr val="ffffff"/>
                </a:solidFill>
                <a:latin typeface="Arial"/>
              </a:rPr>
              <a:t>), a po prethodno pribavljenoj saglasnosti Ministarstva i organa državne uprave nadležnih za zaštitu kulturnih dobara i zaštitu životne sredine, 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lokalne uprave (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a:t>
            </a:r>
            <a:r>
              <a:rPr b="0" lang="sr-Latn-ME" sz="1400" spc="-1" strike="noStrike">
                <a:solidFill>
                  <a:srgbClr val="ffffff"/>
                </a:solidFill>
                <a:latin typeface="Arial"/>
              </a:rPr>
              <a:t>organu lokalne uprave (u </a:t>
            </a:r>
            <a:r>
              <a:rPr b="0" lang="sr-Latn-ME" sz="1400" spc="-1" strike="noStrike">
                <a:solidFill>
                  <a:srgbClr val="ffffff"/>
                </a:solidFill>
                <a:latin typeface="Arial"/>
              </a:rPr>
              <a:t>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a:bodyPr>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ff"/>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a:t>
            </a:r>
            <a:r>
              <a:rPr b="0" lang="sr-Latn-ME" sz="1600" spc="-1" strike="noStrike">
                <a:solidFill>
                  <a:srgbClr val="ffffff"/>
                </a:solidFill>
                <a:latin typeface="Arial"/>
              </a:rPr>
              <a:t>naknade). 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7:30Z</dcterms:modified>
  <cp:revision>522</cp:revision>
  <dc:subject/>
  <dc:title>ZAKON O IZGRADNJI OBJEKATA</dc:title>
</cp:coreProperties>
</file>