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44A6-1CF9-43EA-8CBB-2A30A74F92F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8A4-00C1-4B9A-B6A7-5FD98030D7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1491-04AA-4E9F-B339-949E7A1FF74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7E59-B68E-4895-9779-A616FE5B98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EE9F-5936-4A94-9A37-630FD46C908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5F24-A3CC-4F51-A121-96910BFC90F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02E-45AF-4996-9D0D-3A74C5543B8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D46-F75F-4601-9F3D-A275FEAB931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F43-FC6D-4ABE-87CE-8C4418B1EC4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F236-5F61-43E3-8628-86C79FDE3D2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48BB-94CF-4420-8B43-F4DDFA639AB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BF3-DCC0-46D8-B920-CBB673F233E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DF5-71FD-45D5-B583-08B21FBB9A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16D-B037-42FF-9FBA-29D018370B0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F26-3421-49B5-9B16-66A502D0ACD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9913-2C22-438D-8D2D-09E85EFEB2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ED0-DE47-4CEA-9DF3-7A50660B4B5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853A-A9C4-4096-8FE9-E1EDE797F42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9108-E4DF-4D25-A667-4CD77A44BB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6510-CC4B-4CF9-805D-E1DE0E05B92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6D1A-FDD6-47B0-BB05-18EF7FAF7EE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342-24DC-4C96-AD1E-7A6BB2712CE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208-8203-48BA-AA8A-7C1918E0A5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347A-7A92-48B6-91ED-323849E9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A1D0-1856-45B4-BF51-3E3E4FCE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5CA9-77F7-46BB-B244-7C61F9A1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6B91-7326-4757-B131-67B3A3B8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E2E-F13A-4C38-8B98-CA74117C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C370-E44C-451D-B731-BC1E2F5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731E-06B1-48CF-8ABD-6AE822FC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9DB4-E971-4D43-825E-F4B71053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D9E2-5074-49FF-A0C9-589AFED1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89D1-3594-48D7-B20B-8E090FC5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0992-5E40-4EBD-B0BC-111CAA14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92A0-81B6-4E1C-8AAA-CEFCD9E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155F-1229-43DF-80B9-3C82A430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E3A3-0946-44E0-86EC-8E9A7A0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15F-539C-47B1-8435-2F67239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E960-19D2-44C5-9B98-BD624A26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F9F8-7BC0-44F5-A150-A9E0E676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5D4D-365F-41D4-B9CB-399E22D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A14A-FBFF-46FD-8556-35B19604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7029-8A94-4381-A8DD-C4BC7546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97BB-7487-4748-89F3-FE145ACB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29AE-AF91-45F2-970C-E759790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D3A4-799E-43FA-9E41-AFCA283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4A97-53AA-42A7-B6C6-98222A7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BDC9-BCA0-4F4A-8F74-A86CAFEF7F5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2C51-F195-4E1F-B959-DCBF6FD9394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78/21 i 102/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(i priznavanje inostrane diplo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sa VII1 nivoom obrazovan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uvjerenje o crnogorskom državljanstv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c000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na izradi tehničke dokumentacije i/ili građenju objekta u svojstvu ovlašćenog inženjer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 ,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vjeren od poslodavc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</a:t>
            </a:r>
            <a:r>
              <a:rPr b="1" lang="pl-PL" sz="1600" spc="-1" strike="noStrike">
                <a:solidFill>
                  <a:srgbClr val="ffc000"/>
                </a:solidFill>
                <a:latin typeface="Arial"/>
              </a:rPr>
              <a:t>78/21 i 102/21</a:t>
            </a: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zaposlen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revizor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za 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pisane vrst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jekata (arhitektonski, građevinski, elektrotehnički i mašinski)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u zavisnosti od vrste objekata, prema članu 124. Zakona o planiranju i izgradnji objekata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Registar licenci se vodi u elektronskoj for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 i </a:t>
            </a:r>
            <a:r>
              <a:rPr b="1" lang="sr-Latn-ME" sz="2000" spc="-1" strike="noStrike">
                <a:solidFill>
                  <a:srgbClr val="ffc000"/>
                </a:solidFill>
                <a:latin typeface="Arial"/>
              </a:rPr>
              <a:t>registar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1400" y="595440"/>
            <a:ext cx="9347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12:53Z</dcterms:modified>
  <cp:revision>217</cp:revision>
  <dc:subject/>
  <dc:title>ZAKON O IZGRADNJI OBJEKATA</dc:title>
</cp:coreProperties>
</file>