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12193588"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77676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46440" y="95040"/>
            <a:ext cx="6908760" cy="3887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19" name="PlaceHolder 5"/>
          <p:cNvSpPr>
            <a:spLocks noGrp="1"/>
          </p:cNvSpPr>
          <p:nvPr>
            <p:ph type="ftr" idx="8"/>
          </p:nvPr>
        </p:nvSpPr>
        <p:spPr>
          <a:xfrm>
            <a:off x="0" y="9264600"/>
            <a:ext cx="2890800" cy="48744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776760" y="9264600"/>
            <a:ext cx="2890800" cy="48744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sr-Latn-C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8BC9F46-7D54-4FC5-8C01-7B65DC015DCD}"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125D994-512A-4553-98D2-16369F0791D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217440" y="22320"/>
            <a:ext cx="6451560" cy="3630600"/>
          </a:xfrm>
          <a:prstGeom prst="rect">
            <a:avLst/>
          </a:prstGeom>
          <a:ln w="0">
            <a:noFill/>
          </a:ln>
        </p:spPr>
      </p:sp>
      <p:sp>
        <p:nvSpPr>
          <p:cNvPr id="207"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2 ovog zakona koje je izradilo urbanistički projekat odnosno tehničku dokumentaciju dužno je da potpiše naprednim elektronskim potpisom (u daljem tekstu: elektronski potpis) svaki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revidovalo tehničku dokumentaciju dužno je da potpiše elektronskim potpisom svaki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vršilo stručni nadzor dužno je da potpiše elektronskim potpisom konačni izvještaj o vršenju stručnog nadzora, kao i izjavu iz člana 103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govornim licem u privrednom društvu iz st. 1, 2 i 3 ovog člana, osim lica koje je ovlašćeno da postupa u ime privrednog društva, smatra s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i inženjer koji rukovodi izradom urbanističkog projekta odnosno tehničke dokumentacije u cjelini, koji je dužan da elektronskim potpisom potpiše svaki posebni dio urbanističkog projekta odnosno tehničke dokumentacije čijom izrad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i inženjer koji izrađuje dio urbanističkog projekta odnosno tehničke dokumentacije i koji je dužan da elektronskim potpisom potpiše taj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revizor tehničke dokumentacije koji rukovodi revizijom tehničke dokumentacije u cjelini, koji je dužan da elektronskim potpisom potpiše svaki posebni dio tehničke dokumentacije čijom revizij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revizor dijela tehničke dokumentacije koji reviduje dio tehničke dokumentacije i koji je dužan da elektronskim potpisom potpiše taj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vlašćeni inženjer koji rukovodi građenjem objekta u cjelini, koji je dužan da elektronskim potpisom potpiše izjavu da je objekat građen u skladu sa revidovanim glavnim projektom, ovim zakonom, posebnim propisima i pravilima struke, odnosno da je objekat podoban za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vlašćeni inženjer koji rukovodi izvođenjem pojedinih vrsta radova na građenju objekta koji je dužan da elektronskim potpisom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revizor koji rukovodi stručnim nadzorom nad građenjem objekta u cjelini, koji je dužan da elektronskim potpisom potpiše konačni izvještaj o vršenju stručnog nadzora nad građenjem objekta po fazama građenja i konačni izvještaj o izvršenom stručnom nadzoru nad građenjem ob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evizor koji vrši stručni nadzor nad građenjem pojedinih vrsta radova na objektu, dužan je da elektronskim potpisom potpiše izvještaj o stručnom nadzoru nad građenjem objekta po fazama građenja i konačni izvještaj o izvršenom stručnom nadzoru nad građenjem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8A4568F-4902-421E-94F4-A3420DCB256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4" name="PlaceHolder 2"/>
          <p:cNvSpPr>
            <a:spLocks noGrp="1"/>
          </p:cNvSpPr>
          <p:nvPr>
            <p:ph type="sldImg"/>
          </p:nvPr>
        </p:nvSpPr>
        <p:spPr>
          <a:xfrm>
            <a:off x="-46080" y="95400"/>
            <a:ext cx="6908760" cy="38876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5BED667-46BB-4BE2-8F21-95B467B911E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7" name="PlaceHolder 2"/>
          <p:cNvSpPr>
            <a:spLocks noGrp="1"/>
          </p:cNvSpPr>
          <p:nvPr>
            <p:ph type="sldImg"/>
          </p:nvPr>
        </p:nvSpPr>
        <p:spPr>
          <a:xfrm>
            <a:off x="-46080" y="95400"/>
            <a:ext cx="6908760" cy="38876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2DBDAAA-7E97-40CE-B792-42188D07033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0" name="PlaceHolder 2"/>
          <p:cNvSpPr>
            <a:spLocks noGrp="1"/>
          </p:cNvSpPr>
          <p:nvPr>
            <p:ph type="sldImg"/>
          </p:nvPr>
        </p:nvSpPr>
        <p:spPr>
          <a:xfrm>
            <a:off x="-46080" y="95400"/>
            <a:ext cx="6908760" cy="38876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2"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A895CA4-D94B-49B3-9D3C-BB6F996B52F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3" name="PlaceHolder 2"/>
          <p:cNvSpPr>
            <a:spLocks noGrp="1"/>
          </p:cNvSpPr>
          <p:nvPr>
            <p:ph type="sldImg"/>
          </p:nvPr>
        </p:nvSpPr>
        <p:spPr>
          <a:xfrm>
            <a:off x="-46080" y="95400"/>
            <a:ext cx="6908760" cy="38876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68BAA3E-8315-495E-89B1-267D66F09DF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6" name="PlaceHolder 2"/>
          <p:cNvSpPr>
            <a:spLocks noGrp="1"/>
          </p:cNvSpPr>
          <p:nvPr>
            <p:ph type="sldImg"/>
          </p:nvPr>
        </p:nvSpPr>
        <p:spPr>
          <a:xfrm>
            <a:off x="-46080" y="95400"/>
            <a:ext cx="6908760" cy="38876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FB14A66-1DDC-46C5-B30F-C856D98B79E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9" name="PlaceHolder 2"/>
          <p:cNvSpPr>
            <a:spLocks noGrp="1"/>
          </p:cNvSpPr>
          <p:nvPr>
            <p:ph type="sldImg"/>
          </p:nvPr>
        </p:nvSpPr>
        <p:spPr>
          <a:xfrm>
            <a:off x="-46080" y="95400"/>
            <a:ext cx="6908760" cy="38876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46080" y="95400"/>
            <a:ext cx="6908760" cy="3887640"/>
          </a:xfrm>
          <a:prstGeom prst="rect">
            <a:avLst/>
          </a:prstGeom>
          <a:ln w="0">
            <a:noFill/>
          </a:ln>
        </p:spPr>
      </p:sp>
      <p:sp>
        <p:nvSpPr>
          <p:cNvPr id="251"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Vrs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7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loženi inženjerski objekti, u smislu ovog zakona, su: auto-putevi, brze saobraćajnice, magistralni i regionalni putevi, tuneli, mostovi, željezničke pruge, aerodromi, distributivni i prenosni elektroenergetski objekti (nadzemni i podzemni dalekovodi i trafostanice) naponskog nivoa 35 kV i više, proizvodni elektro energetski objekti snage 1MW i više (hidroelektrane, termoelektrane, vjetroelektrane, solarne elektrane i dr.), luke, gasovodi protoka većeg od 100 m3/h, brane i akumulacije ispunjene pepelom za koje je propisano tehničko osmatranje, postrojenje za skladištenje i pretakanje tečnog prirodnog gasa kapaciteta većeg od 1000m3, postrojenja za skladištenje i pretakanje tečnog naftnog gasa kapaciteta većeg od 1000m3, postrojenja za skladištenje i pretakanje nafte i derivata nafte kapaciteta većeg od 1000m3, objekti za proizvodnju, transport i distribuciju toplotne energije za daljinsko grijanje i/ili hlađenje snage 1MWth i više, objekti za proizvodnju, transport i distribuciju toplotne energije za industrijsku upotrebu snage 1MWth i više i stabilne posude pod pritiskom, objekti u kojima se proizvode i skladište opasne materije, građevine i postrojenja za hemijsku i tešku industriju i postrojenja za dobijanje energije iz otpada snage od 1MW i viš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2"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DA5421F-5A61-48DC-BCB8-E44D592C652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46080" y="95400"/>
            <a:ext cx="6908760" cy="3887640"/>
          </a:xfrm>
          <a:prstGeom prst="rect">
            <a:avLst/>
          </a:prstGeom>
          <a:ln w="0">
            <a:noFill/>
          </a:ln>
        </p:spPr>
      </p:sp>
      <p:sp>
        <p:nvSpPr>
          <p:cNvPr id="254"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Vrs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7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loženi inženjerski objekti, u smislu ovog zakona, su: auto-putevi, brze saobraćajnice, magistralni i regionalni putevi, tuneli, mostovi, željezničke pruge, aerodromi, distributivni i prenosni elektroenergetski objekti (nadzemni i podzemni dalekovodi i trafostanice) naponskog nivoa 35 kV i više, proizvodni elektro energetski objekti snage 1MW i više (hidroelektrane, termoelektrane, vjetroelektrane, solarne elektrane i dr.), luke, gasovodi protoka većeg od 100 m3/h, brane i akumulacije ispunjene pepelom za koje je propisano tehničko osmatranje, postrojenje za skladištenje i pretakanje tečnog prirodnog gasa kapaciteta većeg od 1000m3, postrojenja za skladištenje i pretakanje tečnog naftnog gasa kapaciteta većeg od 1000m3, postrojenja za skladištenje i pretakanje nafte i derivata nafte kapaciteta većeg od 1000m3, objekti za proizvodnju, transport i distribuciju toplotne energije za daljinsko grijanje i/ili hlađenje snage 1MWth i više, objekti za proizvodnju, transport i distribuciju toplotne energije za industrijsku upotrebu snage 1MWth i više i stabilne posude pod pritiskom, objekti u kojima se proizvode i skladište opasne materije, građevine i postrojenja za hemijsku i tešku industriju i postrojenja za dobijanje energije iz otpada snage od 1MW i viš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1443AA9-30B8-493C-AE29-DA56F46F950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FC34F1A-58EF-427B-A924-982061CB482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ubjekti obavljanja djelat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2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jelatnost izrade tehničke dokumentacije, revizije tehničke dokumentacije, građenja objekata odnosno izvođenja pojedinih radova na građenju objekta i vršenje stručnog nadzora može da obavlja privredno društvo, pravno lice, odnosno preduzetnik (u daljem tekstu: privredno društvo), koje ispunjava uslove utvrđe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reviziju tehničke dokumentacije i vršenje stručnog nadzora za izgadnju objekata infrastrukture odnosno za objekte u državnoj svojini, koji se grade za potrebe državnih organa i pravnih lica čiji je osnivač država, može vršiti komisija iz člana 124 stav 5 ovog zakona, kao i privredno društvo u vlasništvu države ako ispunjava uslove utvrđe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reviziju tehničke dokumentacije i vršenje stručnog nadzora za izgradnju objekata infrastrukture odnosno za objekte na kojima svojinsko-pravna ovlašćenja vrši jedinica lokalne samouprave, koji se grade za potrebe organa lokalne samouprave, organa lokalne uprave, organizacija i javnih službi čiji je osnivač jedinica lokalne samouprave, može vršiti privredno društvo u vlasništvu jedinice lokalne samouprave, ako ispunjava uslove utvrđe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vije ili više jedinica lokalne samouprave mogu organizovati zajedničko obavljanje poslova iz stava 3 ovog člana,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jelatnost izrade tehničke dokumentacije i građenja objekta, odnosno izvođenja pojedinih radova na građenju objekta, može da obavlja i strano privredno društvo, ako ispunjava uslove utvrđene ovim zakonom.</a:t>
            </a:r>
            <a:endParaRPr b="0" lang="en-US" sz="900" spc="-1" strike="noStrike">
              <a:solidFill>
                <a:srgbClr val="000000"/>
              </a:solidFill>
              <a:latin typeface="Arial"/>
            </a:endParaRPr>
          </a:p>
        </p:txBody>
      </p:sp>
      <p:sp>
        <p:nvSpPr>
          <p:cNvPr id="210" name="PlaceHolder 2"/>
          <p:cNvSpPr>
            <a:spLocks noGrp="1"/>
          </p:cNvSpPr>
          <p:nvPr>
            <p:ph type="sldImg"/>
          </p:nvPr>
        </p:nvSpPr>
        <p:spPr>
          <a:xfrm>
            <a:off x="-46080" y="95400"/>
            <a:ext cx="6908760" cy="38876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46080" y="95400"/>
            <a:ext cx="6908760" cy="3887640"/>
          </a:xfrm>
          <a:prstGeom prst="rect">
            <a:avLst/>
          </a:prstGeom>
          <a:ln w="0">
            <a:noFill/>
          </a:ln>
        </p:spPr>
      </p:sp>
      <p:sp>
        <p:nvSpPr>
          <p:cNvPr id="257"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rađevinska dozvola izdaje se rješenjem na osnov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dejnog projekta, odnosno glavnog projekta, ovjerenih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zvještaja o pozitivnoj reviziji idejnog projekta odnosno glavnog pro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dokaza o pravu svojine, odnosno drugom pravu na građevinskom zemljištu (list nepokretnosti, ugovor o koncesiji, odluka o utvrđivanju javnog interesa i dr.) ili dokaza o pravu građenja, odnosno drugom pravu na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aglasnost na elaborat zaštite životne sredine ako se građevinska dozvola izdaje na osnovu idejnog projekta, odnosno saglasnosti, mišljenja i drugih dokaza utvrđenih posebnim propisima ako se građevinska dozvola izdaje na osnovu glavnog pro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dokaza o osiguranju od odgovornosti privrednog društva koje je izradilo i revidovalo idejni, odnosno glavn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AKLE, NESTO JE DRUGACIJA DOKUMENTACIJA KOJA SE PODNOSI UZ PRIJAVU GRAĐENJA INSPEKCIJSKOM ORGANU!!!!</a:t>
            </a:r>
            <a:endParaRPr b="0" lang="en-US" sz="900" spc="-1" strike="noStrike">
              <a:solidFill>
                <a:srgbClr val="000000"/>
              </a:solidFill>
              <a:latin typeface="Arial"/>
            </a:endParaRPr>
          </a:p>
        </p:txBody>
      </p:sp>
      <p:sp>
        <p:nvSpPr>
          <p:cNvPr id="25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38B90D5-E6E1-43A5-BC4C-D20D3F1A07F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CBC4E9D-0968-41EA-A25B-A29A64CBF57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46080" y="95400"/>
            <a:ext cx="6908760" cy="3887640"/>
          </a:xfrm>
          <a:prstGeom prst="rect">
            <a:avLst/>
          </a:prstGeom>
          <a:ln w="0">
            <a:noFill/>
          </a:ln>
        </p:spPr>
      </p:sp>
      <p:sp>
        <p:nvSpPr>
          <p:cNvPr id="261"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Ako je za građenje objekta tehničkom dokumentacijom predviđeno ugrađivanje djelova, elemenata i opreme koja je fabrički proizvedena, na gradilištu, uz dokumentaciju iz stava 1 ovog člana, izvođač radova dužan je da ima i prateću dokumentaciju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6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27C266F-91C8-4915-88D2-17256539DA1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2"/>
          <p:cNvSpPr>
            <a:spLocks noGrp="1"/>
          </p:cNvSpPr>
          <p:nvPr>
            <p:ph type="sldImg"/>
          </p:nvPr>
        </p:nvSpPr>
        <p:spPr>
          <a:xfrm>
            <a:off x="-46080" y="95400"/>
            <a:ext cx="6908760" cy="38876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A331ADE-B381-4EAE-A851-091D1E630CC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46080" y="95400"/>
            <a:ext cx="6908760" cy="3887640"/>
          </a:xfrm>
          <a:prstGeom prst="rect">
            <a:avLst/>
          </a:prstGeom>
          <a:ln w="0">
            <a:noFill/>
          </a:ln>
        </p:spPr>
      </p:sp>
      <p:sp>
        <p:nvSpPr>
          <p:cNvPr id="267"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46080" y="95400"/>
            <a:ext cx="6908760" cy="3887640"/>
          </a:xfrm>
          <a:prstGeom prst="rect">
            <a:avLst/>
          </a:prstGeom>
          <a:ln w="0">
            <a:noFill/>
          </a:ln>
        </p:spPr>
      </p:sp>
      <p:sp>
        <p:nvSpPr>
          <p:cNvPr id="269"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091B2F4-2805-4D25-B13F-40660964DDB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46080" y="95400"/>
            <a:ext cx="6908760" cy="3887640"/>
          </a:xfrm>
          <a:prstGeom prst="rect">
            <a:avLst/>
          </a:prstGeom>
          <a:ln w="0">
            <a:noFill/>
          </a:ln>
        </p:spPr>
      </p:sp>
      <p:sp>
        <p:nvSpPr>
          <p:cNvPr id="272"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obrađuje građevinski otpad nastao tokom građenja na gradilištu u skladu sa planom upravljanja građevinskim otpadom, sačinjenim u skladu sa posebnim propisima, i</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kloni objekte privremenog karaktera koji su služili za izvođenje radova na gradilištu u roku od 30 dana od dana završetka radova</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uva na gradilištu gradilišnu dokumentaciju</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ijesti nadležni inspekcijski organ u slučaju nailaska na arheološka nalazišta, fosile, aktivna klizišta, podzemne vode i sl. i obustavi radove koji ih mogu ugroziti</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pozori nadzorni organ u slučaju da u revidovanom glavnom projektu uoči nedostatke </a:t>
            </a:r>
            <a:r>
              <a:rPr b="0" lang="sr-Latn-ME" sz="900" spc="-1" strike="noStrike">
                <a:solidFill>
                  <a:srgbClr val="404040"/>
                </a:solidFill>
                <a:latin typeface="Arial"/>
              </a:rPr>
              <a:t>koji ne utiču na promjenu horizontalnih i vertikalnih gabarita objekta, kao ni promjenu fasade zgrade (ako se radi o zgradi)</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a po nalogu nadzornog organa obustavi radove, u slučaju da uočeni nedostaci u glavnom projektu ugrožavaju život i zdravlje ljudi, sigurnost objekta, okolinu, saobraćaj i/ili susjedne objekte</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ijesti stručni nadzor ako zbog nedostataka prouzrokovanih nepredviđenim okolnostima (nedovoljna nosivost tla, visoki nivo podzemnih voda, promjene djelova elemenata i opreme koja je fabrički proizvedena i instalacije i sl.), ne može da izvodi radove po revidovanom glavnom projektu</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A234DE8-B7F9-4CA9-9B00-1DAB53171C9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A597588-5B7B-4544-97DA-153ACE1E16B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700" spc="-1" strike="noStrike">
                <a:solidFill>
                  <a:srgbClr val="000000"/>
                </a:solidFill>
                <a:latin typeface="Arial"/>
              </a:rPr>
              <a:t>Ukidanje licenci (Član 139)</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Ministarstvo će ukinuti licencu ako:</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1) imalac licence djelatnost vrši suprotno članu 122 stav 3, članu 123 st. 2, 3 i 4, članu 124 stav 2 i članu 125 st. 2, 3 i 4 ovog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2) se utvrdi da je licenca izdata na osnovu netačnih podatak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3) imalac licence prestane da ispunjava uslove za obavljanje djelatnosti iz člana 122 st. 1, 2, 4 i 5, člana 123 st. 1 i 5, člana 124 st. 1 i 3 i člana 125 stav 1 ovog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4) imaocu licence bude oduzeta poslovna sposobnos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5) imalac licence prestane da postoji po sili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6) imalac licence postane trajno nesposoban za obavljanje poslova, i</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7) imalac licence u toku jedne godine se nije stručno usavršavao odnosno ako u toku jedne godine nije stekao propisani broj bodova u skladu sa članom 125a ovog zakona, u kom slučaju predlog za ukidanje licence podnosi Komor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Ministarstvo je dužno da po službenoj dužnosti pokrene postupak ukidanja licence ako sazna da su se stekli uslovi iz stava 1 ovog čla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Ako revident, stručni nadzor, revizor, glavni državni odnosno gradski arhitekta, nadležni organ lokalne uprave, organ za tehničke uslove, odnosno nadležni inspekcijski organ sazna da su se stekli uslovi za ukidanje licence, dužan je da podnese predlog za ukidanje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Ukidanje licence, u slučaju iz stava 1 tačka 1 ovog člana vrši se na period od tri mjeseca do pet godina ili trajno ako imalac licence djelatnost vrši suprotno čl. 122 i 123 ovog zakona, odnosno na period od jedne do pet godina ili trajno ako imalac licence djelatnost vrši suprotno čl. 124 i 125 ovog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Revidentu odnosno stručnom nadzoru i revizoru iz člana 125 st. 3 i 4 ovog zakona licenca se obavezno ukida trajno ako je sačinio pozitivan izvještaj o reviziji, a osnovni urbanistički parametri (indeks izgrađenosti, indeks zauzetosti, spratnost odnosno visina objekta i odnos prema građevinskoj liniji) u revidovanom glavnom projektu nijesu u skladu sa urbanističko-tehničkim uslovima, odnosno objekat koji se gradi nije u skladu sa osnovnim urbanističkim parametrima iz revidovanog glavnog projekt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Donošenjem izvršnog rješenja kojim se ukida licenca prestaju sva prava po osnovu izdate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O ukidanju licence Ministarstvo obavještava nadležni inspekcijski organ u roku od tri dana od dana donošenja rješenja o ukidanju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Licenca se ukida na način i po postupku po kojem se izdaj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Nakon isteka roka na koji je licenca ukinuta, može se podnijeti zahtjev za izdavanje nove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Ministarstvo je dužno da na internet stranici objavi rješenje o ukidanju licence, u roku od tri dana od dana donošenja rješenj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700" spc="-1" strike="noStrike">
                <a:solidFill>
                  <a:srgbClr val="000000"/>
                </a:solidFill>
                <a:latin typeface="Arial"/>
              </a:rPr>
              <a:t>Registar licenci (Član 140)</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Izdate i oduzete licence upisuju se u registar licenci koji vodi Ministarstvo. Podaci iz registra su javni i objavljuju se na internet stranici Ministarstv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700" spc="-1" strike="noStrike">
                <a:solidFill>
                  <a:srgbClr val="000000"/>
                </a:solidFill>
                <a:latin typeface="Arial"/>
              </a:rPr>
              <a:t>Podzakonski akt za licence (Član 141)</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Bliži način i postupak izdavanja, mirovanja i oduzimanja licenci i način vođenja registara licenci propisuje Ministarstvo..</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13" name="PlaceHolder 2"/>
          <p:cNvSpPr>
            <a:spLocks noGrp="1"/>
          </p:cNvSpPr>
          <p:nvPr>
            <p:ph type="sldImg"/>
          </p:nvPr>
        </p:nvSpPr>
        <p:spPr>
          <a:xfrm>
            <a:off x="-46080" y="95400"/>
            <a:ext cx="6908760" cy="38876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i postupci su definisani modelima ugovora (FIDIC) ili Posebnim uzansama u građenju</a:t>
            </a:r>
            <a:endParaRPr b="0" lang="en-US" sz="900" spc="-1" strike="noStrike">
              <a:solidFill>
                <a:srgbClr val="000000"/>
              </a:solidFill>
              <a:latin typeface="Arial"/>
            </a:endParaRPr>
          </a:p>
        </p:txBody>
      </p:sp>
      <p:sp>
        <p:nvSpPr>
          <p:cNvPr id="27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FE06E13-C343-4E21-A90E-9777F21A3A6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6" name="PlaceHolder 2"/>
          <p:cNvSpPr>
            <a:spLocks noGrp="1"/>
          </p:cNvSpPr>
          <p:nvPr>
            <p:ph type="sldImg"/>
          </p:nvPr>
        </p:nvSpPr>
        <p:spPr>
          <a:xfrm>
            <a:off x="-46080" y="95400"/>
            <a:ext cx="6908760" cy="38876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revizije tehničke dokumentacije i stručnog nadz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koje vrši reviziju tehničke dokumentacije (revident) odnosno privredno društvo koje obavlja poslove stručnog nadzora nad građenjem objekta (stručni nadzor), dužno je da za obavljanje djelatnosti revizije tehničke dokumentacije i stručnog nadzora ima najmanje po jednog zaposlenog revizora i to za: arhitektonski, građevinski, elektrotehnički i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Revident odnosno stručni nadzor odgovoran je za usklađenost tehničke dokumentacije sa urbanističko-tehničkim uslovima, ovim zakonom i posebnim propisima, odnosno za usklađenost izgrađenog objekta sa revidovanim glavnim projektom, kao i za štetu koja bi mogla da nastane investitorima ili trećim lic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dent odnosno stručni nadzor dužan je da imenuje revizora koji rukovodi revizijom cjelokupne tehničke dokumentacije i revizora za svaki posebni dio tehničke dokumentacije, odnosno revizora koji rukovodi stručnim nadzorom nad građenjem cjelokupnog objekta i revizora za pojedine radove na građenju objekta.</a:t>
            </a:r>
            <a:endParaRPr b="0" lang="en-US" sz="900" spc="-1" strike="noStrike">
              <a:solidFill>
                <a:srgbClr val="000000"/>
              </a:solidFill>
              <a:latin typeface="Arial"/>
            </a:endParaRPr>
          </a:p>
        </p:txBody>
      </p:sp>
      <p:sp>
        <p:nvSpPr>
          <p:cNvPr id="27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E20DB65-9AFB-4FB6-B173-E53E260802C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9" name="PlaceHolder 2"/>
          <p:cNvSpPr>
            <a:spLocks noGrp="1"/>
          </p:cNvSpPr>
          <p:nvPr>
            <p:ph type="sldImg"/>
          </p:nvPr>
        </p:nvSpPr>
        <p:spPr>
          <a:xfrm>
            <a:off x="-46080" y="95400"/>
            <a:ext cx="6908760" cy="38876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vlašćenog inženjera (za ostale obj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može da bude fizičko lice koje obavlja poslove izrade tehničke dokumentacije odnosno građenja objekta, odgovarajuće struke, koji posjeduje najmanje kvalifikaciju VII1 podnivoa okvira kvalifikacija i najmanje tri godine radnog iskustva na stručnim poslovima izrade tehničke dokumentacije i/ili građenja objekta, položen stručni ispit i da je član Inženjerske komore Crne Gore (u daljem tekstu: Kom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Lice iz stava 1 ovog člana odgovorno je za izradu tehničke dokumentacije u skladu sa urbanističko-tehničkim uslovima, ovim zakonom, posebnim propisima i pravilima struke u odnosu na pitanja koja nijesu uređena ovim zakonom, odnosno za rukovođenje građenjem pojedinih vrsta radova na objektu i za izvođenje tih radova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tehničke dokumentacije u cjelini odgovoran je za usaglašenost svih faza tehničke dokumentacije, odnosno ovlašćeni inženjer koji rukovodi građenjem objekta u cjelini odgovoran je za međusobnu usklađenost i koordinaciju radova koji se izvode na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izrađuje dio tehničke dokumentacije odgovoran je za dio koji je izradio, odnosno ovlašćeni inženjer koji rukovodi građenjem pojedinih vrsta radova na objektu odgovoran je za izvođenje tih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cjelokupne tehničke dokumentacije istovremeno može biti i ovlašćeni inženjer dijela tehničke dokumentacije, odnosno ovlašćeni inženjer koji rukovodi građenjem objekta u cjelini istovremeno može biti i ovlašćeni inženjer za pojedine radove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vlašćeni inženjer za složeni inženjerski ob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love ovlašćenog inženjera za složeni inženjerski objekat može da vrši ovlašćeni inženjer iz člana 123 ovog zakona koji ima najmanje tri godine radnog iskustva na stručnim poslovima izrade tehničke dokumentacije i/ili građenja složenog inženjersk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stava 1 ovog člana utvrđuje rješenjem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gistar lica iz stava 1 ovog člana vodi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e uslove i kriterijume za obavljanje poslova iz stava 1 ovog člana, u zavisnosti od vrste složenih inženjerskih objekata, propisuje organ državne uprave nadležan za djelatnost koja se vrši u složenom inženjerskom objektu, po prethodno pribavljenoj saglasnosti Ministarst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1"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5941AB5-D443-49DA-8472-2E5EF87E714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2"/>
          <p:cNvSpPr>
            <a:spLocks noGrp="1"/>
          </p:cNvSpPr>
          <p:nvPr>
            <p:ph type="sldImg"/>
          </p:nvPr>
        </p:nvSpPr>
        <p:spPr>
          <a:xfrm>
            <a:off x="-46080" y="95400"/>
            <a:ext cx="6908760" cy="38876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revizora (za ostale obj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može da bude fizičko lice koje obavlja poslove revizije tehničke dokumentacije odnosno stučnog nadzora nad građenjem, koje je crnogorski državljanin sa najmanje sedam godina radnog iskustva na izradi tehničke dokumentacije i/ili građenja objekta u svojstvu ovlašćenog inženjera, položenim stručnim ispitom i da je član Komo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dužan je da izvrši provjeru usklađenosti tehničke dokumentacije sa urbanističko-tehničkim uslovima, ovim zakonom, posebnim propisima i odgovoran je za tačnost izvještaja o usklađenosti, odnosno da vrši stručni nadzor nad građenjem objekta i odgovoran je da se t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odnosno stručnim nadzorom nad građenjem objekta u cjelini, odgovoran je za provjeru međusobne usklađenosti svih djelova tehničke dokumentacije, odnosno za provjeru međusobne usklađenost svih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dijela tehničke dokumentacije, odnosno stručnim nadzorom nad izvođenjem pojedinih vrsta radova na objektu odgovoran je za reviziju dijela tehničke dokumentacije koji je revidovao, odnosno da se pojedin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može biti istovremeno i revizor dijela tehničke dokumentacije, odnosno revizor koji rukovodi stručnim nadzorom nad građenjem objekta u cjelini može biti istovremeno i revizor nad izvođenjem pojedinih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Revizor i vršilac tehničkog pregleda za složeni inženjerski ob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love revizora za složeni inženjerski objekat odnosno poslove tehničkog pregleda za složeni inženjerski objekat može da vrši revizor iz člana 125 ovog zakona ako ima četiri godine radnog iskustva na izradi tehničke dokumentacije i/ili građenja složenih inženjerskih objekata u svojstvu ovlašćenog inženje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love iz stava 1 ovog člana može da obavlja i strano fizičko lice, ako ispunjava uslove utvrđene ovim čla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st. 1 i 2 ovog člana utvrđuje rješenjem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gistar lica iz st. 1 i 2 ovog člana vodi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e uslove i kriterijume za obavljanje poslova iz stava 1 ovog člana, u zavisnosti od vrste složenih inženjerskih objekata, propisuje organ državne uprave nadležan za djelatnost koja se vrši u složenom inženjerskom objektu, po prethodno pribavljenoj saglasnosti Ministarst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ACCC5E0-4089-4F55-915A-54108351E64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5" name="PlaceHolder 2"/>
          <p:cNvSpPr>
            <a:spLocks noGrp="1"/>
          </p:cNvSpPr>
          <p:nvPr>
            <p:ph type="sldImg"/>
          </p:nvPr>
        </p:nvSpPr>
        <p:spPr>
          <a:xfrm>
            <a:off x="-46080" y="95400"/>
            <a:ext cx="6908760" cy="38876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2 ovog zakona koje je izradilo urbanistički projekat odnosno tehničku dokumentaciju dužno je da potpiše naprednim elektronskim potpisom (u daljem tekstu: elektronski potpis) svaki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revidovalo tehničku dokumentaciju dužno je da potpiše elektronskim potpisom svaki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vršilo stručni nadzor dužno je da potpiše elektronskim potpisom konačni izvještaj o vršenju stručnog nadzora, kao i izjavu iz člana 103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govornim licem u privrednom društvu iz st. 1, 2 i 3 ovog člana, osim lica koje je ovlašćeno da postupa u ime privrednog društva, smatra s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i inženjer koji rukovodi izradom urbanističkog projekta odnosno tehničke dokumentacije u cjelini, koji je dužan da elektronskim potpisom potpiše svaki posebni dio urbanističkog projekta odnosno tehničke dokumentacije čijom izrad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i inženjer koji izrađuje dio urbanističkog projekta odnosno tehničke dokumentacije i koji je dužan da elektronskim potpisom potpiše taj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revizor tehničke dokumentacije koji rukovodi revizijom tehničke dokumentacije u cjelini, koji je dužan da elektronskim potpisom potpiše svaki posebni dio tehničke dokumentacije čijom revizij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revizor dijela tehničke dokumentacije koji reviduje dio tehničke dokumentacije i koji je dužan da elektronskim potpisom potpiše taj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vlašćeni inženjer koji rukovodi građenjem objekta u cjelini, koji je dužan da elektronskim potpisom potpiše izjavu da je objekat građen u skladu sa revidovanim glavnim projektom, ovim zakonom, posebnim propisima i pravilima struke, odnosno da je objekat podoban za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vlašćeni inženjer koji rukovodi izvođenjem pojedinih vrsta radova na građenju objekta koji je dužan da elektronskim potpisom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revizor koji rukovodi stručnim nadzorom nad građenjem objekta u cjelini, koji je dužan da elektronskim potpisom potpiše konačni izvještaj o vršenju stručnog nadzora nad građenjem objekta po fazama građenja i konačni izvještaj o izvršenom stručnom nadzoru nad građenjem ob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evizor koji vrši stručni nadzor nad građenjem pojedinih vrsta radova na objektu, dužan je da elektronskim potpisom potpiše izvještaj o stručnom nadzoru nad građenjem objekta po fazama građenja i konačni izvještaj o izvršenom stručnom nadzoru nad građenjem objekta.</a:t>
            </a:r>
            <a:endParaRPr b="0" lang="en-US" sz="900" spc="-1" strike="noStrike">
              <a:solidFill>
                <a:srgbClr val="000000"/>
              </a:solidFill>
              <a:latin typeface="Arial"/>
            </a:endParaRPr>
          </a:p>
        </p:txBody>
      </p:sp>
      <p:sp>
        <p:nvSpPr>
          <p:cNvPr id="28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A147547-2530-478A-A28F-8D015D55C0E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8" name="PlaceHolder 2"/>
          <p:cNvSpPr>
            <a:spLocks noGrp="1"/>
          </p:cNvSpPr>
          <p:nvPr>
            <p:ph type="sldImg"/>
          </p:nvPr>
        </p:nvSpPr>
        <p:spPr>
          <a:xfrm>
            <a:off x="-46080" y="95400"/>
            <a:ext cx="6908760" cy="38876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2 ovog zakona koje je izradilo urbanistički projekat odnosno tehničku dokumentaciju dužno je da potpiše naprednim elektronskim potpisom (u daljem tekstu: elektronski potpis) svaki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revidovalo tehničku dokumentaciju dužno je da potpiše elektronskim potpisom svaki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vršilo stručni nadzor dužno je da potpiše elektronskim potpisom konačni izvještaj o vršenju stručnog nadzora, kao i izjavu iz člana 103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govornim licem u privrednom društvu iz st. 1, 2 i 3 ovog člana, osim lica koje je ovlašćeno da postupa u ime privrednog društva, smatra s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i inženjer koji rukovodi izradom urbanističkog projekta odnosno tehničke dokumentacije u cjelini, koji je dužan da elektronskim potpisom potpiše svaki posebni dio urbanističkog projekta odnosno tehničke dokumentacije čijom izrad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i inženjer koji izrađuje dio urbanističkog projekta odnosno tehničke dokumentacije i koji je dužan da elektronskim potpisom potpiše taj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revizor tehničke dokumentacije koji rukovodi revizijom tehničke dokumentacije u cjelini, koji je dužan da elektronskim potpisom potpiše svaki posebni dio tehničke dokumentacije čijom revizij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revizor dijela tehničke dokumentacije koji reviduje dio tehničke dokumentacije i koji je dužan da elektronskim potpisom potpiše taj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vlašćeni inženjer koji rukovodi građenjem objekta u cjelini, koji je dužan da elektronskim potpisom potpiše izjavu da je objekat građen u skladu sa revidovanim glavnim projektom, ovim zakonom, posebnim propisima i pravilima struke, odnosno da je objekat podoban za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vlašćeni inženjer koji rukovodi izvođenjem pojedinih vrsta radova na građenju objekta koji je dužan da elektronskim potpisom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revizor koji rukovodi stručnim nadzorom nad građenjem objekta u cjelini, koji je dužan da elektronskim potpisom potpiše konačni izvještaj o vršenju stručnog nadzora nad građenjem objekta po fazama građenja i konačni izvještaj o izvršenom stručnom nadzoru nad građenjem ob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evizor koji vrši stručni nadzor nad građenjem pojedinih vrsta radova na objektu, dužan je da elektronskim potpisom potpiše izvještaj o stručnom nadzoru nad građenjem objekta po fazama građenja i konačni izvještaj o izvršenom stručnom nadzoru nad građenjem objekta.</a:t>
            </a:r>
            <a:endParaRPr b="0" lang="en-US" sz="900" spc="-1" strike="noStrike">
              <a:solidFill>
                <a:srgbClr val="000000"/>
              </a:solidFill>
              <a:latin typeface="Arial"/>
            </a:endParaRPr>
          </a:p>
        </p:txBody>
      </p:sp>
      <p:sp>
        <p:nvSpPr>
          <p:cNvPr id="29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33DD814-EA03-4CF1-8504-53DA2107350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1" name="PlaceHolder 2"/>
          <p:cNvSpPr>
            <a:spLocks noGrp="1"/>
          </p:cNvSpPr>
          <p:nvPr>
            <p:ph type="sldImg"/>
          </p:nvPr>
        </p:nvSpPr>
        <p:spPr>
          <a:xfrm>
            <a:off x="-46080" y="95400"/>
            <a:ext cx="6908760" cy="38876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E986EBD-C216-4580-A2E7-1854E1CC9C5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46080" y="95400"/>
            <a:ext cx="6908760" cy="3887640"/>
          </a:xfrm>
          <a:prstGeom prst="rect">
            <a:avLst/>
          </a:prstGeom>
          <a:ln w="0">
            <a:noFill/>
          </a:ln>
        </p:spPr>
      </p:sp>
      <p:sp>
        <p:nvSpPr>
          <p:cNvPr id="21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šilac tehničkog pregleda iz člana 192 ovog zakona koji je vršio tehnički pregled složenog inženjerskog objekta dužan je da potpiše elektronskim potpisom izjavu iz člana 190 stav 4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šilac tehničkog pregleda dužan je da elektronskim potpisom potpiše izvještaj o tehničkom pregledu složenog inženjersk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šilac revizije iz člana 192 ovog zakona dužan je da potpiše elektronskim potpisom svaki dio tehničke dokumentacije koji je revidova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vođač radova i vršilac nadzora iz člana 192 ovog zakona, dužni su da potpišu elektronskim potpisom izjavu iz člana 190 ovog zakona, da je objekat izgrađen u skladu sa građevinskom dozvolom i revidovanim glavnim pro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A3EEBAF-D925-4C25-A34E-2DB47F80BA2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4" name="PlaceHolder 2"/>
          <p:cNvSpPr>
            <a:spLocks noGrp="1"/>
          </p:cNvSpPr>
          <p:nvPr>
            <p:ph type="sldImg"/>
          </p:nvPr>
        </p:nvSpPr>
        <p:spPr>
          <a:xfrm>
            <a:off x="-46080" y="95400"/>
            <a:ext cx="6908760" cy="38876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izrade tehničke dokumentacije i građ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koje izrađuje tehničku dokumentaciju (projektant) odnosno privredno društvo koje gradi objekat (izvođač radova), dužno je da za obavljanje djelatnosti izrade tehničke dokumentacije, dijela tehničke dokumentacije odnosno građenje ili izvođenje pojedinih vrsta radova na građenju objekta, ima najmanje jednog zaposlenog ovlašćenog inženjera po vrsti projekta koji izrađuje i to za: arhitektonski, građevinski, elektrotehnički i mašinski projekat, odnosno vrsti radova koje izvodi na osnovu tih pro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ljanje pojedinih poslova iz stava 1 ovog člana projektant odnosno izvođač radova može da obezbijedi i na osnovu zaključenog ugovora sa drugim privrednim društvom koje ima zaposlenog ovlašćenog inženjera za određenu vrstu projekta odnosno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Privredno društvo iz stava 1 ovog člana obavezno je da tehničku dokumentaciju izrađuje u skladu sa urbanističko-tehničkim uslovima, ovim zakonom, posebnim propisima i pravilima struke u odnosu na pitanja koja nijesu uređena ovim zakonom, odnosno izvodi radov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z stava 1 ovog člana, dužno je da imenuje ovlašćenog inženjera koji rukovodi izradom cjelokupne tehničke dokumentacije odnosno ovlašćenog inženjera koji rukovodi građenjem objekta u cjelin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z st. 1 i 2 ovog člana, dužno je da imenuje ovlašćenog inženjera za svaku vrstu projekta iz stava 1 ovog člana, odnosno ovlašćenog inženjera za svaku vrstu radova koje izvodi na osnovu tih pro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76D8255-C892-462A-8054-AC131F4A0E8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9" name="PlaceHolder 2"/>
          <p:cNvSpPr>
            <a:spLocks noGrp="1"/>
          </p:cNvSpPr>
          <p:nvPr>
            <p:ph type="sldImg"/>
          </p:nvPr>
        </p:nvSpPr>
        <p:spPr>
          <a:xfrm>
            <a:off x="-46080" y="95400"/>
            <a:ext cx="6908760" cy="38876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revizije tehničke dokumentacije i stručnog nadz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koje vrši reviziju tehničke dokumentacije (revident) odnosno privredno društvo koje obavlja poslove stručnog nadzora nad građenjem objekta (stručni nadzor), dužno je da za obavljanje djelatnosti revizije tehničke dokumentacije i stručnog nadzora ima najmanje po jednog zaposlenog revizora i to za: arhitektonski, građevinski, elektrotehnički i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Izuzetno od stava 1 ovog člana, privredno društvo iz stava 1 ovog člana dužno je da ima, za zgrade bruto građevinske površine do 300 m2, najmanje jednog zaposlenog revizora za arhitektonski ili građevinski projekat; za zgrade bruto građevinske površine od 300 do 1.000 m2, najmanje jednog zaposlenog revizora za arhitektonski i građevinski projekat; za zgrade bruto gradjevinske površine od 1.000 do 10.000 m2, najmanje jednog zaposlenog revizora za arhitektonski, građevinski i elektrotehnički projekat i za inženjerske objekte koji nijesu složeni inženjerski objekti, najmanje jednog zaposlenog revizora za dva projekta iz člana 78 stav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dent odnosno stručni nadzor odgovoran je za usklađenost tehničke dokumentacije sa urbanističko-tehničkim uslovima, ovim zakonom i posebnim propisima, odnosno za usklađenost izgrađenog objekta sa revidovanim glavnim projektom, kao i za štetu koja bi mogla da nastane investitorima ili trećim lic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dent odnosno stručni nadzor dužan je da imenuje revizora koji rukovodi revizijom cjelokupne tehničke dokumentacije i revizora za svaki posebni dio tehničke dokumentacije, odnosno revizora koji rukovodi stručnim nadzorom nad građenjem cjelokupnog objekta i revizora za pojedine radove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Izuzetno od stava 1 ovog člana, za objekte finansirane u cjelosti ili djelimično iz: državnog budžeta, donacija, kredita međunarodnih finansijskih institucija, sredstava drugih država kroz projekte međunarodne saradnje i pomoći, reviziju odnosno stručni nadzor može da obavlja i komisija koju čine fizička lica koja ispunjavaju uslove iz člana 19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U slučaju iz stava 5 ovog člana, komisiju određuje Ministarstvo na predlog investit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Fizičko lice koje je član komisije iz stava 5 ovog člana, dužno je da prije početka obavljanja djelatnosti zaključi ugovor o osiguranju od profesionalne odgovornosti za štetu koja može da nastane investitorima ili trećim licima od vršenja njegove djelatnosti i dostavi dokaz o zaključenom ugovoru o osiguranju nadležnom inspekcijskom orga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Minimalnu sumu osiguranja na koju se zaključuje ugovor iz stava 7 ovog člana, način utvrđivanja osigurane sume i visinu naknade za rad komisije iz stava 5 ovog člana propisuje Vla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1"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2F28166-D34F-482D-94C7-CB64FBED096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2"/>
          <p:cNvSpPr>
            <a:spLocks noGrp="1"/>
          </p:cNvSpPr>
          <p:nvPr>
            <p:ph type="sldImg"/>
          </p:nvPr>
        </p:nvSpPr>
        <p:spPr>
          <a:xfrm>
            <a:off x="-46080" y="95400"/>
            <a:ext cx="6908760" cy="3887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vlašćenog inženje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može da bude fizičko lice koje obavlja poslove izrade tehničke dokumentacije odnosno građenja objekta, odgovarajuće struke, koji posjeduje najmanje kvalifikaciju VII1 podnivoa okvira kvalifikacija i najmanje tri godine radnog iskustva na stručnim poslovima izrade tehničke dokumentacije i/ili građenja objekta,</a:t>
            </a:r>
            <a:r>
              <a:rPr b="0" lang="sr-Latn-ME" sz="900" spc="-1" strike="noStrike" u="sng">
                <a:solidFill>
                  <a:srgbClr val="ff0000"/>
                </a:solidFill>
                <a:uFillTx/>
                <a:latin typeface="Arial"/>
              </a:rPr>
              <a:t> položen stručni ispit i da je član Inženjerske komore Crne Gore (u daljem tekstu: Kom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Lice iz stava 1 ovog člana odgovorno je za izradu tehničke dokumentacije u skladu sa urbanističko-tehničkim uslovima, ovim zakonom, posebnim propisima i pravilima struke u odnosu na pitanja koja nijesu uređena ovim zakonom, odnosno za rukovođenje građenjem pojedinih vrsta radova na objektu i za izvođenje tih radova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tehničke dokumentacije u cjelini odgovoran je za usaglašenost svih faza tehničke dokumentacije, odnosno ovlašćeni inženjer koji rukovodi građenjem objekta u cjelini odgovoran je za međusobnu usklađenost i koordinaciju radova koji se izvode na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izrađuje dio tehničke dokumentacije odgovoran je za dio koji je izradio, odnosno ovlašćeni inženjer koji rukovodi građenjem pojedinih vrsta radova na objektu odgovoran je za izvođenje tih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cjelokupne tehničke dokumentacije istovremeno može biti i ovlašćeni inženjer dijela tehničke dokumentacije, odnosno ovlašćeni inženjer koji rukovodi građenjem objekta u cjelini istovremeno može biti i ovlašćeni inženjer za pojedine radove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B78CCE2-9FAF-4834-A001-5C716E4C562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5" name="PlaceHolder 2"/>
          <p:cNvSpPr>
            <a:spLocks noGrp="1"/>
          </p:cNvSpPr>
          <p:nvPr>
            <p:ph type="sldImg"/>
          </p:nvPr>
        </p:nvSpPr>
        <p:spPr>
          <a:xfrm>
            <a:off x="-46080" y="95400"/>
            <a:ext cx="6908760" cy="38876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reviz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može da bude fizičko lice koje obavlja poslove revizije tehničke dokumentacije odnosno stučnog nadzora nad građenjem, koje je crnogorski državljanin sa najmanje sedam godina radnog iskustva na izradi tehničke dokumentacije i/ili građenja objekta u svojstvu ovlašćenog inženje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Revizor iz stava 1 ovog člana, dužan je da izvrši provjeru usklađenosti tehničke dokumentacije sa urbanističko-tehničkim uslovima, ovim zakonom, posebnim propisima i odgovoran je za tačnost izvještaja o usklađenosti, odnosno da vrši stručni nadzor nad građenjem objekta i odgovoran je da se t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odnosno stručnim nadzorom nad građenjem objekta u cjelini, odgovoran je za provjeru međusobne usklađenosti svih djelova tehničke dokumentacije, odnosno za provjeru međusobne usklađenost svih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dijela tehničke dokumentacije, odnosno stručnim nadzorom nad izvođenjem pojedinih vrsta radova na objektu odgovoran je za reviziju dijela tehničke dokumentacije koji je revidovao, odnosno da se pojedin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može biti istovremeno i revizor dijela tehničke dokumentacije, odnosno revizor koji rukovodi stručnim nadzorom nad građenjem objekta u cjelini može biti istovremeno i revizor nad izvođenjem pojedinih radova na građenju objekta.</a:t>
            </a:r>
            <a:endParaRPr b="0" lang="en-US" sz="900" spc="-1" strike="noStrike">
              <a:solidFill>
                <a:srgbClr val="000000"/>
              </a:solidFill>
              <a:latin typeface="Arial"/>
            </a:endParaRPr>
          </a:p>
        </p:txBody>
      </p:sp>
      <p:sp>
        <p:nvSpPr>
          <p:cNvPr id="22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5E5CB75-C46C-424D-A29B-FCF2B727652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8" name="PlaceHolder 2"/>
          <p:cNvSpPr>
            <a:spLocks noGrp="1"/>
          </p:cNvSpPr>
          <p:nvPr>
            <p:ph type="sldImg"/>
          </p:nvPr>
        </p:nvSpPr>
        <p:spPr>
          <a:xfrm>
            <a:off x="-46080" y="95400"/>
            <a:ext cx="6908760" cy="38876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klađivanje licen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22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odnosno fizičko lice koje je, do stupanja na snagu ovog zakona, steklo licencu, ovlašćenje odnosno ovjereno odobrenje u oblasti izgradnje objekata dužno je da, u roku od šest mjeseci od dana stupanja na snagu ovog zakona pribavi licencu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adnim iskustvom u svojstvu ovlašćenog inženjera iz člana 125 stav 1 ovog zakona i ovlašćenog inženjera za složeni inženjerski objekat iz člana 193 ovog zakona smatra se i radno iskustvo koje je glavni inženjer i odgovorni inženjer, odnosno vodeći projektant i odgovorni projektant ostvario u skladu sa Zakonom o uređenju prostora i izgradnji objekata ("Službeni list CG", br. 51/08, 34/11, 35/13 i 33/1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ivredna društva odnosno fizička lica u roku iz stava 1 ovog člana ne pribave licencu u skladu sa ovim zakonom, licence odnosno ovlašćenja izdata u skladu sa propisima koji su važili do stupanja na snagu ovog zakona prestaju da važ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 pristupanja Crne Gore Evropskoj uniji, strana lica obavljaće djelatnost u skladu sa uslovima utvrđenim ovim zakonom za domaća li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privrednom društvu odnosno fizičkom licu iz stava 1 ovog člana koje je do 27.09.2017. godine zaključilo ugovor o vršenju poslova iz djelatnosti uređenih ovim zakonom, licence, ovlašćenja odnosno ovjerena odobrenja za potrebe tog ugovora važe do isteka zaključe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i iz stava 5 ovog člana su sastavni dio tehničke dokumentacije, odnosno izvještaja o stručnom nadzoru</a:t>
            </a:r>
            <a:endParaRPr b="0" lang="en-US" sz="900" spc="-1" strike="noStrike">
              <a:solidFill>
                <a:srgbClr val="000000"/>
              </a:solidFill>
              <a:latin typeface="Arial"/>
            </a:endParaRPr>
          </a:p>
        </p:txBody>
      </p:sp>
      <p:sp>
        <p:nvSpPr>
          <p:cNvPr id="23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6E701AB-859A-4C9E-82F8-3A21630DE87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2"/>
          <p:cNvSpPr>
            <a:spLocks noGrp="1"/>
          </p:cNvSpPr>
          <p:nvPr>
            <p:ph type="sldImg"/>
          </p:nvPr>
        </p:nvSpPr>
        <p:spPr>
          <a:xfrm>
            <a:off x="-46080" y="95400"/>
            <a:ext cx="6908760" cy="3887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09537E-FC37-49D2-8358-BCDF01ADB4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414261-9DB9-44F3-B90D-A87ED23456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A139CA-CA76-4594-887B-57C5A8377B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E1D6E01-9AD1-44A8-AE1C-8C10B2C626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77B366-8C73-4C0D-9733-1989E49579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54D96-8D75-41CE-A68B-3FDC19FEB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1F7A0-7BE4-403F-9288-6FD445527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C4F31-7B9B-40E7-BABC-63A028415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68FFC-4F42-490C-8A27-D2FCE2409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CF34A-2BFB-4AF8-A230-9C03CE19C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C3287-B339-4F07-BAE5-4FB7E6F0C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63F32A-165B-4895-B3FF-4A67B3E0EF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44FA1-3230-47A6-9A5C-2B734E58E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C804E-0AEC-4D05-888A-7BA25A600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0A494-A21E-460B-8FAB-851B03C73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7FE5A1-DD52-4E09-9EE5-A621FB5081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9D0C68-2741-42E9-BA47-6250F086A5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E15ADD-F7F5-465D-AF9E-2F86060F7B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832FEE-F71D-4F8D-9ECA-19243EA7B2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276A0D-C292-4435-A22B-A5610CA658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FDE722-A515-42D8-BE3F-8570F6F08B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8F5F23-3FB5-4E09-9FDD-E2990F829B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654455-1B69-43FA-97F4-EB6AC076D3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91BDEF-E50E-452D-BC4E-78304D9D10B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03A66-A261-49D8-8214-185BA8954C9C}"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304920" y="304920"/>
            <a:ext cx="114807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04920" y="457200"/>
            <a:ext cx="1661400" cy="1371600"/>
            <a:chOff x="304920" y="457200"/>
            <a:chExt cx="1661400" cy="1371600"/>
          </a:xfrm>
        </p:grpSpPr>
        <p:sp>
          <p:nvSpPr>
            <p:cNvPr id="7" name="Rectangle 9"/>
            <p:cNvSpPr/>
            <p:nvPr/>
          </p:nvSpPr>
          <p:spPr>
            <a:xfrm>
              <a:off x="1246680" y="457200"/>
              <a:ext cx="5940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1113480" y="457200"/>
              <a:ext cx="5904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977760" y="457200"/>
              <a:ext cx="5940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842400" y="457200"/>
              <a:ext cx="5940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708840" y="457200"/>
              <a:ext cx="5940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73480" y="457200"/>
              <a:ext cx="5940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438120" y="457200"/>
              <a:ext cx="6120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304920" y="457200"/>
              <a:ext cx="5904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382400" y="457200"/>
              <a:ext cx="5472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513440" y="457200"/>
              <a:ext cx="5256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642680" y="457200"/>
              <a:ext cx="5688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776240" y="457200"/>
              <a:ext cx="5904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909440" y="457200"/>
              <a:ext cx="5688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304920" y="990720"/>
            <a:ext cx="1148076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304920" y="1447920"/>
            <a:ext cx="3047040" cy="2514600"/>
            <a:chOff x="304920" y="1447920"/>
            <a:chExt cx="3047040" cy="2514600"/>
          </a:xfrm>
        </p:grpSpPr>
        <p:sp>
          <p:nvSpPr>
            <p:cNvPr id="59" name="Rectangle 9"/>
            <p:cNvSpPr/>
            <p:nvPr/>
          </p:nvSpPr>
          <p:spPr>
            <a:xfrm>
              <a:off x="2031480" y="1447920"/>
              <a:ext cx="11016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786320" y="1447920"/>
              <a:ext cx="11196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538640" y="1447920"/>
              <a:ext cx="11196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1290960" y="1447920"/>
              <a:ext cx="11196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1045440" y="1447920"/>
              <a:ext cx="11016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797760" y="1447920"/>
              <a:ext cx="11016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550440" y="1447920"/>
              <a:ext cx="10980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304920" y="1447920"/>
              <a:ext cx="10980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2279160" y="1447920"/>
              <a:ext cx="10332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2520720" y="1447920"/>
              <a:ext cx="10332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759760" y="1447920"/>
              <a:ext cx="10332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3000960" y="1447920"/>
              <a:ext cx="10980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3248640" y="1447920"/>
              <a:ext cx="10332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609120" y="6248520"/>
            <a:ext cx="2845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9AF95-397D-4519-A6CC-745E21D86BAE}"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60640" y="1371600"/>
            <a:ext cx="78235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a:t>
            </a:r>
            <a:r>
              <a:rPr b="1" lang="sr-Latn-ME" sz="3600" spc="-1" strike="noStrike">
                <a:solidFill>
                  <a:srgbClr val="ffffff"/>
                </a:solidFill>
                <a:latin typeface="Arial"/>
              </a:rPr>
              <a:t>PLANIRANJU </a:t>
            </a:r>
            <a:r>
              <a:rPr b="1" lang="sr-Latn-CS" sz="3600" spc="-1" strike="noStrike">
                <a:solidFill>
                  <a:srgbClr val="ffffff"/>
                </a:solidFill>
                <a:latin typeface="Arial"/>
              </a:rPr>
              <a:t>PROSTORA I IZGRADNJI OBJEKATA</a:t>
            </a:r>
            <a:br>
              <a:rPr sz="3600"/>
            </a:br>
            <a:r>
              <a:rPr b="1" lang="sr-Latn-CS" sz="3600" spc="-1" strike="noStrike">
                <a:solidFill>
                  <a:srgbClr val="ffffff"/>
                </a:solidFill>
                <a:latin typeface="Arial"/>
              </a:rPr>
              <a:t>dio 3 (kraj)</a:t>
            </a:r>
            <a:endParaRPr b="0" lang="en-US" sz="3600" spc="-1" strike="noStrike">
              <a:solidFill>
                <a:srgbClr val="ffffff"/>
              </a:solidFill>
              <a:latin typeface="Arial"/>
            </a:endParaRPr>
          </a:p>
        </p:txBody>
      </p:sp>
      <p:sp>
        <p:nvSpPr>
          <p:cNvPr id="122" name="PlaceHolder 2"/>
          <p:cNvSpPr>
            <a:spLocks noGrp="1"/>
          </p:cNvSpPr>
          <p:nvPr>
            <p:ph type="subTitle"/>
          </p:nvPr>
        </p:nvSpPr>
        <p:spPr>
          <a:xfrm>
            <a:off x="3962160" y="4267080"/>
            <a:ext cx="772164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javljen u </a:t>
            </a:r>
            <a:r>
              <a:rPr b="0" lang="en-US" sz="2200" spc="-1" strike="noStrike">
                <a:solidFill>
                  <a:srgbClr val="ffffff"/>
                </a:solidFill>
                <a:latin typeface="Arial"/>
              </a:rPr>
              <a:t>"Sl. listu CG", </a:t>
            </a:r>
            <a:r>
              <a:rPr b="0" lang="sr-Latn-ME" sz="2200" spc="-1" strike="noStrike">
                <a:solidFill>
                  <a:srgbClr val="ffffff"/>
                </a:solidFill>
                <a:latin typeface="Arial"/>
              </a:rPr>
              <a:t>64</a:t>
            </a:r>
            <a:r>
              <a:rPr b="0" lang="en-US" sz="2200" spc="-1" strike="noStrike">
                <a:solidFill>
                  <a:srgbClr val="ffffff"/>
                </a:solidFill>
                <a:latin typeface="Arial"/>
              </a:rPr>
              <a:t>/</a:t>
            </a:r>
            <a:r>
              <a:rPr b="0" lang="sr-Latn-ME" sz="2200" spc="-1" strike="noStrike">
                <a:solidFill>
                  <a:srgbClr val="ffffff"/>
                </a:solidFill>
                <a:latin typeface="Arial"/>
              </a:rPr>
              <a:t>17</a:t>
            </a:r>
            <a:r>
              <a:rPr b="0" lang="sr-Latn-CS" sz="2200" spc="-1" strike="noStrike">
                <a:solidFill>
                  <a:srgbClr val="ffffff"/>
                </a:solidFill>
                <a:latin typeface="Arial"/>
              </a:rPr>
              <a:t> , </a:t>
            </a:r>
            <a:r>
              <a:rPr b="0" lang="pl-PL" sz="2200" spc="-1" strike="noStrike">
                <a:solidFill>
                  <a:srgbClr val="ffffff"/>
                </a:solidFill>
                <a:latin typeface="Arial"/>
              </a:rPr>
              <a:t>44/18, 63/18, 11/19 , 82/20, </a:t>
            </a:r>
            <a:r>
              <a:rPr b="0" lang="pl-PL" sz="2200" spc="-1" strike="noStrike">
                <a:solidFill>
                  <a:srgbClr val="ff9900"/>
                </a:solidFill>
                <a:latin typeface="Arial"/>
              </a:rPr>
              <a:t>86/22</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ffc000"/>
                </a:solidFill>
                <a:latin typeface="Arial"/>
              </a:rPr>
              <a:t>napomena: Neznatne izmjene iz 2022. godine naznačene su zutom boj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DJELATNOST STRANIH LICA</a:t>
            </a:r>
            <a:br>
              <a:rPr sz="2800"/>
            </a:br>
            <a:r>
              <a:rPr b="1" lang="sr-Latn-ME" sz="2800" spc="-1" strike="noStrike">
                <a:solidFill>
                  <a:srgbClr val="ffffff"/>
                </a:solidFill>
                <a:latin typeface="Arial"/>
              </a:rPr>
              <a:t>(privrednih društava ili fizičkih lica)</a:t>
            </a:r>
            <a:br>
              <a:rPr sz="2800"/>
            </a:br>
            <a:endParaRPr b="0" lang="en-US" sz="2800" spc="-1" strike="noStrike">
              <a:solidFill>
                <a:srgbClr val="ffffff"/>
              </a:solidFill>
              <a:latin typeface="Arial"/>
            </a:endParaRPr>
          </a:p>
        </p:txBody>
      </p:sp>
      <p:sp>
        <p:nvSpPr>
          <p:cNvPr id="140" name=""/>
          <p:cNvSpPr txBox="1"/>
          <p:nvPr/>
        </p:nvSpPr>
        <p:spPr>
          <a:xfrm>
            <a:off x="766800" y="2060640"/>
            <a:ext cx="10874160" cy="3960720"/>
          </a:xfrm>
          <a:prstGeom prst="rect">
            <a:avLst/>
          </a:prstGeom>
          <a:noFill/>
          <a:ln w="0">
            <a:noFill/>
          </a:ln>
        </p:spPr>
        <p:txBody>
          <a:bodyPr anchor="t">
            <a:normAutofit/>
          </a:bodyPr>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djelatnosti koje može da obavlja strano lice (privredno društvo), ako ispunjava uslove utvrđene ovim zakonom:</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radu tehničke dokumentacije </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građenje objekta (izvođenje pojedinih radova na građenju objekt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800" spc="-1" strike="noStrike">
                <a:solidFill>
                  <a:srgbClr val="ffffff"/>
                </a:solidFill>
                <a:latin typeface="Arial"/>
              </a:rPr>
              <a:t>Do pristupanja Crne Gore Evropskoj uniji, strana lica obavljaće djelatnost u skladu sa uslovima utvrđenim ovim zakonom za domaća lica.</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143160" y="176040"/>
            <a:ext cx="7143840" cy="144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DJELATNOST STRANIH LICA</a:t>
            </a:r>
            <a:br>
              <a:rPr sz="2800"/>
            </a:br>
            <a:r>
              <a:rPr b="1" lang="sr-Latn-ME" sz="2800" spc="-1" strike="noStrike">
                <a:solidFill>
                  <a:srgbClr val="ffffff"/>
                </a:solidFill>
                <a:latin typeface="Arial"/>
              </a:rPr>
              <a:t>(privrednih društava ili fizičkih lica)</a:t>
            </a:r>
            <a:br>
              <a:rPr sz="2800"/>
            </a:br>
            <a:r>
              <a:rPr b="0" lang="sr-Latn-ME" sz="1800" spc="-1" strike="noStrike">
                <a:solidFill>
                  <a:srgbClr val="ffffff"/>
                </a:solidFill>
                <a:latin typeface="Arial"/>
              </a:rPr>
              <a:t>primjenjivaće se od dana pristupanja Crne Gore Evropskoj uniji</a:t>
            </a:r>
            <a:endParaRPr b="0" lang="en-US" sz="1800" spc="-1" strike="noStrike">
              <a:solidFill>
                <a:srgbClr val="ffffff"/>
              </a:solidFill>
              <a:latin typeface="Arial"/>
            </a:endParaRPr>
          </a:p>
        </p:txBody>
      </p:sp>
      <p:sp>
        <p:nvSpPr>
          <p:cNvPr id="142" name=""/>
          <p:cNvSpPr txBox="1"/>
          <p:nvPr/>
        </p:nvSpPr>
        <p:spPr>
          <a:xfrm>
            <a:off x="263160" y="1501920"/>
            <a:ext cx="11520360" cy="475128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obrenje za obavljanje djelatnosti izdato od nadležnog organa države sjedišta odnosno prebivališta stranog lica („odobrenje“) utiče na prava stranog lica </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koje </a:t>
            </a:r>
            <a:r>
              <a:rPr b="1" lang="sr-Latn-ME" sz="1500" spc="-1" strike="noStrike" u="sng">
                <a:solidFill>
                  <a:srgbClr val="ffffff"/>
                </a:solidFill>
                <a:uFillTx/>
                <a:latin typeface="Arial"/>
              </a:rPr>
              <a:t>ne</a:t>
            </a:r>
            <a:r>
              <a:rPr b="0" lang="sr-Latn-ME" sz="1500" spc="-1" strike="noStrike">
                <a:solidFill>
                  <a:srgbClr val="ffffff"/>
                </a:solidFill>
                <a:latin typeface="Arial"/>
              </a:rPr>
              <a:t> posjeduje „odobrenj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ili fizičko lice može da obavlja djelatnost ako ispunjava uslove utvrđene ovim zakonom za domaća lica,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fizičko lice mora da ispunjava i uslove utvrđene zakonom kojim se uređuje zapošljavanje i rad stranac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koje </a:t>
            </a:r>
            <a:r>
              <a:rPr b="1" lang="sr-Latn-ME" sz="1500" spc="-1" strike="noStrike" u="sng">
                <a:solidFill>
                  <a:srgbClr val="ffffff"/>
                </a:solidFill>
                <a:uFillTx/>
                <a:latin typeface="Arial"/>
              </a:rPr>
              <a:t>posjeduje</a:t>
            </a:r>
            <a:r>
              <a:rPr b="0" lang="sr-Latn-ME" sz="1500" spc="-1" strike="noStrike">
                <a:solidFill>
                  <a:srgbClr val="ffffff"/>
                </a:solidFill>
                <a:latin typeface="Arial"/>
              </a:rPr>
              <a:t> „odobrenje“dužno je da, prije početka prvog posla, „odobrenje“ dostavi Ministarstvu i nadležnom inspekcijskom organu</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iz države potpisnice Ugovora o evropskom ekonomskom prostoru (članica EEP)</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može da obavlja djelatnost pod uslovom da se „odobrenje“ odnosi na djelatnost uređenu ovim zakonom.</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fizičko lice, državljanin države potpisnice EEP, može da bude ovlašćeni inženjer, pod uslovom da se „odobrenje“ odnosi na djelatnost uređenu ovim zakon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iz države koja nije članica EEP</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može da obavlja djelatnosti, pod uslovima propisanim ovim zakonom.</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fizičko lice, državljanin države koja nije članica EEP može da obavlja djelatnost, ako ima:</a:t>
            </a:r>
            <a:endParaRPr b="0" lang="en-US" sz="1500" spc="-1" strike="noStrike">
              <a:solidFill>
                <a:srgbClr val="ffffff"/>
              </a:solidFill>
              <a:latin typeface="Arial"/>
            </a:endParaRPr>
          </a:p>
          <a:p>
            <a:pPr lvl="3" marL="16002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znatu inostranu kvalifikaciju za obavljanje te djelatnosti u skladu sa zakonom kojim se uređuje priznavanje inostranih kvalifikacija i regulisane profesije i zakonom kojim se uređuje zapošljavanje i rad stranaca, na principu uzajamnost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PRIVREMENO I POVREMENO OBAVLJANJE DJELATNOSTI STRANOG LICA</a:t>
            </a:r>
            <a:endParaRPr b="0" lang="en-US" sz="2400" spc="-1" strike="noStrike">
              <a:solidFill>
                <a:srgbClr val="ffffff"/>
              </a:solidFill>
              <a:latin typeface="Arial"/>
            </a:endParaRPr>
          </a:p>
        </p:txBody>
      </p:sp>
      <p:sp>
        <p:nvSpPr>
          <p:cNvPr id="144" name=""/>
          <p:cNvSpPr txBox="1"/>
          <p:nvPr/>
        </p:nvSpPr>
        <p:spPr>
          <a:xfrm>
            <a:off x="695160" y="1998360"/>
            <a:ext cx="10801440" cy="439092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rivremeno</a:t>
            </a:r>
            <a:r>
              <a:rPr b="0" lang="sr-Latn-ME" sz="1600" spc="-1" strike="noStrike">
                <a:solidFill>
                  <a:srgbClr val="ffffff"/>
                </a:solidFill>
                <a:latin typeface="Arial"/>
              </a:rPr>
              <a:t> obavljanje djelatnosti: obavljanje djelatnosti stranog lica za određeni vremenski period, najduže do godinu dana, uz mogućnost produženja tog rok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ovremeno</a:t>
            </a:r>
            <a:r>
              <a:rPr b="0" lang="sr-Latn-ME" sz="1600" spc="-1" strike="noStrike">
                <a:solidFill>
                  <a:srgbClr val="ffffff"/>
                </a:solidFill>
                <a:latin typeface="Arial"/>
              </a:rPr>
              <a:t> obavljanje djelatnosti: obavljanje djelatnosti stranog lica za konkretni posao (izrada tehničke dokumentacije, izvođenje radova i d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za privredno društvo:</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ima „odobren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rije početka prvog posla o namjeri privremenog ili povremenog obavljanja djelatnosti dostavi Ministarstvu i nadležnom inspekcijskom organu pisanu izjavu i odobrenje koje se odnosi na djelatnost uređenu ovim zakon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za strano fizičko lic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osjeduje odobrenj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rije početka prvog posla podnese Ministarstvu pisanu izjavu o vršenju privremenih odnosno povremenih poslova 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 da ima stručne kvalifikacije potrebne za obavljanje te djelatnosti u skladu sa zakonom kojim se uređuje priznavanje inostranih kvalifikacija i regulisane profes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ZABRANA KONFLIKTA INTERESA</a:t>
            </a:r>
            <a:endParaRPr b="0" lang="en-US" sz="2400" spc="-1" strike="noStrike">
              <a:solidFill>
                <a:srgbClr val="ffffff"/>
              </a:solidFill>
              <a:latin typeface="Arial"/>
            </a:endParaRPr>
          </a:p>
        </p:txBody>
      </p:sp>
      <p:sp>
        <p:nvSpPr>
          <p:cNvPr id="146" name=""/>
          <p:cNvSpPr txBox="1"/>
          <p:nvPr/>
        </p:nvSpPr>
        <p:spPr>
          <a:xfrm>
            <a:off x="1219320" y="1752120"/>
            <a:ext cx="10362960" cy="4343400"/>
          </a:xfrm>
          <a:prstGeom prst="rect">
            <a:avLst/>
          </a:prstGeom>
          <a:noFill/>
          <a:ln w="0">
            <a:noFill/>
          </a:ln>
        </p:spPr>
        <p:txBody>
          <a:bodyPr anchor="t">
            <a:normAutofit fontScale="97000"/>
          </a:bodyPr>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eno je za lice zaposleno u Ministarstvu, nadležnom organu lokalne uprave odnosno organu za tehničke uslove, kao i za lice koje vrši inspekcijski nadzor, da vrši poslove;</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ffffff"/>
                </a:solidFill>
                <a:latin typeface="Arial"/>
              </a:rPr>
              <a:t>člana stručnog tima za izradu planskog dokumenta (ovo ne važi  za  lice koje je predstavnik jedinice lokalne samouprave)</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vlašćenog inženjera,</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evizora tehničke dokumentacije 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tručnog nadzora.</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eno je da vrše reviziju tehničke dokumentacije:</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i fizičko lice zaposleno kod investitora</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vredno društvo i fizičko lice zaposleno u privrednom društvu  koje je izradilo tehničku dokumentaciju, odnosno učestvovalo u izradi tehničke dokumentacije ili dijela tehničke dokumentacije,</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eno je da stručni nadzor vrš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i fizičko lice zaposleno kod investitora,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vredno društvo i lice zaposleno u privrednom društvu koje je izvođač radova na tom objektu </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eviziju tehničke dokumentacije (odnosno stručni nadzor nad građenjem objekta) ne može da vrši revizor koji je sa ovlašćenim inženjerom koji je izradio tehničku dokumentaciju (odnosno koji gradi objekat):</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rodnik u pravoj liniji i pobočnoj do drugog stepena srodstva;</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bračni i vanbračni supružnik,</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svojilac i usvojenik,</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član zajedničkog domaćinstva.</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INŽENJERSKA KOMORA CRNE GORE</a:t>
            </a:r>
            <a:endParaRPr b="0" lang="en-US" sz="2400" spc="-1" strike="noStrike">
              <a:solidFill>
                <a:srgbClr val="ffffff"/>
              </a:solidFill>
              <a:latin typeface="Arial"/>
            </a:endParaRPr>
          </a:p>
        </p:txBody>
      </p:sp>
      <p:sp>
        <p:nvSpPr>
          <p:cNvPr id="148" name=""/>
          <p:cNvSpPr txBox="1"/>
          <p:nvPr/>
        </p:nvSpPr>
        <p:spPr>
          <a:xfrm>
            <a:off x="623520" y="1844280"/>
            <a:ext cx="10945800" cy="453564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adi obezbjeđivanja stručnosti i zaštite javnog interesa, lica koja rade na poslovima izgradnje objekata učlanjuju se u Komor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Članstvo u Komor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fizičko lice koje obavlja djelatnost uređenu ovim zakonom</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Član Komore može biti i strano fizičko lic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dzor nad zakonitošću rada Komore vrši Ministarstvo, u skladu sa zakonom.</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Nadležnost</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napređuje i obezbjeđuje stručno usavršavanje član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odi registar članova Komor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odi registar članova kojima miruje članstvo u Komor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odi registar stručnih obuka i ostvarenog broja bodova članova Komor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edlaže tehničke osnove za izradu propisa iz člana 72 ovog zakon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rganizuje i sprovodi polaganje stručnog ispi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tvrđuje programe strulčne obuke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ređuje visinu članarine svojih član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štiti, usklađuje i zastupa interese svojih član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nosi etički kodeks i stara se o njegovom sprovođenju; 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ređuje disciplinsku odgovornost, vodi disciplinske postupke protiv svojih članova i izriče disciplinske mjer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aje stručna mišljenja i ekspertize po zahtjevima državnih organa i institucija</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LEGALIZACIJA BESPRAVNIH OBJEKATA</a:t>
            </a:r>
            <a:endParaRPr b="0" lang="en-US" sz="2400" spc="-1" strike="noStrike">
              <a:solidFill>
                <a:srgbClr val="ffffff"/>
              </a:solidFill>
              <a:latin typeface="Arial"/>
            </a:endParaRPr>
          </a:p>
        </p:txBody>
      </p:sp>
      <p:sp>
        <p:nvSpPr>
          <p:cNvPr id="150" name=""/>
          <p:cNvSpPr txBox="1"/>
          <p:nvPr/>
        </p:nvSpPr>
        <p:spPr>
          <a:xfrm>
            <a:off x="839880" y="1773360"/>
            <a:ext cx="10874160" cy="4751280"/>
          </a:xfrm>
          <a:prstGeom prst="rect">
            <a:avLst/>
          </a:prstGeom>
          <a:noFill/>
          <a:ln w="0">
            <a:noFill/>
          </a:ln>
        </p:spPr>
        <p:txBody>
          <a:bodyPr anchor="t">
            <a:normAutofit fontScale="96000"/>
          </a:bodyPr>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stupak legalizacije bespravnog objekta pokreće se podnošenjem zahtjeva za legalizaciju </a:t>
            </a:r>
            <a:r>
              <a:rPr b="0" lang="sr-Latn-ME" sz="1400" spc="-1" strike="noStrike">
                <a:solidFill>
                  <a:srgbClr val="59c1ff"/>
                </a:solidFill>
                <a:latin typeface="Arial"/>
              </a:rPr>
              <a:t>(rok je bio 14, jul 2018. godine) od </a:t>
            </a:r>
            <a:r>
              <a:rPr b="0" lang="sr-Latn-ME" sz="1400" spc="-1" strike="noStrike">
                <a:solidFill>
                  <a:srgbClr val="ffffff"/>
                </a:solidFill>
                <a:latin typeface="Arial"/>
              </a:rPr>
              <a:t>strane vlasnika, uz dokumentaciju:</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aborat premjera izvedenog stanja izgrađenog objekta (od strane licencirane geodetske organizacije koji ovjerava Katastar)</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fotografije svih fasada bespravnog objekta u jpg formatu minimalne rezolucije 2 megapiksela;</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ještaj privrednog društva (sa licencom za projektovanje i izgradnju) o postojanju bespravnog objekta na orto-foto snimku i usklađenosti bespravnog objekta sa osnovnim urbanističkim parametrima i/ili smjernicama važećeg planskog dokumenta i izjavu revidenta da je bespravni objekat izgrađen u skladu sa osnovnim urbanističkim parametrima i/ili smjernicama važećeg planskog dokumenta</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zabilježbi postojanja objekta u katastarskoj evidenciji odnosno izvoda iz katastra nepokretnosti ili druge odgovarajuće evidencije nepokretnosti</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Legalizaciju bespravnih objekata sprovodi nadležni organ lokalne uprave (rješenje o legalizaciji)</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snovni urbanistički parametri iz važeće planske dokumentacije  koje bespravni objekat mora ispunjavati za donošenje rješenja o legalizaciji su:</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mjena,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deks izgrađenosti,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deks zauzetosti,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pratnost odnosno visina objekta i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dnos prema građevinskoj liniji.</a:t>
            </a:r>
            <a:endParaRPr b="0" lang="en-US" sz="1400" spc="-1" strike="noStrike">
              <a:solidFill>
                <a:srgbClr val="ffffff"/>
              </a:solidFill>
              <a:latin typeface="Arial"/>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59c1ff"/>
                </a:solidFill>
                <a:latin typeface="Arial"/>
              </a:rPr>
              <a:t>Ovom materijom se nećemo detaljnije baviti. Zainteresovani mogu da pogledaju u tekstu zakona poglavlje X.</a:t>
            </a:r>
            <a:r>
              <a:rPr b="1" i="1" lang="sr-Latn-ME" sz="1400" spc="-1" strike="noStrike">
                <a:solidFill>
                  <a:srgbClr val="59c1ff"/>
                </a:solidFill>
                <a:latin typeface="Arial"/>
              </a:rPr>
              <a:t> LEGALIZACIJA BESPRAVNIH OBJEKATA</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SLOŽENI INŽENJERSKI OBJEKTI</a:t>
            </a:r>
            <a:endParaRPr b="0" lang="en-US" sz="2800" spc="-1" strike="noStrike">
              <a:solidFill>
                <a:srgbClr val="ffffff"/>
              </a:solidFill>
              <a:latin typeface="Arial"/>
            </a:endParaRPr>
          </a:p>
        </p:txBody>
      </p:sp>
      <p:sp>
        <p:nvSpPr>
          <p:cNvPr id="152" name=""/>
          <p:cNvSpPr txBox="1"/>
          <p:nvPr/>
        </p:nvSpPr>
        <p:spPr>
          <a:xfrm>
            <a:off x="766440" y="1557000"/>
            <a:ext cx="10815480" cy="4538520"/>
          </a:xfrm>
          <a:prstGeom prst="rect">
            <a:avLst/>
          </a:prstGeom>
          <a:noFill/>
          <a:ln w="0">
            <a:noFill/>
          </a:ln>
        </p:spPr>
        <p:txBody>
          <a:bodyPr anchor="t">
            <a:normAutofit fontScale="97000"/>
          </a:bodyPr>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Vrste:</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uto-putevi, brze saobraćajnice, magistralni i regionalni putevi, tuneli dužine preko 200m, mostovi raspona preko 30m, željezničke pruge, aerodromi, luke,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0000"/>
                </a:solidFill>
                <a:latin typeface="Arial"/>
              </a:rPr>
              <a:t>dalekovodi i trafostanice naponskog nivoa 10 kV i više, kablovske podzemne instalacije naponskog nivoa 10 kV i više, elektrane snage 1MVA i više (hidroelektrane, termoelektrane, vjetroelektrane, solarne elektrane i dr.),</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59"/>
                </a:solidFill>
                <a:latin typeface="Arial"/>
              </a:rPr>
              <a:t>distributivni i prenosni elektroenergetski objekti (nadzemni i podzemni dalekovodi i trafostanice) naponskog nivoa 35 kV i više</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59"/>
                </a:solidFill>
                <a:latin typeface="Arial"/>
              </a:rPr>
              <a:t>proizvodni elektro energetski objekti snage 1MW i više (hidroelektrane, termoelektrane, vjetroelektrane, solarne elektrane i dr.</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0000"/>
                </a:solidFill>
                <a:latin typeface="Arial"/>
              </a:rPr>
              <a:t>naftovodi</a:t>
            </a:r>
            <a:r>
              <a:rPr b="0" lang="sr-Latn-ME" sz="1400" spc="-1" strike="noStrike">
                <a:solidFill>
                  <a:srgbClr val="ffffff"/>
                </a:solidFill>
                <a:latin typeface="Arial"/>
              </a:rPr>
              <a:t>, </a:t>
            </a:r>
            <a:r>
              <a:rPr b="0" lang="sr-Latn-ME" sz="1400" spc="-1" strike="noStrike">
                <a:solidFill>
                  <a:srgbClr val="ffff59"/>
                </a:solidFill>
                <a:latin typeface="Arial"/>
              </a:rPr>
              <a:t>gasovodi protoka većeg od 100 m3/h</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brane i akumulacije ispunjene </a:t>
            </a:r>
            <a:r>
              <a:rPr b="0" lang="sr-Latn-ME" sz="1400" spc="-1" strike="noStrike">
                <a:solidFill>
                  <a:srgbClr val="ff0000"/>
                </a:solidFill>
                <a:latin typeface="Arial"/>
              </a:rPr>
              <a:t>jalovinom</a:t>
            </a:r>
            <a:r>
              <a:rPr b="0" lang="sr-Latn-ME" sz="1400" spc="-1" strike="noStrike">
                <a:solidFill>
                  <a:srgbClr val="ffffff"/>
                </a:solidFill>
                <a:latin typeface="Arial"/>
              </a:rPr>
              <a:t> ili pepelom za koje je propisano tehničko osmatranje,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strojenje za skladištenje i pretakanje tečnog prirodnog gasa i postrojenja za skladištenje i pretakanje tečnog naftnog gasa, i postrojenja za skladištenje i pretakanje nafte i derivate nafte </a:t>
            </a:r>
            <a:r>
              <a:rPr b="0" lang="sr-Latn-ME" sz="1400" spc="-1" strike="noStrike">
                <a:solidFill>
                  <a:srgbClr val="ffff59"/>
                </a:solidFill>
                <a:latin typeface="Arial"/>
              </a:rPr>
              <a:t>kapaciteta većeg od 1000m3</a:t>
            </a:r>
            <a:r>
              <a:rPr b="0" lang="sr-Latn-ME" sz="1400" spc="-1" strike="noStrike">
                <a:solidFill>
                  <a:srgbClr val="ffffff"/>
                </a:solidFill>
                <a:latin typeface="Arial"/>
              </a:rPr>
              <a:t>, </a:t>
            </a:r>
            <a:r>
              <a:rPr b="0" lang="sr-Latn-ME" sz="1400" spc="-1" strike="noStrike">
                <a:solidFill>
                  <a:srgbClr val="ff0000"/>
                </a:solidFill>
                <a:latin typeface="Arial"/>
              </a:rPr>
              <a:t>stanice za snabdjevanje motornih vozila naftnim derivatima i gasom</a:t>
            </a:r>
            <a:r>
              <a:rPr b="0" lang="sr-Latn-ME" sz="1400" spc="-1" strike="noStrike">
                <a:solidFill>
                  <a:srgbClr val="ffffff"/>
                </a:solidFill>
                <a:latin typeface="Arial"/>
              </a:rPr>
              <a:t>,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ekti za proizvodnju, transport i distribuciju toplotne energije za daljinsko grijanje i/ili hlađenje </a:t>
            </a:r>
            <a:r>
              <a:rPr b="0" lang="sr-Latn-ME" sz="1400" spc="-1" strike="noStrike">
                <a:solidFill>
                  <a:srgbClr val="ffff59"/>
                </a:solidFill>
                <a:latin typeface="Arial"/>
              </a:rPr>
              <a:t>snage 1MWth </a:t>
            </a:r>
            <a:r>
              <a:rPr b="0" lang="sr-Latn-ME" sz="1400" spc="-1" strike="noStrike">
                <a:solidFill>
                  <a:srgbClr val="ffffff"/>
                </a:solidFill>
                <a:latin typeface="Arial"/>
              </a:rPr>
              <a:t>, objekti za proizvodnju, transport i distribuciju toplotne energije za industrijsku upotrebu </a:t>
            </a:r>
            <a:r>
              <a:rPr b="0" lang="sr-Latn-ME" sz="1400" spc="-1" strike="noStrike">
                <a:solidFill>
                  <a:srgbClr val="ffff59"/>
                </a:solidFill>
                <a:latin typeface="Arial"/>
              </a:rPr>
              <a:t>snage 1MWth i više i </a:t>
            </a:r>
            <a:r>
              <a:rPr b="0" lang="sr-Latn-ME" sz="1400" spc="-1" strike="noStrike">
                <a:solidFill>
                  <a:srgbClr val="ffffff"/>
                </a:solidFill>
                <a:latin typeface="Arial"/>
              </a:rPr>
              <a:t> stabilne posude pod pritiskom,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ekti u kojima se proizvode i skladište opasne materije </a:t>
            </a:r>
            <a:r>
              <a:rPr b="0" lang="sr-Latn-ME" sz="1400" spc="-1" strike="noStrike">
                <a:solidFill>
                  <a:srgbClr val="ff0000"/>
                </a:solidFill>
                <a:latin typeface="Arial"/>
              </a:rPr>
              <a:t>i slični objekti i postrojenja koja bi svojim radom mogla ugroziti životnu sredinu,</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građevine i postrojenja za hemijsku i tešku industriju, </a:t>
            </a:r>
            <a:r>
              <a:rPr b="0" lang="sr-Latn-ME" sz="1400" spc="-1" strike="noStrike">
                <a:solidFill>
                  <a:srgbClr val="ff0000"/>
                </a:solidFill>
                <a:latin typeface="Arial"/>
              </a:rPr>
              <a:t>deponije</a:t>
            </a:r>
            <a:r>
              <a:rPr b="0" lang="sr-Latn-ME" sz="1400" spc="-1" strike="noStrike">
                <a:solidFill>
                  <a:srgbClr val="ffffff"/>
                </a:solidFill>
                <a:latin typeface="Arial"/>
              </a:rPr>
              <a:t>, postrojenja za dobijanje energije iz otpada </a:t>
            </a:r>
            <a:r>
              <a:rPr b="0" lang="sr-Latn-ME" sz="1400" spc="-1" strike="noStrike">
                <a:solidFill>
                  <a:srgbClr val="ffff59"/>
                </a:solidFill>
                <a:latin typeface="Arial"/>
              </a:rPr>
              <a:t>snage od 1MW i više </a:t>
            </a:r>
            <a:r>
              <a:rPr b="0" lang="sr-Latn-ME" sz="1400" spc="-1" strike="noStrike">
                <a:solidFill>
                  <a:srgbClr val="ff0000"/>
                </a:solidFill>
                <a:latin typeface="Arial"/>
              </a:rPr>
              <a:t>, postrojenja za anaerobnu digestiju otpada, postrojenja za prečišćavanje vod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SLOŽENI INŽENJERSKI OBJEKTI</a:t>
            </a:r>
            <a:endParaRPr b="0" lang="en-US" sz="2800" spc="-1" strike="noStrike">
              <a:solidFill>
                <a:srgbClr val="ffffff"/>
              </a:solidFill>
              <a:latin typeface="Arial"/>
            </a:endParaRPr>
          </a:p>
        </p:txBody>
      </p:sp>
      <p:sp>
        <p:nvSpPr>
          <p:cNvPr id="154" name=""/>
          <p:cNvSpPr txBox="1"/>
          <p:nvPr/>
        </p:nvSpPr>
        <p:spPr>
          <a:xfrm>
            <a:off x="766440" y="1557000"/>
            <a:ext cx="10815480" cy="453852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Vrst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auto-putevi, brze saobraćajnice, magistralni i regionalni putevi, tuneli, mostovi, željezničke pruge, aerodromi, luk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distributivni i prenosni elektroenergetski objekti (nadzemni i podzemni dalekovodi i trafostanice) naponskog nivoa 35 kV i viš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proizvodni elektro energetski objekti snage 1MW i više (hidroelektrane, termoelektrane, vjetroelektrane, solarne elektrane i dr.),</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gasovodi protoka većeg od 100 m3/​h,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brane i akumulacije ispunjene pepelom za koje je propisano tehničko osmatranje,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postrojenje za skladištenje i pretakanje tečnog prirodnog gasa kapaciteta većeg od 1000m3, postrojenja za skladištenje i pretakanje tečnog naftnog gasa kapaciteta većeg od 1000m3, postrojenja za skladištenje i pretakanje nafte i derivata nafte kapaciteta većeg od 1000m3,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objekti za proizvodnju, transport i distribuciju toplotne energije za daljinsko grijanje i/​ili hlađenje snage 1MWth i više, objekti za proizvodnju, transport i distribuciju toplotne energije za industrijsku upotrebu snage 1MWth i više i stabilne posude pod pritisk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objekti u kojima se proizvode i skladište opasne materije,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građevine i postrojenja za hemijsku i tešku industriju i postrojenja za dobijanje energije iz otpada snage od 1MW i viš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IZGRADNJA SLOŽENOG INŽENJERSKOG OBJEKTA</a:t>
            </a:r>
            <a:endParaRPr b="0" lang="en-US" sz="2800" spc="-1" strike="noStrike">
              <a:solidFill>
                <a:srgbClr val="ffffff"/>
              </a:solidFill>
              <a:latin typeface="Arial"/>
            </a:endParaRPr>
          </a:p>
        </p:txBody>
      </p:sp>
      <p:sp>
        <p:nvSpPr>
          <p:cNvPr id="156" name=""/>
          <p:cNvSpPr txBox="1"/>
          <p:nvPr/>
        </p:nvSpPr>
        <p:spPr>
          <a:xfrm>
            <a:off x="407880" y="1466640"/>
            <a:ext cx="11304720" cy="446724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uhva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u="sng">
                <a:solidFill>
                  <a:srgbClr val="ffffff"/>
                </a:solidFill>
                <a:uFillTx/>
                <a:latin typeface="Arial"/>
              </a:rPr>
              <a:t>izvođenje istražnih radnji</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zradu tehničke dokumentacij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eviziju tehničke dokumentacij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građenje objeka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gradnju i ispitivanje ugrađene oprem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vršenje stručnog nadzora nad građenjem objekata i</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stvaranje uslova za upotrebu objeka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u="sng">
                <a:solidFill>
                  <a:srgbClr val="ffffff"/>
                </a:solidFill>
                <a:uFillTx/>
                <a:latin typeface="Arial"/>
              </a:rPr>
              <a:t>ispitivanje i puštanje objekta u rad.</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sadržina tehničke dokumentacije za složeni inženjerski objekat </a:t>
            </a:r>
            <a:r>
              <a:rPr b="0" lang="sr-Latn-ME" sz="1200" spc="-1" strike="noStrike">
                <a:solidFill>
                  <a:srgbClr val="ffffff"/>
                </a:solidFill>
                <a:latin typeface="Arial"/>
              </a:rPr>
              <a:t>(način izrade i bližu sadržinu tehničke dokumentacije propisuje organ državne uprave nadležan za djelatnost koja se vrši u složenom inženjerskom objekt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Idejno rješenje- </a:t>
            </a:r>
            <a:r>
              <a:rPr b="0" lang="sr-Latn-ME" sz="1200" spc="-1" strike="noStrike">
                <a:solidFill>
                  <a:srgbClr val="ffffff"/>
                </a:solidFill>
                <a:latin typeface="Arial"/>
              </a:rPr>
              <a:t>generalna koncepcija za izgradnju objekta; tehničko-tehnološke i ekonomske karakteristike objekta; moguće varijante prostornih i tehničkih rješenja.../može se suziti širina koridora infrastrukture određena planskim dokumentom, uz saglasnost Ministarstva i organ državne uprave nadležan za poslove infrastrukture na koje se odnosi koridor</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Idejni projekat</a:t>
            </a:r>
            <a:r>
              <a:rPr b="0" lang="sr-Latn-ME" sz="1200" spc="-1" strike="noStrike">
                <a:solidFill>
                  <a:srgbClr val="ffffff"/>
                </a:solidFill>
                <a:latin typeface="Arial"/>
              </a:rPr>
              <a:t> -razrađuje idejno rješenje, izrađuje se za potrebe izdavanja građevinske dozvol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Glavni projekat </a:t>
            </a:r>
            <a:r>
              <a:rPr b="0" lang="sr-Latn-ME" sz="1200" spc="-1" strike="noStrike">
                <a:solidFill>
                  <a:srgbClr val="ffffff"/>
                </a:solidFill>
                <a:latin typeface="Arial"/>
              </a:rPr>
              <a:t>-razrađuje idejni projekat (ako je na osnovu njega izdata građevinska dozvola), sadrži i dokumentaciju o ugradnji i funkcionalnom ispitivanju ugrađene opreme; može da sadrži obavezu osmatranja i ispitivanja objekta nakon puštanja u rad.</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Projekat izvedenog stanja </a:t>
            </a:r>
            <a:r>
              <a:rPr b="0" lang="sr-Latn-ME" sz="1200" spc="-1" strike="noStrike">
                <a:solidFill>
                  <a:srgbClr val="ffffff"/>
                </a:solidFill>
                <a:latin typeface="Arial"/>
              </a:rPr>
              <a:t>je revidovani glavni projekat sa izmjenama nastalim u toku građenja objekta usljed (opravdanih) okolnosti, a radi se i za potrebe održavanja objek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stali projekti, elaborati i podloge-izrađuju i za izradu, u toku izrade ili nakon izrade idejnog rješenja, idejnog projekta i glavnog projekta (projekti, elaborati ili podloge geodezije, geomehanike, tehnologije i dr. u skladu sa posebnim propisim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REVIZIJA IDEJNOG RJEŠENJA, IDEJNOG PROJEKTA I GLAVNOG PROJEKTA ZA SLOŽENI INŽENJERSKI OBJEKAT</a:t>
            </a:r>
            <a:endParaRPr b="0" lang="en-US" sz="2400" spc="-1" strike="noStrike">
              <a:solidFill>
                <a:srgbClr val="ffffff"/>
              </a:solidFill>
              <a:latin typeface="Arial"/>
            </a:endParaRPr>
          </a:p>
        </p:txBody>
      </p:sp>
      <p:sp>
        <p:nvSpPr>
          <p:cNvPr id="158" name=""/>
          <p:cNvSpPr txBox="1"/>
          <p:nvPr/>
        </p:nvSpPr>
        <p:spPr>
          <a:xfrm>
            <a:off x="695160" y="1989000"/>
            <a:ext cx="10887120" cy="410688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čin vršenja revizije složenog inženjerskog objekta propisuje organ državne uprave nadležan za djelatnost koja se vrši u složenom inženjerskom objek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denta određuje organ državne uprave nadležan za djelatnost koja se vrši u složenom inženjerskom objektu na predlog investit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nvestitor  snosi troškov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revi</a:t>
            </a:r>
            <a:r>
              <a:rPr b="0" lang="mk-MK" sz="1600" spc="-1" strike="noStrike">
                <a:solidFill>
                  <a:srgbClr val="ffffff"/>
                </a:solidFill>
                <a:latin typeface="Arial"/>
                <a:ea typeface="Times New Roman"/>
              </a:rPr>
              <a:t>zija tehničke dokumentacije izrađene po propisima dugih zemalja </a:t>
            </a:r>
            <a:r>
              <a:rPr b="0" lang="sr-Latn-CS" sz="1600" spc="-1" strike="noStrike">
                <a:solidFill>
                  <a:srgbClr val="ffffff"/>
                </a:solidFill>
                <a:latin typeface="Arial"/>
                <a:ea typeface="Times New Roman"/>
              </a:rPr>
              <a:t>radi se na prevodenom primjerku na crnogorski jezik i </a:t>
            </a:r>
            <a:r>
              <a:rPr b="0" lang="mk-MK" sz="1600" spc="-1" strike="noStrike">
                <a:solidFill>
                  <a:srgbClr val="ffffff"/>
                </a:solidFill>
                <a:latin typeface="Arial"/>
                <a:ea typeface="Times New Roman"/>
              </a:rPr>
              <a:t>obuhvata provjeru usklađenosti sa zakonom</a:t>
            </a:r>
            <a:r>
              <a:rPr b="0" lang="sr-Latn-ME" sz="1600" spc="-1" strike="noStrike">
                <a:solidFill>
                  <a:srgbClr val="ffffff"/>
                </a:solidFill>
                <a:latin typeface="Arial"/>
                <a:ea typeface="Times New Roman"/>
              </a:rPr>
              <a:t> i pravilima struke</a:t>
            </a:r>
            <a:r>
              <a:rPr b="0" lang="sr-Latn-CS" sz="1600" spc="-1" strike="noStrike">
                <a:solidFill>
                  <a:srgbClr val="ffffff"/>
                </a:solidFill>
                <a:latin typeface="Arial"/>
                <a:ea typeface="Times New Roman"/>
              </a:rPr>
              <a:t>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onovna revizija obavezna u slučajevima promjene tehničkih propisa, u periodu nakon revizije, a prije podnošenja </a:t>
            </a:r>
            <a:r>
              <a:rPr b="0" lang="sr-Latn-ME" sz="1600" spc="-1" strike="noStrike">
                <a:solidFill>
                  <a:srgbClr val="ffffff"/>
                </a:solidFill>
                <a:latin typeface="Arial"/>
                <a:ea typeface="Times New Roman"/>
              </a:rPr>
              <a:t>zahtjeva za izdavanje građevinske dozvole</a:t>
            </a:r>
            <a:r>
              <a:rPr b="0" lang="en-GB" sz="1600" spc="-1" strike="noStrike">
                <a:solidFill>
                  <a:srgbClr val="ffffff"/>
                </a:solidFill>
                <a:latin typeface="Arial"/>
              </a:rPr>
              <a:t> </a:t>
            </a:r>
            <a:r>
              <a:rPr b="0" lang="sr-Latn-ME" sz="1600" spc="-1" strike="noStrike">
                <a:solidFill>
                  <a:srgbClr val="ffffff"/>
                </a:solidFill>
                <a:latin typeface="Arial"/>
              </a:rPr>
              <a:t> (idejni  i/ili glavni projekat moraju se usaglasiti sa tim promjenama prije </a:t>
            </a:r>
            <a:r>
              <a:rPr b="0" lang="en-US" sz="1600" spc="-1" strike="noStrike">
                <a:solidFill>
                  <a:srgbClr val="ffffff"/>
                </a:solidFill>
                <a:latin typeface="Arial"/>
              </a:rPr>
              <a:t>p</a:t>
            </a:r>
            <a:r>
              <a:rPr b="0" lang="sr-Latn-ME" sz="1600" spc="-1" strike="noStrike">
                <a:solidFill>
                  <a:srgbClr val="ffffff"/>
                </a:solidFill>
                <a:latin typeface="Arial"/>
              </a:rPr>
              <a:t>onovne reviz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or je dužan da o izvršenoj reviziji sačini i potpiše konačni izvještaj:</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zitivan il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gativa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OBAVLJANJA DJELATNOSTI I SUBJEKTI</a:t>
            </a:r>
            <a:endParaRPr b="0" lang="en-US" sz="3200" spc="-1" strike="noStrike">
              <a:solidFill>
                <a:srgbClr val="ffffff"/>
              </a:solidFill>
              <a:latin typeface="Arial"/>
            </a:endParaRPr>
          </a:p>
        </p:txBody>
      </p:sp>
      <p:sp>
        <p:nvSpPr>
          <p:cNvPr id="124" name=""/>
          <p:cNvSpPr txBox="1"/>
          <p:nvPr/>
        </p:nvSpPr>
        <p:spPr>
          <a:xfrm>
            <a:off x="766440" y="1752120"/>
            <a:ext cx="10815480" cy="4343400"/>
          </a:xfrm>
          <a:prstGeom prst="rect">
            <a:avLst/>
          </a:prstGeom>
          <a:noFill/>
          <a:ln w="0">
            <a:noFill/>
          </a:ln>
        </p:spPr>
        <p:txBody>
          <a:bodyPr anchor="t">
            <a:normAutofit/>
          </a:bodyPr>
          <a:p>
            <a:pPr marL="343080" indent="-34308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Djelatnosti za koju se moraju ispuniti posebni uslovi definisani ovim zakonom:</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izrade tehničke dokumentacije, </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revizije tehničke dokumentacije,</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građenja objekata odnosno izvođenja pojedinih radova na građenju objekta i </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vršenje stručnog nadzora </a:t>
            </a:r>
            <a:endParaRPr b="0" lang="en-US" sz="1100" spc="-1" strike="noStrike">
              <a:solidFill>
                <a:srgbClr val="ffffff"/>
              </a:solidFill>
              <a:latin typeface="Arial"/>
            </a:endParaRPr>
          </a:p>
          <a:p>
            <a:pPr marL="343080" indent="-34308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Subjekti:</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rivredno društvo, pravno lice, odnosno preduzetnik (u daljem tekstu: privredno društvo) </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Izuzetno, reviziju tehničke dokumentacije i vršenje stručnog nadzora može vršiti:</a:t>
            </a:r>
            <a:endParaRPr b="0" lang="en-US" sz="1100" spc="-1" strike="noStrike">
              <a:solidFill>
                <a:srgbClr val="ffffff"/>
              </a:solidFill>
              <a:latin typeface="Arial"/>
            </a:endParaRPr>
          </a:p>
          <a:p>
            <a:pPr lvl="2" marL="11430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komisija (čine je fizička lica koja ispunjavaju uslove za revizora za složene inženjerske objekte, i ova lica moraju imati zaključen </a:t>
            </a:r>
            <a:r>
              <a:rPr b="0" lang="pl-PL" sz="1100" spc="-1" strike="noStrike">
                <a:solidFill>
                  <a:srgbClr val="ffffff"/>
                </a:solidFill>
                <a:latin typeface="Arial"/>
              </a:rPr>
              <a:t>ugovor o osiguranju od profesionalne odgovornosti </a:t>
            </a:r>
            <a:r>
              <a:rPr b="0" lang="sr-Latn-ME" sz="1100" spc="-1" strike="noStrike">
                <a:solidFill>
                  <a:srgbClr val="ffffff"/>
                </a:solidFill>
                <a:latin typeface="Arial"/>
              </a:rPr>
              <a:t>), </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Za objekte infrastrukture odnosno za objekte u državnoj svojini, koji se grade za potrebe državnih organa i pravnih lica čiji je osnivač država, </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Za objekte finansirane u cjelosti ili djelimično iz: državnog budžeta, donacija, kredita međunarodnih finansijskih institucija, sredstava drugih država kroz projekte međunarodne saradnje i pomoći, </a:t>
            </a:r>
            <a:endParaRPr b="0" lang="en-US" sz="1100" spc="-1" strike="noStrike">
              <a:solidFill>
                <a:srgbClr val="ffffff"/>
              </a:solidFill>
              <a:latin typeface="Arial"/>
            </a:endParaRPr>
          </a:p>
          <a:p>
            <a:pPr lvl="2" marL="11430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rivredno društvo u vlasništvu države ako ispunjava uslove utvrđene ovim zakonom.</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Za objekte infrastrukture odnosno za objekte u državnoj svojini, koji se grade za potrebe državnih organa i pravnih lica čiji je osnivač država, </a:t>
            </a:r>
            <a:endParaRPr b="0" lang="en-US" sz="1100" spc="-1" strike="noStrike">
              <a:solidFill>
                <a:srgbClr val="ffffff"/>
              </a:solidFill>
              <a:latin typeface="Arial"/>
            </a:endParaRPr>
          </a:p>
          <a:p>
            <a:pPr lvl="2" marL="11430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rivredno društvo u vlasništvu jedinice lokalne samouprave, ako ispunjava uslove utvrđene ovim zakonom.</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za objekte infrastrukture odnosno za objekte na kojima svojinsko-pravna ovlašćenja vrši jedinica lokalne samouprave, koji se grade za potrebe organa lokalne samouprave, organa lokalne uprave, organizacija i javnih službi čiji je osnivač jedinica lokalne samouprave. (Dvije ili više jedinica lokalne samouprave mogu organizovati zajedničko obavljanje ovih poslova u skladu sa zakonom).</a:t>
            </a:r>
            <a:endParaRPr b="0" lang="en-US" sz="1100" spc="-1" strike="noStrike">
              <a:solidFill>
                <a:srgbClr val="ffffff"/>
              </a:solidFill>
              <a:latin typeface="Arial"/>
            </a:endParaRPr>
          </a:p>
          <a:p>
            <a:pPr marL="343080" indent="-34308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Djelatnost izrade tehničke dokumentacije i građenja objekta, odnosno izvođenja pojedinih radova na građenju objekta, može da obavlja i STRANO privredno društvo, ako ispunjava uslove utvrđene ovim zakonom.</a:t>
            </a:r>
            <a:endParaRPr b="0" lang="en-US" sz="1100" spc="-1" strike="noStrike">
              <a:solidFill>
                <a:srgbClr val="ffffff"/>
              </a:solidFill>
              <a:latin typeface="Arial"/>
            </a:endParaRPr>
          </a:p>
          <a:p>
            <a:pPr marL="343080" indent="-343080">
              <a:lnSpc>
                <a:spcPct val="90000"/>
              </a:lnSpc>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REVIZIJA IDEJNOG RJEŠENJA, IDEJNOG PROJEKTA I GLAVNOG PROJEKTA ZA SLOŽENI INŽENJERSKI OBJEKAT</a:t>
            </a:r>
            <a:endParaRPr b="0" lang="en-US" sz="2400" spc="-1" strike="noStrike">
              <a:solidFill>
                <a:srgbClr val="ffffff"/>
              </a:solidFill>
              <a:latin typeface="Arial"/>
            </a:endParaRPr>
          </a:p>
        </p:txBody>
      </p:sp>
      <p:sp>
        <p:nvSpPr>
          <p:cNvPr id="160" name=""/>
          <p:cNvSpPr txBox="1"/>
          <p:nvPr/>
        </p:nvSpPr>
        <p:spPr>
          <a:xfrm>
            <a:off x="766440" y="1552680"/>
            <a:ext cx="10729800" cy="4395600"/>
          </a:xfrm>
          <a:prstGeom prst="rect">
            <a:avLst/>
          </a:prstGeom>
          <a:noFill/>
          <a:ln w="0">
            <a:noFill/>
          </a:ln>
        </p:spPr>
        <p:txBody>
          <a:bodyPr anchor="t">
            <a:normAutofit fontScale="99000"/>
          </a:bodyPr>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uhvata provjeru (za svaku vrstu projekta; idejno rješenje, idejni projekat, glavni projekat):</a:t>
            </a:r>
            <a:endParaRPr b="0" lang="en-US" sz="1500" spc="-1" strike="noStrike">
              <a:solidFill>
                <a:srgbClr val="ffffff"/>
              </a:solidFill>
              <a:latin typeface="Arial"/>
            </a:endParaRPr>
          </a:p>
          <a:p>
            <a:pPr lvl="1" marL="735480" indent="-28296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urbanističko-tehničkim uslovima, </a:t>
            </a:r>
            <a:endParaRPr b="0" lang="en-US" sz="1500" spc="-1" strike="noStrike">
              <a:solidFill>
                <a:srgbClr val="ffffff"/>
              </a:solidFill>
              <a:latin typeface="Arial"/>
            </a:endParaRPr>
          </a:p>
          <a:p>
            <a:pPr lvl="1" marL="735480" indent="-28296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usklađenosti sa posebnim propisima i pravilima struke u odnosu na pitanja koja nijesu uređena ovim zakonom i usklađenosti sa ovim zakonom</a:t>
            </a:r>
            <a:endParaRPr b="0" lang="en-US" sz="1500" spc="-1" strike="noStrike">
              <a:solidFill>
                <a:srgbClr val="ffffff"/>
              </a:solidFill>
              <a:latin typeface="Arial"/>
            </a:endParaRPr>
          </a:p>
          <a:p>
            <a:pPr lvl="1" marL="735480" indent="-28296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eđusobnu usklađenost svih djelova tehničke dokumentacije</a:t>
            </a:r>
            <a:endParaRPr b="0" lang="en-US" sz="1500" spc="-1" strike="noStrike">
              <a:solidFill>
                <a:srgbClr val="ffffff"/>
              </a:solidFill>
              <a:latin typeface="Arial"/>
            </a:endParaRPr>
          </a:p>
          <a:p>
            <a:pPr lvl="1" marL="735480" indent="-28296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d revizije idejnog projekta, obuhvata  i provjeru</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ravnosti i tačnosti tehničko-tehnoloških rješenja objekta;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arhitektonska rješenja objekta;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abilnosti i bezbjednosti;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acionalnost projektovanih rješenja;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edmjera i predračuna svih radova na izgradnji objekta.</a:t>
            </a:r>
            <a:endParaRPr b="0" lang="en-US" sz="1500" spc="-1" strike="noStrike">
              <a:solidFill>
                <a:srgbClr val="ffffff"/>
              </a:solidFill>
              <a:latin typeface="Arial"/>
            </a:endParaRPr>
          </a:p>
          <a:p>
            <a:pPr lvl="1" marL="735480" indent="-28296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d revizije glavnog projekta obuhvata i provjeru</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idejnim projektom (ako je na osnovu njega izdata dozvola),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uslovima oblikovanja i materijalizacije, posebno u odnosu na ambijentalna svojstva područja;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unjenost osnovnih zahtjeva za objekat;</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edmjera i predračuna svih radova na građenju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GRAĐEVINSKA DOZVOLA ZA SLOŽENI INŽENJERSKI OBJEKAT</a:t>
            </a:r>
            <a:br>
              <a:rPr sz="2800"/>
            </a:br>
            <a:r>
              <a:rPr b="1" lang="sr-Latn-ME" sz="2800" spc="-1" strike="noStrike">
                <a:solidFill>
                  <a:srgbClr val="ffffff"/>
                </a:solidFill>
                <a:latin typeface="Arial"/>
              </a:rPr>
              <a:t>nadležnosti i procedura za izdavanje</a:t>
            </a:r>
            <a:endParaRPr b="0" lang="en-US" sz="2800" spc="-1" strike="noStrike">
              <a:solidFill>
                <a:srgbClr val="ffffff"/>
              </a:solidFill>
              <a:latin typeface="Arial"/>
            </a:endParaRPr>
          </a:p>
        </p:txBody>
      </p:sp>
      <p:sp>
        <p:nvSpPr>
          <p:cNvPr id="162" name=""/>
          <p:cNvSpPr txBox="1"/>
          <p:nvPr/>
        </p:nvSpPr>
        <p:spPr>
          <a:xfrm>
            <a:off x="479520" y="1989000"/>
            <a:ext cx="11377440" cy="4106880"/>
          </a:xfrm>
          <a:prstGeom prst="rect">
            <a:avLst/>
          </a:prstGeom>
          <a:noFill/>
          <a:ln w="0">
            <a:noFill/>
          </a:ln>
        </p:spPr>
        <p:txBody>
          <a:bodyPr anchor="t">
            <a:normAutofit/>
          </a:bodyPr>
          <a:p>
            <a:pPr marL="343080" indent="-343080">
              <a:lnSpc>
                <a:spcPct val="8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dnošenje zahtjeva od strane investitora uz dokumentaciju</a:t>
            </a:r>
            <a:endParaRPr b="0" lang="en-US" sz="1600" spc="-1" strike="noStrike">
              <a:solidFill>
                <a:srgbClr val="ffffff"/>
              </a:solidFill>
              <a:latin typeface="Arial"/>
            </a:endParaRPr>
          </a:p>
          <a:p>
            <a:pPr marL="343080" indent="-343080">
              <a:lnSpc>
                <a:spcPct val="8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daje je  Ministarstvo rješenjem</a:t>
            </a:r>
            <a:endParaRPr b="0" lang="en-US" sz="1600" spc="-1" strike="noStrike">
              <a:solidFill>
                <a:srgbClr val="ffffff"/>
              </a:solidFill>
              <a:latin typeface="Arial"/>
            </a:endParaRPr>
          </a:p>
          <a:p>
            <a:pPr marL="343080" indent="-343080">
              <a:lnSpc>
                <a:spcPct val="8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davanje rješenja u roku 3</a:t>
            </a:r>
            <a:r>
              <a:rPr b="0" lang="sr-Latn-ME" sz="1600" spc="-1" strike="noStrike">
                <a:solidFill>
                  <a:srgbClr val="ffffff"/>
                </a:solidFill>
                <a:latin typeface="Arial"/>
              </a:rPr>
              <a:t>0 </a:t>
            </a:r>
            <a:r>
              <a:rPr b="0" lang="en-US" sz="1600" spc="-1" strike="noStrike">
                <a:solidFill>
                  <a:srgbClr val="ffffff"/>
                </a:solidFill>
                <a:latin typeface="Arial"/>
              </a:rPr>
              <a:t> </a:t>
            </a:r>
            <a:r>
              <a:rPr b="0" lang="sr-Latn-CS" sz="1600" spc="-1" strike="noStrike">
                <a:solidFill>
                  <a:srgbClr val="ffffff"/>
                </a:solidFill>
                <a:latin typeface="Arial"/>
              </a:rPr>
              <a:t>dana (</a:t>
            </a:r>
            <a:r>
              <a:rPr b="0" lang="pl-PL" sz="1600" spc="-1" strike="noStrike">
                <a:solidFill>
                  <a:srgbClr val="ffffff"/>
                </a:solidFill>
                <a:latin typeface="Arial"/>
              </a:rPr>
              <a:t>za objekte za koje je potrebna izrada elaborata o procjeni uticaja na životnu sredinu ili objekat na području pod zaštitom UNESCO, izdaje se u roku od 60 dana)</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vinska dozvola sadrži, naročito:</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e podatke o podnosiocu zahtjeva, ovlašćenom inženjeru koji rukovodi izradom tehničke dokumentacije u cjelini i revizoru koji rukovodi revizijom tehničke dokumentacije u cjelini;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lokaciju;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stu i namjenu objekta;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faznost građenja objekta;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u izrade glavnog projekta, ako se građevinska dozvola izdaje na osnovu idejnog projekta</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p</a:t>
            </a:r>
            <a:r>
              <a:rPr b="0" lang="en-GB" sz="1600" spc="-1" strike="noStrike">
                <a:solidFill>
                  <a:srgbClr val="ffffff"/>
                </a:solidFill>
                <a:latin typeface="Arial"/>
                <a:ea typeface="Times New Roman"/>
              </a:rPr>
              <a:t>oznavanje javnosti sa građevinskom dozvolom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inistarstvo </a:t>
            </a:r>
            <a:r>
              <a:rPr b="0" lang="sr-Latn-ME" sz="1600" spc="-1" strike="noStrike">
                <a:solidFill>
                  <a:srgbClr val="ffffff"/>
                </a:solidFill>
                <a:latin typeface="Arial"/>
                <a:ea typeface="Times New Roman"/>
              </a:rPr>
              <a:t>– </a:t>
            </a:r>
            <a:r>
              <a:rPr b="0" lang="en-GB" sz="1600" spc="-1" strike="noStrike">
                <a:solidFill>
                  <a:srgbClr val="ffffff"/>
                </a:solidFill>
                <a:latin typeface="Arial"/>
                <a:ea typeface="Times New Roman"/>
              </a:rPr>
              <a:t>objavljuje</a:t>
            </a:r>
            <a:r>
              <a:rPr b="0" lang="sr-Latn-ME" sz="1600" spc="-1" strike="noStrike">
                <a:solidFill>
                  <a:srgbClr val="ffffff"/>
                </a:solidFill>
                <a:latin typeface="Arial"/>
                <a:ea typeface="Times New Roman"/>
              </a:rPr>
              <a:t> je</a:t>
            </a:r>
            <a:r>
              <a:rPr b="0" lang="en-GB" sz="1600" spc="-1" strike="noStrike">
                <a:solidFill>
                  <a:srgbClr val="ffffff"/>
                </a:solidFill>
                <a:latin typeface="Arial"/>
                <a:ea typeface="Times New Roman"/>
              </a:rPr>
              <a:t> na </a:t>
            </a:r>
            <a:r>
              <a:rPr b="0" lang="sr-Latn-ME" sz="1600" spc="-1" strike="noStrike">
                <a:solidFill>
                  <a:srgbClr val="ffffff"/>
                </a:solidFill>
                <a:latin typeface="Arial"/>
                <a:ea typeface="Times New Roman"/>
              </a:rPr>
              <a:t>internet stranici </a:t>
            </a:r>
            <a:r>
              <a:rPr b="0" lang="en-GB" sz="1600" spc="-1" strike="noStrike">
                <a:solidFill>
                  <a:srgbClr val="ffffff"/>
                </a:solidFill>
                <a:latin typeface="Arial"/>
                <a:ea typeface="Times New Roman"/>
              </a:rPr>
              <a:t>u roku od 7 dana od dana izdavanj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nvestitor- na mjestu izgradnje objekta ističe tablu sa podacima </a:t>
            </a:r>
            <a:r>
              <a:rPr b="0" lang="vi-VN" sz="1600" spc="-1" strike="noStrike">
                <a:solidFill>
                  <a:srgbClr val="ffffff"/>
                </a:solidFill>
                <a:latin typeface="Arial"/>
                <a:ea typeface="Times New Roman"/>
              </a:rPr>
              <a:t>o investitoru, projektantu, izvođaču radova, vršiocu stručnog nadzora, ovlašćenom inženjeru koji je rukovodio izradom tehničke dokumentacije, ovlašćenom inženjeru koji rukovodi građenjem i revizoru koji je rukovodio revizijom tehničke dokumentacije, 3D vizuelizacijom objekta, odnosno prikazom trase infrastrukture i dr</a:t>
            </a:r>
            <a:r>
              <a:rPr b="0" lang="sr-Latn-ME" sz="1600" spc="-1" strike="noStrike">
                <a:solidFill>
                  <a:srgbClr val="ffffff"/>
                </a:solidFill>
                <a:latin typeface="Arial"/>
                <a:ea typeface="Times New Roman"/>
              </a:rPr>
              <a:t>. („danom dobijanja građevinske dozvo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GRAĐEVINSKA DOZVOLA ZA SLOŽENI INŽENJERSKI OBJEKAT</a:t>
            </a:r>
            <a:br>
              <a:rPr sz="2800"/>
            </a:br>
            <a:r>
              <a:rPr b="1" lang="sr-Latn-ME" sz="2800" spc="-1" strike="noStrike">
                <a:solidFill>
                  <a:srgbClr val="ffffff"/>
                </a:solidFill>
                <a:latin typeface="Arial"/>
              </a:rPr>
              <a:t>potrebna dokumentacija</a:t>
            </a:r>
            <a:endParaRPr b="0" lang="en-US" sz="2800" spc="-1" strike="noStrike">
              <a:solidFill>
                <a:srgbClr val="ffffff"/>
              </a:solidFill>
              <a:latin typeface="Arial"/>
            </a:endParaRPr>
          </a:p>
        </p:txBody>
      </p:sp>
      <p:sp>
        <p:nvSpPr>
          <p:cNvPr id="164" name=""/>
          <p:cNvSpPr txBox="1"/>
          <p:nvPr/>
        </p:nvSpPr>
        <p:spPr>
          <a:xfrm>
            <a:off x="623880" y="1981080"/>
            <a:ext cx="11160000" cy="4114800"/>
          </a:xfrm>
          <a:prstGeom prst="rect">
            <a:avLst/>
          </a:prstGeom>
          <a:noFill/>
          <a:ln w="0">
            <a:noFill/>
          </a:ln>
        </p:spPr>
        <p:txBody>
          <a:bodyPr anchor="t">
            <a:normAutofit/>
          </a:bodyPr>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dejni projekat, ili glavni projekat, ovjeren od strane projektanta i revidenta, štambiljom na kojem je upisan broj, datum i potpis i pečatom na svakom listu glavnog projekt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 o pozitivnoj reviziji idejnog projekta odnosno glavnog projekta (onog iz tačke 1);</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a o pravu svojine, odnosno drugom pravu na građevinskom zemljištu (list nepokretnosti, ugovor o koncesiji, odluka o utvrđivanju javnog interesa i dr.) ili dokaz o pravu građenja, odnosno drugom pravu na objektu;</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glasnost na elaborat zaštite životne sredine ako se građevinska dozvola izdaje na osnovu idejnog projekta, odnosno saglasnosti, mišljenja i drugi dokazi utvrđeni posebnim propisima ako se građevinska dozvola izdaje na osnovu glavnog projekta, i</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i o osiguranju od odgovornosti privrednog društva koje je izradilo i revidovalo idejni, odnosno glavni projekat.</a:t>
            </a:r>
            <a:endParaRPr b="0" lang="en-US" sz="1600" spc="-1" strike="noStrike">
              <a:solidFill>
                <a:srgbClr val="ffffff"/>
              </a:solidFill>
              <a:latin typeface="Arial"/>
            </a:endParaRPr>
          </a:p>
          <a:p>
            <a:pPr marL="343080" indent="-343080">
              <a:spcBef>
                <a:spcPts val="400"/>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e iz tač. 3 i 4 pribavlja Ministarstvo po službenoj dužnosti (ne plaća se taksa, naknada, odnosno drugi troškovi izdavanja)</a:t>
            </a:r>
            <a:endParaRPr b="0" lang="en-US" sz="1600" spc="-1" strike="noStrike">
              <a:solidFill>
                <a:srgbClr val="ffffff"/>
              </a:solidFill>
              <a:latin typeface="Arial"/>
            </a:endParaRPr>
          </a:p>
          <a:p>
            <a:pPr marL="343080" indent="-343080">
              <a:spcBef>
                <a:spcPts val="400"/>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ko organi za tehničke uslove ne dostave dokaze, saglasnosti i mišljenja iz tač. 3 i 4 u roku od 15 dana od dana prijema zahtjeva za njihovo dostavljanje, smatraće se da su saglasni sa revidovanim idejnim, odnosno glavnim projekt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 GRAĐENJA SLOŽENOG INŽENJERSKOG OBJEKTA</a:t>
            </a:r>
            <a:endParaRPr b="0" lang="en-US" sz="2800" spc="-1" strike="noStrike">
              <a:solidFill>
                <a:srgbClr val="ffffff"/>
              </a:solidFill>
              <a:latin typeface="Arial"/>
            </a:endParaRPr>
          </a:p>
        </p:txBody>
      </p:sp>
      <p:sp>
        <p:nvSpPr>
          <p:cNvPr id="166" name=""/>
          <p:cNvSpPr txBox="1"/>
          <p:nvPr/>
        </p:nvSpPr>
        <p:spPr>
          <a:xfrm>
            <a:off x="1193400" y="1752480"/>
            <a:ext cx="10363320" cy="4114800"/>
          </a:xfrm>
          <a:prstGeom prst="rect">
            <a:avLst/>
          </a:prstGeom>
          <a:noFill/>
          <a:ln w="0">
            <a:noFill/>
          </a:ln>
        </p:spPr>
        <p:txBody>
          <a:bodyPr anchor="t">
            <a:normAutofit fontScale="99000"/>
          </a:bodyPr>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gradi na osnovu:</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građevinske dozvole i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umentacije:</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glavni projekat </a:t>
            </a:r>
            <a:r>
              <a:rPr b="0" lang="sr-Latn-ME" sz="1300" spc="-1" strike="noStrike">
                <a:solidFill>
                  <a:srgbClr val="ffffff"/>
                </a:solidFill>
                <a:latin typeface="Arial"/>
              </a:rPr>
              <a:t>ovjeren u skladu sa ovim zakonom;</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zvještaj o pozitivnoj reviziji glavnog projekta</a:t>
            </a:r>
            <a:r>
              <a:rPr b="0" lang="sr-Latn-ME" sz="1300" spc="-1" strike="noStrike">
                <a:solidFill>
                  <a:srgbClr val="ffffff"/>
                </a:solidFill>
                <a:latin typeface="Arial"/>
              </a:rPr>
              <a:t>;</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az o osiguranju od odgovornosti privrednog društva koje je izradilo odnosno revidovalo glavni projekat, koje gradi objekat, koje vrši stručni nadzor, u skladu sa ovim zakonom;</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govor o angažovanju izvođača radova;</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govor o angažovanju stručnog nadzora, i</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az o pravu svojine na zemljištu, odnosno drugom pravu na građenje na zemljištu (list nepokretnosti, ugovor o koncesiji, odluka o utvrđivanju javnog interesa i dr.) ili dokaz o pravu svojine na objektu, odnosno drugom pravu na građenje, ako se radi o rekonstrukciji objekta.</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je dužan da sedam dana prije početka građenja objekta prijavi početak radova nadležnom inspekcijskom organu., uz dokumentaciju:</a:t>
            </a:r>
            <a:endParaRPr b="0" lang="en-US" sz="1300" spc="-1" strike="noStrike">
              <a:solidFill>
                <a:srgbClr val="ffffff"/>
              </a:solidFill>
              <a:latin typeface="Arial"/>
            </a:endParaRPr>
          </a:p>
          <a:p>
            <a:pPr lvl="2" marL="1244880" indent="-33948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je građevinska dozvola izdata na osnovu idejnog projekta -Kompletnu dokumentaciju (tačka 1 do 5)</a:t>
            </a:r>
            <a:endParaRPr b="0" lang="en-US" sz="1300" spc="-1" strike="noStrike">
              <a:solidFill>
                <a:srgbClr val="ffffff"/>
              </a:solidFill>
              <a:latin typeface="Arial"/>
            </a:endParaRPr>
          </a:p>
          <a:p>
            <a:pPr lvl="2" marL="1244880" indent="-33948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je građevinska dozvola izdata na osnovu glavnog projekta - investitor dostavlja dokumentaciju iz tač. 4 i 5 kao i dokaz o osiguranju od odgovornosti privrednog društva koje gradi objekat i koje vrši stručni nadzor.</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omjena investitora može da se vrši do dana stavljanja objekta u upotrebu.</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IPREMNI RADOVI ZA GRAĐENJE SLOŽENOG INŽENJERSKOG OBJEKTA</a:t>
            </a:r>
            <a:endParaRPr b="0" lang="en-US" sz="2800" spc="-1" strike="noStrike">
              <a:solidFill>
                <a:srgbClr val="ffffff"/>
              </a:solidFill>
              <a:latin typeface="Arial"/>
            </a:endParaRPr>
          </a:p>
        </p:txBody>
      </p:sp>
      <p:sp>
        <p:nvSpPr>
          <p:cNvPr id="168" name=""/>
          <p:cNvSpPr txBox="1"/>
          <p:nvPr/>
        </p:nvSpPr>
        <p:spPr>
          <a:xfrm>
            <a:off x="1186920" y="1770120"/>
            <a:ext cx="10363320" cy="4114800"/>
          </a:xfrm>
          <a:prstGeom prst="rect">
            <a:avLst/>
          </a:prstGeom>
          <a:noFill/>
          <a:ln w="0">
            <a:noFill/>
          </a:ln>
        </p:spPr>
        <p:txBody>
          <a:bodyPr anchor="t">
            <a:normAutofit fontScale="97000"/>
          </a:bodyPr>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gu se započeti:</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 izdavanju građevinske dozvole, ili</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uzetno) na osnovu saglasnosti Vlade -pod uslovom da je investitor obezbijedio:</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avu svojine na zemljištu, odnosno drugom pravu na građenje na zemljištu (list nepokretnosti, ugovor o koncesiji, odluka o utvrđivanju javnog interesa i dr.) ili dokaz o pravu svojine na objektu, odnosno drugom pravu na građenje, ako se radi o rekonstrukciji objekta, </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ihvatljivosti građenja sa aspekta uticaja na životnu sredinu (sproveden postupak odlučivanja o potrebi procjene uticaja odnosno postupak davanja saglasnosti na elaborat procjene uticaja, u skladu sa posebnim propisim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ode se na osnovu:</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aborata koji sadrži (bliži sadržaj propisuje organ državne uprave nadležan za djelatnost koja se obavlja u složenom inženjerskom objektu): šemu organizacije gradilišta, vrstu ograde, gradilišne objekte, gradilišne saobraćajnice, mjesto za dizalice, mjesto za dopremu materijala, gradilišne priključke (elektro, saobraćajne, vodovodne) i dr., kao i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aborata zaštite na radu , sačinjenim  u skladu sa posebnim propisima.</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lana upravljanja građevinskim otpadom, sačinjenim  u skladu sa posebnim propisim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prijavljuje početak pripremnih radova nadležnom inspekcijskom organu 7 dana prije početka tih radov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dležni inspekcijski organ prijavu pripremnih radova objavljuje  na internet stranici u roku od 3 dana od dana prijema prijave radov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BAVEZE INVESTITORA</a:t>
            </a:r>
            <a:br>
              <a:rPr sz="2800"/>
            </a:br>
            <a:r>
              <a:rPr b="1" lang="sr-Latn-ME" sz="2800" spc="-1" strike="noStrike">
                <a:solidFill>
                  <a:srgbClr val="ffffff"/>
                </a:solidFill>
                <a:latin typeface="Arial"/>
              </a:rPr>
              <a:t>koji gradi složeni inženjerski objekat</a:t>
            </a:r>
            <a:endParaRPr b="0" lang="en-US" sz="2800" spc="-1" strike="noStrike">
              <a:solidFill>
                <a:srgbClr val="ffffff"/>
              </a:solidFill>
              <a:latin typeface="Arial"/>
            </a:endParaRPr>
          </a:p>
        </p:txBody>
      </p:sp>
      <p:sp>
        <p:nvSpPr>
          <p:cNvPr id="17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je početka građenja investitor je dužan da izvođaču radova dostav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vjereni revidovani glavni projekat u elektronskoj i analognoj formi 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vinsku dozvol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toku građenja objekta (</a:t>
            </a:r>
            <a:r>
              <a:rPr b="0" lang="vi-VN" sz="1600" spc="-1" strike="noStrike">
                <a:solidFill>
                  <a:srgbClr val="ffffff"/>
                </a:solidFill>
                <a:latin typeface="Arial"/>
              </a:rPr>
              <a:t>počev od dana izvođenja pripremnih radova na objektu do završetka svih radova i stavljanja objekta u upotrebu</a:t>
            </a:r>
            <a:r>
              <a:rPr b="0" lang="sr-Latn-ME" sz="1600" spc="-1" strike="noStrike">
                <a:solidFill>
                  <a:srgbClr val="ffffff"/>
                </a:solidFill>
                <a:latin typeface="Arial"/>
              </a:rPr>
              <a:t>) – da obezbijedi vršenje stručnog nadzor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nad građenjem objekta može vršiti i investitor neposredno il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eko privrednog društva koje je izradilo tehničku dokumentacij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u određenom roku vrši odgovarajuća osmatranja ponašanja tla i objekta i uticaja objekta na životnu sredinu (u zavisnosti od karakteristika tla i objekta) i da o rezultatima tih osmatranja i preduzetim mjerama obavještava nadležni inspekcijski orga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GRADILIŠNA DOKUMENTACIJA</a:t>
            </a:r>
            <a:br>
              <a:rPr sz="3200"/>
            </a:br>
            <a:r>
              <a:rPr b="1" lang="sr-Latn-ME" sz="3200" spc="-1" strike="noStrike">
                <a:solidFill>
                  <a:srgbClr val="ffffff"/>
                </a:solidFill>
                <a:latin typeface="Arial"/>
              </a:rPr>
              <a:t>čuva je izvođač</a:t>
            </a:r>
            <a:endParaRPr b="0" lang="en-US" sz="3200" spc="-1" strike="noStrike">
              <a:solidFill>
                <a:srgbClr val="ffffff"/>
              </a:solidFill>
              <a:latin typeface="Arial"/>
            </a:endParaRPr>
          </a:p>
        </p:txBody>
      </p:sp>
      <p:sp>
        <p:nvSpPr>
          <p:cNvPr id="172" name=""/>
          <p:cNvSpPr txBox="1"/>
          <p:nvPr/>
        </p:nvSpPr>
        <p:spPr>
          <a:xfrm>
            <a:off x="479520" y="1700280"/>
            <a:ext cx="10872720" cy="43956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izvođača radova za obavljanje djelatnosti iz člana 122 ovog zako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ješenje o imenovanju ovlašćenog inženjera koji rukovodi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 </a:t>
            </a:r>
            <a:r>
              <a:rPr b="0" lang="vi-VN" sz="1600" spc="-1" strike="noStrike">
                <a:solidFill>
                  <a:srgbClr val="ffffff"/>
                </a:solidFill>
                <a:latin typeface="Arial"/>
              </a:rPr>
              <a:t>ovlašćenog inženjera koji rukovodi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stručnog nadzora za obavljanje djelatnosti iz člana 124 ovog zako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t>
            </a:r>
            <a:r>
              <a:rPr b="0" lang="vi-VN" sz="1600" spc="-1" strike="noStrike">
                <a:solidFill>
                  <a:srgbClr val="ffffff"/>
                </a:solidFill>
                <a:latin typeface="Arial"/>
              </a:rPr>
              <a:t>ješenje o imenovanju revizora koji rukovodi vršenjem stručnog nadzora nad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revizora koji rukovodi vršenjem stručnog nadzora nad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okaz o osiguranju od odgovornosti izvođača radova i stručnog nadz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građevinski dnevnik i građevinsku knjig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rPr>
              <a:t> </a:t>
            </a:r>
            <a:r>
              <a:rPr b="1" lang="sr-Latn-ME" sz="1600" spc="-1" strike="noStrike">
                <a:solidFill>
                  <a:srgbClr val="ffffff"/>
                </a:solidFill>
                <a:latin typeface="Arial"/>
              </a:rPr>
              <a:t>građevinska dozvola </a:t>
            </a:r>
            <a:r>
              <a:rPr b="0" i="1" lang="sr-Latn-ME" sz="1600" spc="-1" strike="noStrike">
                <a:solidFill>
                  <a:srgbClr val="ffffff"/>
                </a:solidFill>
                <a:latin typeface="Arial"/>
              </a:rPr>
              <a:t>(za ostale objekte je to bila prijava građen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ovjereni revidovani glavni projekat u elektronskoj i analognoj form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uređenju gradiliš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obilježavanju lokacije i iskolčavanju objek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zapisni</a:t>
            </a:r>
            <a:r>
              <a:rPr b="0" lang="sr-Latn-ME" sz="1600" spc="-1" strike="noStrike">
                <a:solidFill>
                  <a:srgbClr val="ffffff"/>
                </a:solidFill>
                <a:latin typeface="Arial"/>
              </a:rPr>
              <a:t>ci</a:t>
            </a:r>
            <a:r>
              <a:rPr b="0" lang="vi-VN" sz="1600" spc="-1" strike="noStrike">
                <a:solidFill>
                  <a:srgbClr val="ffffff"/>
                </a:solidFill>
                <a:latin typeface="Arial"/>
              </a:rPr>
              <a:t> nadležnih inspekcijskih organa, 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rug</a:t>
            </a:r>
            <a:r>
              <a:rPr b="0" lang="sr-Latn-ME" sz="1600" spc="-1" strike="noStrike">
                <a:solidFill>
                  <a:srgbClr val="ffffff"/>
                </a:solidFill>
                <a:latin typeface="Arial"/>
              </a:rPr>
              <a:t>a</a:t>
            </a:r>
            <a:r>
              <a:rPr b="0" lang="vi-VN" sz="1600" spc="-1" strike="noStrike">
                <a:solidFill>
                  <a:srgbClr val="ffffff"/>
                </a:solidFill>
                <a:latin typeface="Arial"/>
              </a:rPr>
              <a:t> dokumentaciju koju je dužan da prikuplja i čuva tokom građenja</a:t>
            </a:r>
            <a:r>
              <a:rPr b="0" lang="sr-Latn-ME" sz="1600" spc="-1" strike="noStrike">
                <a:solidFill>
                  <a:srgbClr val="ffffff"/>
                </a:solidFill>
                <a:latin typeface="Arial"/>
              </a:rPr>
              <a:t> Izvođač</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STRUČNI NADZOR</a:t>
            </a:r>
            <a:br>
              <a:rPr sz="2800"/>
            </a:br>
            <a:r>
              <a:rPr b="1" lang="sr-Latn-ME" sz="2400" spc="-1" strike="noStrike">
                <a:solidFill>
                  <a:srgbClr val="ffffff"/>
                </a:solidFill>
                <a:latin typeface="Arial"/>
              </a:rPr>
              <a:t>obuhvata (</a:t>
            </a:r>
            <a:r>
              <a:rPr b="1" lang="sr-Latn-ME" sz="2400" spc="-1" strike="noStrike">
                <a:solidFill>
                  <a:srgbClr val="59c1ff"/>
                </a:solidFill>
                <a:latin typeface="Arial"/>
              </a:rPr>
              <a:t>za sve objekte, </a:t>
            </a:r>
            <a:r>
              <a:rPr b="1" lang="sr-Latn-ME" sz="2400" spc="-1" strike="noStrike">
                <a:solidFill>
                  <a:srgbClr val="ffffff"/>
                </a:solidFill>
                <a:latin typeface="Arial"/>
              </a:rPr>
              <a:t>pa i za složene inženjerske objekte)</a:t>
            </a:r>
            <a:endParaRPr b="0" lang="en-US" sz="2400" spc="-1" strike="noStrike">
              <a:solidFill>
                <a:srgbClr val="ffffff"/>
              </a:solidFill>
              <a:latin typeface="Arial"/>
            </a:endParaRPr>
          </a:p>
        </p:txBody>
      </p:sp>
      <p:sp>
        <p:nvSpPr>
          <p:cNvPr id="174"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izvođenja radova prema revidovanom glavnom projektu, ovom zakonu i posebnim propisi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usklađenosti radova;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kvaliteta izvođenja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kvaliteta materijala, instalacija i uređaja koji se ugrađuj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da li materijali, instalacije i uređaji koji se ugrađuju imaju propisanu dokumentaciju neophodnu za njihovo stavljanje u upotreb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dovno praćenje dinamike izvođenja radova i poštovanje ugovorenih rok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koje je naložio izvođaču radova da preduzme u cilju otklanjanja nedostataka pri izvođenju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radova koji se nakon zatvaranja, odnosno pokrivanja ne mogu kontrolisat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za zaštitu životne sredin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efinisanje faza za koje je neophodno sačiniti izvještaj;</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vanje tehnoloških i organizacionih upustava izvođaču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aradnju sa projektantom radi obezbjeđenja detalja za nesmetano izvođenje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daje naloge izvođaču i investitoru u slučaju potrebe izmjene projekta, a u nekim slučajevima o tome obavještava i nadležni inspekcijski orga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VRŠENJE STRUČNOG NADZORA</a:t>
            </a:r>
            <a:br>
              <a:rPr sz="3200"/>
            </a:br>
            <a:r>
              <a:rPr b="1" lang="sr-Latn-ME" sz="2800" spc="-1" strike="noStrike">
                <a:solidFill>
                  <a:srgbClr val="ffffff"/>
                </a:solidFill>
                <a:latin typeface="Arial"/>
              </a:rPr>
              <a:t>kod složenog inženjerskog objekta</a:t>
            </a:r>
            <a:endParaRPr b="0" lang="en-US" sz="2800" spc="-1" strike="noStrike">
              <a:solidFill>
                <a:srgbClr val="ffffff"/>
              </a:solidFill>
              <a:latin typeface="Arial"/>
            </a:endParaRPr>
          </a:p>
        </p:txBody>
      </p:sp>
      <p:sp>
        <p:nvSpPr>
          <p:cNvPr id="176" name=""/>
          <p:cNvSpPr txBox="1"/>
          <p:nvPr/>
        </p:nvSpPr>
        <p:spPr>
          <a:xfrm>
            <a:off x="479160" y="1700280"/>
            <a:ext cx="11304360" cy="440352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čin obavljanja stručnog nadzora, obavezne faze u toku građenja za koje se radi izvještaj i način izrade i bližu sadržinu izvještaja o stručnom nadzoru kod složenog inženjerskog objekta propisuje </a:t>
            </a:r>
            <a:r>
              <a:rPr b="1" lang="sr-Latn-ME" sz="1600" spc="-1" strike="noStrike" u="sng">
                <a:solidFill>
                  <a:srgbClr val="ffffff"/>
                </a:solidFill>
                <a:uFillTx/>
                <a:latin typeface="Arial"/>
              </a:rPr>
              <a:t>organ državne uprave nadležan za djelatnosti koje se obavljaju u složenim inženjerskim objektim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sačinjava :</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e po fazama građenja objekta, (</a:t>
            </a:r>
            <a:r>
              <a:rPr b="0" lang="sr-Latn-ME" sz="1600" spc="-1" strike="noStrike">
                <a:solidFill>
                  <a:srgbClr val="ffffff"/>
                </a:solidFill>
                <a:latin typeface="Arial"/>
              </a:rPr>
              <a:t>sa sadržajem i po proceduri koja je slična onoj propisanoj za ostale objekte</a:t>
            </a:r>
            <a:r>
              <a:rPr b="0" lang="sr-Latn-ME" sz="1600" spc="-1" strike="noStrike">
                <a:solidFill>
                  <a:srgbClr val="ffffff"/>
                </a:solidFill>
                <a:latin typeface="Arial"/>
              </a:rPr>
              <a:t>): </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obavještava  nadležni inspekcijski organ tri radna dana prije početka prijema radova određene faze građenja</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dležni inspekcijski organ može da prisustvuje prijemu pojedinačne faze građenja objekta</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dostavlja izvještaj nadležnom inspekcijskom organu u roku od tri dana od dana prijema radova određene faze građenja .</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načni izvještaj (</a:t>
            </a:r>
            <a:r>
              <a:rPr b="0" lang="pl-PL" sz="1600" spc="-1" strike="noStrike">
                <a:solidFill>
                  <a:srgbClr val="ffffff"/>
                </a:solidFill>
                <a:latin typeface="Arial"/>
              </a:rPr>
              <a:t>sa sadržajem i po proceduri koja je slična onoj propisanoj za ostale objekte</a:t>
            </a:r>
            <a:r>
              <a:rPr b="0" lang="sr-Latn-ME" sz="1600" spc="-1" strike="noStrike">
                <a:solidFill>
                  <a:srgbClr val="ffffff"/>
                </a:solidFill>
                <a:latin typeface="Arial"/>
              </a:rPr>
              <a:t>):</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ačne konstatacije stručnog nadzora o izvedenim radovima na građenju objekta</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isanu izjavu stručnog nadzora da je objekat građen u skladu sa revidovanim glavnim projektom odnosno, zakonom i drugim propisima </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javu stručnog nadzora da je objekat podoban za upotrebu i da se može namjenski koristit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ZVOĐAČA</a:t>
            </a:r>
            <a:br>
              <a:rPr sz="3200"/>
            </a:br>
            <a:r>
              <a:rPr b="1" lang="sr-Latn-ME" sz="3200" spc="-1" strike="noStrike">
                <a:solidFill>
                  <a:srgbClr val="ffffff"/>
                </a:solidFill>
                <a:latin typeface="Arial"/>
              </a:rPr>
              <a:t>(kao i </a:t>
            </a:r>
            <a:r>
              <a:rPr b="1" lang="sr-Latn-ME" sz="3200" spc="-1" strike="noStrike">
                <a:solidFill>
                  <a:srgbClr val="59c1ff"/>
                </a:solidFill>
                <a:latin typeface="Arial"/>
              </a:rPr>
              <a:t>kod ostalih objekata</a:t>
            </a:r>
            <a:r>
              <a:rPr b="1" lang="sr-Latn-ME" sz="3200" spc="-1" strike="noStrike">
                <a:solidFill>
                  <a:srgbClr val="ffffff"/>
                </a:solidFill>
                <a:latin typeface="Arial"/>
              </a:rPr>
              <a:t>)</a:t>
            </a:r>
            <a:endParaRPr b="0" lang="en-US" sz="3200" spc="-1" strike="noStrike">
              <a:solidFill>
                <a:srgbClr val="ffffff"/>
              </a:solidFill>
              <a:latin typeface="Arial"/>
            </a:endParaRPr>
          </a:p>
        </p:txBody>
      </p:sp>
      <p:sp>
        <p:nvSpPr>
          <p:cNvPr id="178" name=""/>
          <p:cNvSpPr txBox="1"/>
          <p:nvPr/>
        </p:nvSpPr>
        <p:spPr>
          <a:xfrm>
            <a:off x="550800" y="1757520"/>
            <a:ext cx="11522160" cy="4114800"/>
          </a:xfrm>
          <a:prstGeom prst="rect">
            <a:avLst/>
          </a:prstGeom>
          <a:noFill/>
          <a:ln w="0">
            <a:noFill/>
          </a:ln>
        </p:spPr>
        <p:txBody>
          <a:bodyPr anchor="t">
            <a:normAutofit fontScale="95000"/>
          </a:bodyPr>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izvodi radove u skladu sa revidovanim glavnim projektom;</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vrši obilježavanje regulacionih i građevinskih linija, nivelacionih kota objekta, odnosno trase na terenu, u skladu sa revidovanim glavnim projektom;</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na gradilištu posjeduje primjerak glavnog projekta u analognoj formi ovjeren od strane projektanta i revidenta, štambiljom na kojem je upisan broj, datum i potpis i pečatom na svakom listu glavnog projekt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rganizuje gradilište na način kojim će se obezbijediti pristup lokaciji, nesmetani saobraćaj i zaštita okoline za vrijeme trajanja građenj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štiti stabla, živu ogradu i ostale zasade, koji se na osnovu posebnih propisa moraju čuvati i zaštititi tokom izvođenja građevinskih radov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ezbijedi sigurnost objekta, zaštitu i zdravlje na radu zaposlenih i zaštitu okoline (susjednih objekata i infrastrukture);</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ezbijedi dokaz o kvalitetu izvedenih radova, odnosno ugrađenih građevinskih proizvoda, instalacija i opreme, izdat od strane ovlašćenog lic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vodi građevinski dnevnik i građevinsku knjigu;</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ezbijedi mjerenja i geodetsko osmatranje ponašanja tla i objekta u toku građenja;</a:t>
            </a:r>
            <a:r>
              <a:rPr b="0" lang="sr-Latn-ME" sz="1200" spc="-1" strike="noStrike">
                <a:solidFill>
                  <a:srgbClr val="ffffff"/>
                </a:solidFill>
                <a:latin typeface="Arial"/>
              </a:rPr>
              <a:t> </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rađuje građevinski otpad nastao tokom građenja na gradilištu u skladu sa planom upravljanja građevinskim otpadom, sačinjenim u skladu sa posebnim propisima, i</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ukloni objekte privremenog karaktera koji su služili za izvođenje radova na gradilištu u roku od 30 dana od dana završetka radov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čuva na gradilištu gradilišnu dokumentaciju obavijesti nadležni inspekcijski organ u slučaju nailaska na arheološka nalazišta, fosile, aktivna klizišta, podzemne vode i sl. i obustavi radove koji ih mogu ugroziti</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pozori stručni nadzor u slučaju da u revidovanom glavnom projektu uoči </a:t>
            </a:r>
            <a:r>
              <a:rPr b="0" lang="sr-Latn-ME" sz="1200" spc="-1" strike="noStrike">
                <a:solidFill>
                  <a:srgbClr val="ffffff"/>
                </a:solidFill>
                <a:latin typeface="Arial"/>
              </a:rPr>
              <a:t>nedostatke koji ne utiču na promjenu horizontalnih i vertikalnih gabarita objekta, kao ni promjenu fasade zgrade (ako se radi o zgradi)</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a po nalogu stručnog nadzora obustavi radove, u slučaju da uočeni nedostaci u glavnom projektu ugrožavaju život i zdravlje ljudi, sigurnost objekta, okolinu, saobraćaj i/ili susjedne objekte</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avijesti stručni nadzor ako zbog nedostataka prouzrokovanih nepredviđenim okolnostima (nedovoljna nosivost tla, visoki nivo podzemnih voda, promjene djelova elemenata i opreme koja je fabrički proizvedena i instalacije i sl.), ne može da izvodi radove po revidovanom glavnom projektu</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LICENCE</a:t>
            </a:r>
            <a:endParaRPr b="0" lang="en-US" sz="3200" spc="-1" strike="noStrike">
              <a:solidFill>
                <a:srgbClr val="ffffff"/>
              </a:solidFill>
              <a:latin typeface="Arial"/>
            </a:endParaRPr>
          </a:p>
        </p:txBody>
      </p:sp>
      <p:sp>
        <p:nvSpPr>
          <p:cNvPr id="126" name=""/>
          <p:cNvSpPr txBox="1"/>
          <p:nvPr/>
        </p:nvSpPr>
        <p:spPr>
          <a:xfrm>
            <a:off x="911160" y="1752120"/>
            <a:ext cx="10671120" cy="4343400"/>
          </a:xfrm>
          <a:prstGeom prst="rect">
            <a:avLst/>
          </a:prstGeom>
          <a:noFill/>
          <a:ln w="0">
            <a:noFill/>
          </a:ln>
        </p:spPr>
        <p:txBody>
          <a:bodyPr anchor="t">
            <a:normAutofit/>
          </a:bodyPr>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licenca akt kojim se utvrđuje ispunjenost uslova za obavljanje djelatnosti (pravna i fizička lica, domaća i stran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zrada tehničke dokumentacije, građenje objekata odnosno izvođenja pojedinih radova na građenju objek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evizija tehničke dokumentacije, vršenje stručnog nadzora </a:t>
            </a:r>
            <a:endParaRPr b="0" lang="en-US" sz="1200" spc="-1" strike="noStrike">
              <a:solidFill>
                <a:srgbClr val="ffffff"/>
              </a:solidFill>
              <a:latin typeface="Arial"/>
            </a:endParaRPr>
          </a:p>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Izdavanje licence</a:t>
            </a:r>
            <a:r>
              <a:rPr b="0" lang="sr-Latn-ME" sz="1200" spc="-1" strike="noStrike">
                <a:solidFill>
                  <a:srgbClr val="ffffff"/>
                </a:solidFill>
                <a:latin typeface="Arial"/>
                <a:ea typeface="Times New Roman"/>
              </a:rPr>
              <a:t> (prvi put , nakon isteka roka važenja licence iil nakon isteka roka na koji je oduzet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rješenjem </a:t>
            </a:r>
            <a:r>
              <a:rPr b="0" lang="sr-Latn-ME" sz="1200" spc="-1" strike="noStrike">
                <a:solidFill>
                  <a:srgbClr val="ffffff"/>
                </a:solidFill>
                <a:latin typeface="Arial"/>
                <a:ea typeface="Times New Roman"/>
              </a:rPr>
              <a:t> Ministarstv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ea typeface="Times New Roman"/>
              </a:rPr>
              <a:t>ne plaća se naknada za izdavanje licenci</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za privredno društvo izdaje se za period od pet godina, uz obavezu prijave promjena koje utiču na ispunjenost uslova za sticanje licence</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ea typeface="Times New Roman"/>
              </a:rPr>
              <a:t>za fizičko lice  na neodređeno vrijeme</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vodi se registar</a:t>
            </a:r>
            <a:r>
              <a:rPr b="0" lang="sr-Latn-ME" sz="1200" spc="-1" strike="noStrike">
                <a:solidFill>
                  <a:srgbClr val="ffffff"/>
                </a:solidFill>
                <a:latin typeface="Arial"/>
                <a:ea typeface="Times New Roman"/>
              </a:rPr>
              <a:t> (izdatih i oduzetih), a podaci se objavljuju na sajtu Ministarstva</a:t>
            </a:r>
            <a:endParaRPr b="0" lang="en-US" sz="1200" spc="-1" strike="noStrike">
              <a:solidFill>
                <a:srgbClr val="ffffff"/>
              </a:solidFill>
              <a:latin typeface="Arial"/>
            </a:endParaRPr>
          </a:p>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ea typeface="Times New Roman"/>
              </a:rPr>
              <a:t>Ukidanje </a:t>
            </a:r>
            <a:r>
              <a:rPr b="0" lang="en-GB" sz="1200" spc="-1" strike="noStrike">
                <a:solidFill>
                  <a:srgbClr val="ffffff"/>
                </a:solidFill>
                <a:latin typeface="Arial"/>
                <a:ea typeface="Times New Roman"/>
              </a:rPr>
              <a:t> licence (</a:t>
            </a:r>
            <a:r>
              <a:rPr b="0" lang="sr-Latn-ME" sz="1200" spc="-1" strike="noStrike">
                <a:solidFill>
                  <a:srgbClr val="ffffff"/>
                </a:solidFill>
                <a:latin typeface="Arial"/>
                <a:ea typeface="Times New Roman"/>
              </a:rPr>
              <a:t>Ministarstvo po službenoj dužnosti, ili na zahtjev zainteresovanog lica</a:t>
            </a:r>
            <a:r>
              <a:rPr b="0" lang="en-GB" sz="1200" spc="-1" strike="noStrike">
                <a:solidFill>
                  <a:srgbClr val="ffffff"/>
                </a:solidFill>
                <a:latin typeface="Arial"/>
                <a:ea typeface="Times New Roman"/>
              </a:rPr>
              <a:t>) i obavještavanje nadležnog inspekcijskog organa, ako:</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djelatnost vrši suprotno </a:t>
            </a:r>
            <a:r>
              <a:rPr b="0" lang="sr-Latn-ME" sz="1200" spc="-1" strike="noStrike">
                <a:solidFill>
                  <a:srgbClr val="ffffff"/>
                </a:solidFill>
                <a:latin typeface="Arial"/>
                <a:ea typeface="Times New Roman"/>
              </a:rPr>
              <a:t> uslovima propisanim zakonom za obavljanje djelatnosti –oduzima se na period od 3 mjeseca do 5 godina,ili trajno za projekttanta, izvođača i ovlašćenog inženjera, ili  </a:t>
            </a:r>
            <a:r>
              <a:rPr b="0" lang="pl-PL" sz="1200" spc="-1" strike="noStrike">
                <a:solidFill>
                  <a:srgbClr val="ffffff"/>
                </a:solidFill>
                <a:latin typeface="Arial"/>
                <a:ea typeface="Times New Roman"/>
              </a:rPr>
              <a:t>na period od 1 do 5 godina ili trajno </a:t>
            </a:r>
            <a:r>
              <a:rPr b="0" lang="sr-Latn-ME" sz="1200" spc="-1" strike="noStrike">
                <a:solidFill>
                  <a:srgbClr val="ffffff"/>
                </a:solidFill>
                <a:latin typeface="Arial"/>
                <a:ea typeface="Times New Roman"/>
              </a:rPr>
              <a:t>za revidenta, stručni nadzor i revizor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se utvrdi da je licenca izdata na osnovu netačnih podatak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prestane da ispunjava uslove za obavljanje djelatnosti utvrđene ovim zakonom;</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ocu licence bude oduzeta poslovna sposobnost;</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prestane da postoji po sili zakona, </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postane trajno nesposoban za obavljanje poslov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ea typeface="Times New Roman"/>
              </a:rPr>
              <a:t>imalac licence u toku jedne godine se nije stručno usavršavao odnosno, ako u toku jedne godine nije stekao propisani broj bodova </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TEHNIČKI PREGLED SLOŽENIH INŽENJERSKIH OBJEKATA</a:t>
            </a:r>
            <a:br>
              <a:rPr sz="2800"/>
            </a:br>
            <a:r>
              <a:rPr b="1" lang="sr-Latn-ME" sz="2800" spc="-1" strike="noStrike">
                <a:solidFill>
                  <a:srgbClr val="ffffff"/>
                </a:solidFill>
                <a:latin typeface="Arial"/>
              </a:rPr>
              <a:t>cilj i obuhvat</a:t>
            </a:r>
            <a:endParaRPr b="0" lang="en-US" sz="2800" spc="-1" strike="noStrike">
              <a:solidFill>
                <a:srgbClr val="ffffff"/>
              </a:solidFill>
              <a:latin typeface="Arial"/>
            </a:endParaRPr>
          </a:p>
        </p:txBody>
      </p:sp>
      <p:sp>
        <p:nvSpPr>
          <p:cNvPr id="18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cilj: da se utvrdi podobnost  za upotrebu složenog inženjerskog objek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uhvata:  kontrolu usklađenosti izvedenih radova sa revidovanim glavnim projektom, kao i sa propisima, standardima, tehničkim normativima i normama kvaliteta koje važe za pojedine vrste radova, odnosno materijala, opreme i instalaci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se vršiti tehnički pregled složenog inženjerskog objekta ili dijela objekta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da se vrši i uporedo sa građenjem objekta, a u tom slučaju vršilac tehničkog pregleda određuje se građevinskom dozvol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ši se uz prisustvo nadležnog inspekcijskog orga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šioca </a:t>
            </a:r>
            <a:r>
              <a:rPr b="0" lang="sr-Latn-ME" sz="1600" spc="-1" strike="noStrike">
                <a:solidFill>
                  <a:srgbClr val="ffffff"/>
                </a:solidFill>
                <a:latin typeface="Arial"/>
              </a:rPr>
              <a:t>tehničkog pregleda određuje organ državne uprave nadležan za djelatnost koja se vrši u složenom inženjerskom objek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roškove tehničkog pregleda objekta snosi investito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 tehničkom pregledu podnosi se izvještaj, na osnovu kojeg se može izdati upotrebna dozvol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se odobriti upotreba samo ako je objekat, odnosno dio objekta izgrađen u skladu sa građevinskom dozvolom i revidovanim glavnim projekt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TEHNIČKI PREGLED SLOŽENIH INŽENJERSKIH OBJEKATA</a:t>
            </a:r>
            <a:br>
              <a:rPr sz="2800"/>
            </a:br>
            <a:r>
              <a:rPr b="1" lang="sr-Latn-ME" sz="2800" spc="-1" strike="noStrike">
                <a:solidFill>
                  <a:srgbClr val="ffffff"/>
                </a:solidFill>
                <a:latin typeface="Arial"/>
              </a:rPr>
              <a:t>procedura</a:t>
            </a:r>
            <a:endParaRPr b="0" lang="en-US" sz="2800" spc="-1" strike="noStrike">
              <a:solidFill>
                <a:srgbClr val="ffffff"/>
              </a:solidFill>
              <a:latin typeface="Arial"/>
            </a:endParaRPr>
          </a:p>
        </p:txBody>
      </p:sp>
      <p:sp>
        <p:nvSpPr>
          <p:cNvPr id="182" name=""/>
          <p:cNvSpPr txBox="1"/>
          <p:nvPr/>
        </p:nvSpPr>
        <p:spPr>
          <a:xfrm>
            <a:off x="982440" y="1752480"/>
            <a:ext cx="10729800" cy="4251600"/>
          </a:xfrm>
          <a:prstGeom prst="rect">
            <a:avLst/>
          </a:prstGeom>
          <a:noFill/>
          <a:ln w="0">
            <a:noFill/>
          </a:ln>
        </p:spPr>
        <p:txBody>
          <a:bodyPr anchor="t">
            <a:normAutofit fontScale="97000"/>
          </a:bodyPr>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menuje se vršilac tehničkog pregleda  (imenuje ga organ državne uprave nadležan za djelatnost koja se vrši u složenom inženjerskom objektu)</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lac tehničkog pregleda pregleda dokumentaciju i objekat (izvedene radove) – uz prisustvo nadležnog inspekcijskog organa - da bi utvrdio da li je objekat odoban za upotrebu</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lac tehničkog pregleda  o tome sačinjava izvještaj  u kojem može da predlož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potrebu objekta (uz izjavu da je objekat izgrađen u skladu sa revidovanim glavnim projektom, kao i sa propisima, standardima, tehničkim normativima i normama kvaliteta koje važe za pojedine vrste radova, odnosno materijala, opreme i instalacija). il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tklanjanje utvrđenih nedostataka il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u upotrebe objekta.</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an je da, u roku od 7 dana od završetka tehničkog pregleda, dostavi izvještaj o tehničkom pregledu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inistarstvu 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u.</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inistarstvo, po prijemu izvještaja o tehničkom pregledu:</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daje upotrebnu dozvolu  il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laže investitoru otklanjanje utvrđenih nedostataka u određenom roku</a:t>
            </a:r>
            <a:endParaRPr b="0" lang="en-US" sz="1300" spc="-1" strike="noStrike">
              <a:solidFill>
                <a:srgbClr val="ffffff"/>
              </a:solidFill>
              <a:latin typeface="Arial"/>
            </a:endParaRPr>
          </a:p>
          <a:p>
            <a:pPr lvl="2" marL="1108440" indent="-221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otklanja nedostatke, azatim</a:t>
            </a:r>
            <a:endParaRPr b="0" lang="en-US" sz="1300" spc="-1" strike="noStrike">
              <a:solidFill>
                <a:srgbClr val="ffffff"/>
              </a:solidFill>
              <a:latin typeface="Arial"/>
            </a:endParaRPr>
          </a:p>
          <a:p>
            <a:pPr lvl="2" marL="1108440" indent="-221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htijeva ponovni tehnički pregled</a:t>
            </a:r>
            <a:endParaRPr b="0" lang="en-US" sz="1300" spc="-1" strike="noStrike">
              <a:solidFill>
                <a:srgbClr val="ffffff"/>
              </a:solidFill>
              <a:latin typeface="Arial"/>
            </a:endParaRPr>
          </a:p>
          <a:p>
            <a:pPr lvl="2" marL="1108440" indent="-221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kod ponovnog tehničkog pregleda kontrolišu se samo oni radovi koje je trebalo popraviti ili naknadno uraditi. Il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uje upotrebu objekta.</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 KORIŠĆENJA SLOŽENOG INŽENJERSKOG OBJEKTA</a:t>
            </a:r>
            <a:br>
              <a:rPr sz="2800"/>
            </a:br>
            <a:r>
              <a:rPr b="1" lang="sr-Latn-ME" sz="2800" spc="-1" strike="noStrike">
                <a:solidFill>
                  <a:srgbClr val="ffffff"/>
                </a:solidFill>
                <a:latin typeface="Arial"/>
              </a:rPr>
              <a:t>(upotrebna dozvola)</a:t>
            </a:r>
            <a:endParaRPr b="0" lang="en-US" sz="2800" spc="-1" strike="noStrike">
              <a:solidFill>
                <a:srgbClr val="ffffff"/>
              </a:solidFill>
              <a:latin typeface="Arial"/>
            </a:endParaRPr>
          </a:p>
        </p:txBody>
      </p:sp>
      <p:sp>
        <p:nvSpPr>
          <p:cNvPr id="18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rišćenje složenog inženjerskog objekta nije dozvoljeno prije dobijanja upotrebne dozvole, osim u slučajevima probnog rada ili funkcionalnog ispitivanja ugrađene oprem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otrebnu dozvolu izdaje rješenjem Ministarstv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daje se za objekat ili dio objekta za koji je građevinskom dozvolom određena faznost građenja, odnosno koji predstavlja tehničko-tehnološku cjelinu i može se kao takav samostalno koristit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 KORIŠĆENJA SLOŽENOG INŽENJERSKOG OBJEKTA</a:t>
            </a:r>
            <a:br>
              <a:rPr sz="2800"/>
            </a:br>
            <a:r>
              <a:rPr b="1" lang="sr-Latn-ME" sz="2800" spc="-1" strike="noStrike">
                <a:solidFill>
                  <a:srgbClr val="ffffff"/>
                </a:solidFill>
                <a:latin typeface="Arial"/>
              </a:rPr>
              <a:t>(upotrebna dozvola -procedura)</a:t>
            </a:r>
            <a:endParaRPr b="0" lang="en-US" sz="2800" spc="-1" strike="noStrike">
              <a:solidFill>
                <a:srgbClr val="ffffff"/>
              </a:solidFill>
              <a:latin typeface="Arial"/>
            </a:endParaRPr>
          </a:p>
        </p:txBody>
      </p:sp>
      <p:sp>
        <p:nvSpPr>
          <p:cNvPr id="186" name=""/>
          <p:cNvSpPr txBox="1"/>
          <p:nvPr/>
        </p:nvSpPr>
        <p:spPr>
          <a:xfrm>
            <a:off x="623520" y="1773000"/>
            <a:ext cx="11233080" cy="432252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nvestitor podnosi zahtjev za izdavanje upotrebne dozvole, najkasnije u roku od 7 dana od dana dobijanja izjave  vršioca tehničkog pregleda da su radovi izvedeni u skladu sa revidovanim glavnim projektom, kao i propisima, standardima, tehničkim normativima i normama kvaliteta koje važe za pojedine vrste radova, odnosno materijala, opreme i instalacij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z zahtjev za izdavanje upotrebne dozvole investitor prilaž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javu izvođača radova da je objekat izgrađen u skladu sa građevinskom dozvolom i revidovanim glavnim projek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javu vršioca nadzora da je objekat izgrađen u skladu sa građevinskom dozvolom i revidovanim glavnim projek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javu vršioca tehničkog pregleda da su radovi izvedeni u skladu sa revidovanim glavnim projektom, kao i propisima, standardima, tehničkim normativima i normama kvaliteta koje važe za pojedine vrste radova, odnosno materijala, opreme i instalacij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okaz o izvršenim obavezama, u skladu sa posebnim propisim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dovani glavni projekat, u slučaju da je građevinska dozvola izdata na idejni projekat, 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jekat izvedenog objekta, u slučaju da je došlo do izmjena u toku gradnj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htjev za izdavanje upotrebne dozvole objavljuje se na internet stranici Ministarstva u roku od 7 dana od dana podnošenja zahtjev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potrebna dozvola izdaje se u roku od 7 dana od dana prijema kompletne dokumentacij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inistarstvo je dužno da upotrebnu dozvolu objavi na internet stranici u roku od 7 dana od dana izdavanj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EDAJA </a:t>
            </a:r>
            <a:r>
              <a:rPr b="1" lang="vi-VN" sz="2800" spc="-1" strike="noStrike">
                <a:solidFill>
                  <a:srgbClr val="ffffff"/>
                </a:solidFill>
                <a:latin typeface="Arial"/>
              </a:rPr>
              <a:t>IZGRAĐENOG</a:t>
            </a:r>
            <a:r>
              <a:rPr b="1" lang="sr-Latn-ME" sz="2800" spc="-1" strike="noStrike">
                <a:solidFill>
                  <a:srgbClr val="ffffff"/>
                </a:solidFill>
                <a:latin typeface="Arial"/>
              </a:rPr>
              <a:t> SLOŽENOG INŽENJERSKOG </a:t>
            </a:r>
            <a:r>
              <a:rPr b="1" lang="vi-VN" sz="2800" spc="-1" strike="noStrike">
                <a:solidFill>
                  <a:srgbClr val="ffffff"/>
                </a:solidFill>
                <a:latin typeface="Arial"/>
              </a:rPr>
              <a:t> OBJEKTA</a:t>
            </a:r>
            <a:endParaRPr b="0" lang="en-US" sz="2800" spc="-1" strike="noStrike">
              <a:solidFill>
                <a:srgbClr val="ffffff"/>
              </a:solidFill>
              <a:latin typeface="Arial"/>
            </a:endParaRPr>
          </a:p>
        </p:txBody>
      </p:sp>
      <p:sp>
        <p:nvSpPr>
          <p:cNvPr id="188"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mopredaja izgrađenog objekta (nakon završetka građenj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di se između izvođača i investitora (izvođač predaje objekat Investitor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uhvata primopredaju objekta i konačan obračun vrijednosti izvedenih radov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roku od 60 dana od dana dobijanja upotrebne dozvole (osim ako ugovorom nije drukčije određen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načna primopredaja objekta (nakon isteka garantnog rok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di se između izvođača i investitor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roku od 30 dana od dana isteka garantnog roka za završne radove, osim ako ugovorom nije drukčije određeno.</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 </a:t>
            </a:r>
            <a:r>
              <a:rPr b="0" i="1" lang="sr-Latn-ME" sz="1300" spc="-1" strike="noStrike">
                <a:solidFill>
                  <a:srgbClr val="ffffff"/>
                </a:solidFill>
                <a:latin typeface="Arial"/>
              </a:rPr>
              <a:t>Kod ostalih objekata koji ne spadaju u složene, rok je 60 dana od dana prijema konačnog izvještaja stručnog nadzora </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500" spc="-1" strike="noStrike">
                <a:solidFill>
                  <a:srgbClr val="ffffff"/>
                </a:solidFill>
                <a:latin typeface="Arial"/>
              </a:rPr>
              <a:t>Uslovi za obavljanje djelatnosti revizije tehničke dokumentacije, stručnog nadzora i tehničkog pregleda za složeni inž. objekat</a:t>
            </a:r>
            <a:endParaRPr b="0" lang="en-US" sz="2500" spc="-1" strike="noStrike">
              <a:solidFill>
                <a:srgbClr val="ffffff"/>
              </a:solidFill>
              <a:latin typeface="Arial"/>
            </a:endParaRPr>
          </a:p>
        </p:txBody>
      </p:sp>
      <p:sp>
        <p:nvSpPr>
          <p:cNvPr id="190" name=""/>
          <p:cNvSpPr txBox="1"/>
          <p:nvPr/>
        </p:nvSpPr>
        <p:spPr>
          <a:xfrm>
            <a:off x="695160" y="1844640"/>
            <a:ext cx="10887120" cy="46800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jelatnost revizije tehničke dokumentacije, vršenja stručnog nadzora i vršenja tehničkog pregleda za složeni inženjerski objekat, mogu da obavljaj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vredna društava koja ispunjavaju uslove za dobijanje licence za reviziju i stručni nadzor (čl.124 zakona)</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ra da ima najmanje jednog zaposlenog </a:t>
            </a:r>
            <a:r>
              <a:rPr b="0" lang="vi-VN" sz="1600" spc="-1" strike="noStrike">
                <a:solidFill>
                  <a:srgbClr val="ffffff"/>
                </a:solidFill>
                <a:latin typeface="Arial"/>
              </a:rPr>
              <a:t>revizora i to za: arhitektonski, građevinski, elektrotehnički i mašinski projekat</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užno je da imenuje revizora koji rukovodi revizijom cjelokupne tehničke dokumentacije , odnosno </a:t>
            </a:r>
            <a:r>
              <a:rPr b="0" lang="vi-VN" sz="1600" spc="-1" strike="noStrike">
                <a:solidFill>
                  <a:srgbClr val="ffffff"/>
                </a:solidFill>
                <a:latin typeface="Arial"/>
              </a:rPr>
              <a:t>koji rukovodi stručnim nadzorom nad građenjem cjelokupnog objekta</a:t>
            </a:r>
            <a:r>
              <a:rPr b="0" lang="sr-Latn-ME" sz="1600" spc="-1" strike="noStrike">
                <a:solidFill>
                  <a:srgbClr val="ffffff"/>
                </a:solidFill>
                <a:latin typeface="Arial"/>
              </a:rPr>
              <a:t> (ministarstvu dostavlja obavještenje o imenovanju)</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užno je da imenuje </a:t>
            </a:r>
            <a:r>
              <a:rPr b="0" lang="pl-PL" sz="1600" spc="-1" strike="noStrike">
                <a:solidFill>
                  <a:srgbClr val="ffffff"/>
                </a:solidFill>
                <a:latin typeface="Arial"/>
              </a:rPr>
              <a:t>revizora za svaki posebni dio tehničke dokumentacije,  odnosno revizora za pojedine radove na građenju objekta </a:t>
            </a:r>
            <a:r>
              <a:rPr b="0" lang="sr-Latn-ME" sz="1600" spc="-1" strike="noStrike">
                <a:solidFill>
                  <a:srgbClr val="ffffff"/>
                </a:solidFill>
                <a:latin typeface="Arial"/>
              </a:rPr>
              <a:t>(ministarstvu dostavlja obavještenje o imenovanj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misija (određuje je organ državne uprave nadležan za djelatnost koja se obavlja u složenom inženjerskom objektu) koju čine fizička lica koja ispunjavaju uslove iz člana 194 ovog zakona (uslove za revizora za složeni inž. objekat). Član komisije mora zaključiti ugovor o osiguranju od profesionalne odgovornosti i dostaviti dokaz o zaključenom ugovoru o osiguranju nadležnom inspekcijskom organ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nad građenjem objekta može vršiti i investitor neposredno ili preko privrednog društva koje je izradilo tehničku dokumentacij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VLAŠĆENI INŽENJER </a:t>
            </a:r>
            <a:r>
              <a:rPr b="1" lang="sr-Latn-ME" sz="2800" spc="-1" strike="noStrike" u="sng">
                <a:solidFill>
                  <a:srgbClr val="ffffff"/>
                </a:solidFill>
                <a:uFillTx/>
                <a:latin typeface="Arial"/>
              </a:rPr>
              <a:t>ZA SLOŽENI INŽENJERSKI OBJEKAT</a:t>
            </a:r>
            <a:endParaRPr b="0" lang="en-US" sz="2800" spc="-1" strike="noStrike">
              <a:solidFill>
                <a:srgbClr val="ffffff"/>
              </a:solidFill>
              <a:latin typeface="Arial"/>
            </a:endParaRPr>
          </a:p>
        </p:txBody>
      </p:sp>
      <p:sp>
        <p:nvSpPr>
          <p:cNvPr id="192"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vlašćeni inženjer za složeni inženjerski objekat – uslov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vlašćeni inženjer (za „ostale objekt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jmanje tri godine radnog iskustva na stručnim poslovima izrade tehničke dokumentacije i/ili građenja </a:t>
            </a:r>
            <a:r>
              <a:rPr b="1" lang="sr-Latn-ME" sz="1600" spc="-1" strike="noStrike" u="sng">
                <a:solidFill>
                  <a:srgbClr val="ffffff"/>
                </a:solidFill>
                <a:uFillTx/>
                <a:latin typeface="Arial"/>
              </a:rPr>
              <a:t>složenog inženjerskog objekta</a:t>
            </a:r>
            <a:r>
              <a:rPr b="0" lang="sr-Latn-ME" sz="1600" spc="-1" strike="noStrike">
                <a:solidFill>
                  <a:srgbClr val="ffffff"/>
                </a:solidFill>
                <a:latin typeface="Arial"/>
              </a:rPr>
              <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punjenost ovih uslova utvrđuje rješenjem </a:t>
            </a:r>
            <a:r>
              <a:rPr b="1" lang="sr-Latn-ME" sz="1600" spc="-1" strike="noStrike" u="sng">
                <a:solidFill>
                  <a:srgbClr val="ffffff"/>
                </a:solidFill>
                <a:uFillTx/>
                <a:latin typeface="Arial"/>
              </a:rPr>
              <a:t>organ državne uprave nadležan za djelatnost koja se obavlja u složenom inženjerskom objekt</a:t>
            </a:r>
            <a:r>
              <a:rPr b="0" lang="sr-Latn-ME" sz="1600" spc="-1" strike="noStrike">
                <a:solidFill>
                  <a:srgbClr val="ffffff"/>
                </a:solidFill>
                <a:latin typeface="Arial"/>
              </a:rPr>
              <a: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ti organ vodi registar ovlašćenih inženjera za složeni inženjerski ob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REVIZOR I VRŠILAC TEHNIČKOG PREGLEDA </a:t>
            </a:r>
            <a:r>
              <a:rPr b="1" lang="sr-Latn-ME" sz="2800" spc="-1" strike="noStrike" u="sng">
                <a:solidFill>
                  <a:srgbClr val="ffffff"/>
                </a:solidFill>
                <a:uFillTx/>
                <a:latin typeface="Arial"/>
              </a:rPr>
              <a:t>ZA SLOŽENI INŽENJERSKI OBJEKAT</a:t>
            </a:r>
            <a:endParaRPr b="0" lang="en-US" sz="2800" spc="-1" strike="noStrike">
              <a:solidFill>
                <a:srgbClr val="ffffff"/>
              </a:solidFill>
              <a:latin typeface="Arial"/>
            </a:endParaRPr>
          </a:p>
        </p:txBody>
      </p:sp>
      <p:sp>
        <p:nvSpPr>
          <p:cNvPr id="194" name=""/>
          <p:cNvSpPr txBox="1"/>
          <p:nvPr/>
        </p:nvSpPr>
        <p:spPr>
          <a:xfrm>
            <a:off x="911160" y="1844640"/>
            <a:ext cx="10671120" cy="46800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or i vršilac tehničkog pregleda za složeni inženjerski objekat – uslov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Revizor (za „ostale objekt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u="sng">
                <a:solidFill>
                  <a:srgbClr val="ffffff"/>
                </a:solidFill>
                <a:uFillTx/>
                <a:latin typeface="Arial"/>
              </a:rPr>
              <a:t>crnogorski državljanin, ali i </a:t>
            </a:r>
            <a:r>
              <a:rPr b="0" lang="sr-Latn-ME" sz="1600" spc="-1" strike="noStrike" u="sng">
                <a:solidFill>
                  <a:srgbClr val="ffffff"/>
                </a:solidFill>
                <a:uFillTx/>
                <a:latin typeface="Arial"/>
              </a:rPr>
              <a:t>i strano fizičko lice, ako ispunjava uslove utvrđene ovim člano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ma četiri godine radnog iskustva </a:t>
            </a:r>
            <a:r>
              <a:rPr b="1" lang="sr-Latn-ME" sz="1600" spc="-1" strike="noStrike" u="sng">
                <a:solidFill>
                  <a:srgbClr val="ffffff"/>
                </a:solidFill>
                <a:uFillTx/>
                <a:latin typeface="Arial"/>
              </a:rPr>
              <a:t>na izradi tehničke dokumentacije i/ili građenja složenih inženjerskih objekata u svojstvu ovlašćenog inženjera (za složene inženjerske objek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punjenost ovih uslova utvrđuje rješenjem </a:t>
            </a:r>
            <a:r>
              <a:rPr b="1" lang="sr-Latn-ME" sz="1600" spc="-1" strike="noStrike" u="sng">
                <a:solidFill>
                  <a:srgbClr val="ffffff"/>
                </a:solidFill>
                <a:uFillTx/>
                <a:latin typeface="Arial"/>
              </a:rPr>
              <a:t>organ državne uprave nadležan za djelatnost koja se obavlja u složenom inženjerskom objekt</a:t>
            </a:r>
            <a:r>
              <a:rPr b="0" lang="sr-Latn-ME" sz="1600" spc="-1" strike="noStrike">
                <a:solidFill>
                  <a:srgbClr val="ffffff"/>
                </a:solidFill>
                <a:latin typeface="Arial"/>
              </a:rPr>
              <a: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ti organ vodi registar ovlašćenih inženjera za složeni inženjerski ob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ELEKTRONSKI POTPIS</a:t>
            </a:r>
            <a:endParaRPr b="0" lang="en-US" sz="2800" spc="-1" strike="noStrike">
              <a:solidFill>
                <a:srgbClr val="ffffff"/>
              </a:solidFill>
              <a:latin typeface="Arial"/>
            </a:endParaRPr>
          </a:p>
        </p:txBody>
      </p:sp>
      <p:sp>
        <p:nvSpPr>
          <p:cNvPr id="196" name=""/>
          <p:cNvSpPr txBox="1"/>
          <p:nvPr/>
        </p:nvSpPr>
        <p:spPr>
          <a:xfrm>
            <a:off x="695160" y="1557360"/>
            <a:ext cx="10887120" cy="496728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luži za potpisivanje (ovjeru različite dokumentacije) u procedurama tokom izgradnje objekata i složenih inženjerskih objekata, a odnosi se na elektronski potpis:</a:t>
            </a:r>
            <a:endParaRPr b="0" lang="en-US" sz="1400" spc="-1" strike="noStrike">
              <a:solidFill>
                <a:srgbClr val="ffffff"/>
              </a:solidFill>
              <a:latin typeface="Arial"/>
            </a:endParaRPr>
          </a:p>
          <a:p>
            <a:pPr>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vrednog društva koje je učestvovalo u ovim procedurama (odnosno lica </a:t>
            </a:r>
            <a:r>
              <a:rPr b="0" lang="sr-Latn-ME" sz="1400" spc="-1" strike="noStrike">
                <a:solidFill>
                  <a:srgbClr val="ffffff"/>
                </a:solidFill>
                <a:latin typeface="Arial"/>
              </a:rPr>
              <a:t>koje je ovlašćeno da postupa u ime privrednog društva</a:t>
            </a:r>
            <a:r>
              <a:rPr b="0" lang="sr-Latn-ME" sz="1400" spc="-1" strike="noStrike">
                <a:solidFill>
                  <a:srgbClr val="ffffff"/>
                </a:solidFill>
                <a:latin typeface="Arial"/>
              </a:rPr>
              <a:t>- direktor i sl.)</a:t>
            </a:r>
            <a:endParaRPr b="0" lang="en-US" sz="1400" spc="-1" strike="noStrike">
              <a:solidFill>
                <a:srgbClr val="ffffff"/>
              </a:solidFill>
              <a:latin typeface="Arial"/>
            </a:endParaRPr>
          </a:p>
          <a:p>
            <a:pPr>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dgovornih lica</a:t>
            </a:r>
            <a:r>
              <a:rPr b="0" lang="sr-Latn-ME" sz="1400" spc="-1" strike="noStrike">
                <a:solidFill>
                  <a:srgbClr val="ffffff"/>
                </a:solidFill>
                <a:latin typeface="Arial"/>
              </a:rPr>
              <a:t>, koja su u skladu sa Zakonom odgovorna za obavljanje pojedinih procedura definisanih Zakonom</a:t>
            </a:r>
            <a:endParaRPr b="0" lang="en-US" sz="1400" spc="-1" strike="noStrike">
              <a:solidFill>
                <a:srgbClr val="ffffff"/>
              </a:solidFill>
              <a:latin typeface="Arial"/>
            </a:endParaRPr>
          </a:p>
          <a:p>
            <a:pPr>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lektronski potpisi u izradi urbanističkog projekta i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vredno društvo (odnosno lice ovlašćeno za zastupanje) koje je izradilo urbanistički projekat odnosno tehničku dokumentaciju - dužno da potpiše svaki dio urbanističkog projekta odnosno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vredno društvo (odnosno lice ovlašćeno za zastupanje) koje je revidovalo tehničku dokumentaciju - dužno da potpiše svaki dio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vlašćeni inženjer koji rukovodi izradom urbanističkog projekta odnosno tehničke dokumentacije u cjelini - dužan da potpiše svaki posebni dio urbanističkog projekta odnosno tehničke dokumentacije čijom izradom rukovod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vlašćeni inženjer koji izrađuje dio urbanističkog projekta odnosno tehničke dokumentacije -  dužan da potpiše taj dio urbanističkog projekta odnosno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vizor tehničke dokumentacije koji rukovodi revizijom tehničke dokumentacije u cjelini –dužan da potpiše svaki posebni dio tehničke dokumentacije čijom revizijom rukovod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vizor dijela tehničke dokumentacije koji reviduje dio tehničke dokumentacije - dužan da potpiše taj dio tehničke dokumentacij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ELEKTRONSKI POTPIS</a:t>
            </a:r>
            <a:endParaRPr b="0" lang="en-US" sz="2800" spc="-1" strike="noStrike">
              <a:solidFill>
                <a:srgbClr val="ffffff"/>
              </a:solidFill>
              <a:latin typeface="Arial"/>
            </a:endParaRPr>
          </a:p>
        </p:txBody>
      </p:sp>
      <p:sp>
        <p:nvSpPr>
          <p:cNvPr id="198" name=""/>
          <p:cNvSpPr txBox="1"/>
          <p:nvPr/>
        </p:nvSpPr>
        <p:spPr>
          <a:xfrm>
            <a:off x="766440" y="1699920"/>
            <a:ext cx="10815480" cy="4824360"/>
          </a:xfrm>
          <a:prstGeom prst="rect">
            <a:avLst/>
          </a:prstGeom>
          <a:noFill/>
          <a:ln w="0">
            <a:noFill/>
          </a:ln>
        </p:spPr>
        <p:txBody>
          <a:bodyPr anchor="t">
            <a:normAutofit/>
          </a:bodyPr>
          <a:p>
            <a:pPr marL="343080" indent="-343080">
              <a:spcBef>
                <a:spcPts val="374"/>
              </a:spcBef>
              <a:buClr>
                <a:srgbClr val="0078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Elektronski potpisi u procedurama građenja i stručnog nadzora</a:t>
            </a:r>
            <a:endParaRPr b="0" lang="en-US" sz="1500" spc="-1" strike="noStrike">
              <a:solidFill>
                <a:srgbClr val="ffffff"/>
              </a:solidFill>
              <a:latin typeface="Arial"/>
            </a:endParaRPr>
          </a:p>
          <a:p>
            <a:pPr lvl="1" marL="743040" indent="-285840" algn="just">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odnosno lice ovlašćeno za zastupanje) </a:t>
            </a:r>
            <a:r>
              <a:rPr b="0" lang="pl-PL" sz="1500" spc="-1" strike="noStrike">
                <a:solidFill>
                  <a:srgbClr val="ffffff"/>
                </a:solidFill>
                <a:latin typeface="Arial"/>
              </a:rPr>
              <a:t>koje je vršilo stručni nadzor </a:t>
            </a:r>
            <a:r>
              <a:rPr b="0" lang="sr-Latn-ME" sz="1500" spc="-1" strike="noStrike">
                <a:solidFill>
                  <a:srgbClr val="ffffff"/>
                </a:solidFill>
                <a:latin typeface="Arial"/>
              </a:rPr>
              <a:t>- dužno da potpiše konačni izvještaj o vršenju stručnog nadzora, kao i izjavu </a:t>
            </a:r>
            <a:r>
              <a:rPr b="0" lang="vi-VN" sz="1500" spc="-1" strike="noStrike">
                <a:solidFill>
                  <a:srgbClr val="ffffff"/>
                </a:solidFill>
                <a:latin typeface="Arial"/>
              </a:rPr>
              <a:t>da je objekat građen u skladu sa revidovanim glavnim projektom odnosno izgrađen u skladu sa revidovanim projektom izvedenog stanja, zakonom i drugim propisima odnosno izjavu da je objekat podoban za upotrebu i da se može namjenski koristit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vlašćeni inženjer koji rukovodi građenjem objekta u cjelini - dužan da potpiše izjavu da je objekat građen u skladu sa revidovanim glavnim projektom, ovim zakonom, posebnim propisima i pravilima struke, odnosno da je objekat podoban za upotrebu;</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vlašćeni inženjer koji rukovodi izvođenjem pojedinih vrsta radova na građenju objekta - dužan da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or koji rukovodi stručnim nadzorom nad građenjem objekta u cjelini - dužan da potpiše konačni izvještaj o vršenju stručnog nadzora nad građenjem objekta po fazama građenja i konačni izvještaj o izvršenom stručnom nadzoru nad građenjem objekta, 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or koji vrši stručni nadzor nad građenjem pojedinih vrsta radova na objektu - dužan da potpiše izvještaj o stručnom nadzoru nad građenjem objekta po fazama građenja i konačni izvještaj o izvršenom stručnom nadzoru nad građenjem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USLOVI ZA OBAVLJANJE DJELATNOSTI</a:t>
            </a:r>
            <a:endParaRPr b="0" lang="en-US" sz="2600" spc="-1" strike="noStrike">
              <a:solidFill>
                <a:srgbClr val="ffffff"/>
              </a:solidFill>
              <a:latin typeface="Arial"/>
            </a:endParaRPr>
          </a:p>
        </p:txBody>
      </p:sp>
      <p:sp>
        <p:nvSpPr>
          <p:cNvPr id="128" name=""/>
          <p:cNvSpPr txBox="1"/>
          <p:nvPr/>
        </p:nvSpPr>
        <p:spPr>
          <a:xfrm>
            <a:off x="550440" y="1700280"/>
            <a:ext cx="11377800" cy="468144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konom regulisani uslovi za obavljanje sljedećih djelatnosti (i sticanje odgovarajućih licenc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rada tehničke dokumentacije, građenje objekata odnosno izvođenja pojedinih radova na građenju objekta (</a:t>
            </a:r>
            <a:r>
              <a:rPr b="1" lang="sr-Latn-ME" sz="1500" spc="-1" strike="noStrike">
                <a:solidFill>
                  <a:srgbClr val="ffffff"/>
                </a:solidFill>
                <a:latin typeface="Arial"/>
              </a:rPr>
              <a:t>pod određenim uslovima ovo može da obavlja i strano privreno društvo</a:t>
            </a:r>
            <a:r>
              <a:rPr b="0" lang="sr-Latn-ME" sz="1500" spc="-1" strike="noStrike">
                <a:solidFill>
                  <a:srgbClr val="ffffff"/>
                </a:solidFill>
                <a:latin typeface="Arial"/>
              </a:rPr>
              <a:t>)</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ija tehničke dokumentacije, vršenje stručnog nadzora (u određenim slučajevima ovo može da obavlja komisija ili privredno društvo u vlasništvu države ili lokalne samouprav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Uslovi su propisani z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pravno lice, odnosno preduzetnika koje se bavi gore pomenutim poslovima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fizičko lice koje realizuje konkretne poslove iz gore navedenih oblasti</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vlašćeni inženjer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or</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koje obavlja djelatnost regulisane ovim zakonom, mora biti osigurano od profesionalne odgovornosti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 štetu koja može da nastane investitorima ili trećim licim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siguranje mora da pokrije rizik odgovornosti za štetu prouzrokovanu licima, za štetu na objektima i za finansijski gubitak.</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inimalnu sumu osiguranja propisuje Vlada (100.000 za izradu tehničke dokumentacije i građenje, a 200.000 za reviziju tehničke dokumentacije i vršenje stručnog nadzor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siguranje od profesionalne odgovornosti ugovoreno u državi sjedišta stranog lica iz potpisnice EEP, priznaje se, ako to osiguranje pokriva štetu koja može biti prouzrokovana u Crnoj Gori</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ELEKTRONSKI POTPIS</a:t>
            </a:r>
            <a:endParaRPr b="0" lang="en-US" sz="2800" spc="-1" strike="noStrike">
              <a:solidFill>
                <a:srgbClr val="ffffff"/>
              </a:solidFill>
              <a:latin typeface="Arial"/>
            </a:endParaRPr>
          </a:p>
        </p:txBody>
      </p:sp>
      <p:sp>
        <p:nvSpPr>
          <p:cNvPr id="200" name=""/>
          <p:cNvSpPr txBox="1"/>
          <p:nvPr/>
        </p:nvSpPr>
        <p:spPr>
          <a:xfrm>
            <a:off x="695160" y="1699920"/>
            <a:ext cx="10730160" cy="4824360"/>
          </a:xfrm>
          <a:prstGeom prst="rect">
            <a:avLst/>
          </a:prstGeom>
          <a:noFill/>
          <a:ln w="0">
            <a:noFill/>
          </a:ln>
        </p:spPr>
        <p:txBody>
          <a:bodyPr anchor="t">
            <a:normAutofit/>
          </a:bodyPr>
          <a:p>
            <a:pPr marL="343080" indent="-343080">
              <a:spcBef>
                <a:spcPts val="374"/>
              </a:spcBef>
              <a:buClr>
                <a:srgbClr val="0078f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Elektronski potpisi u procedurama revizije tehničke dokumentacije, građenja , stručnog nadzora , tehničkog pregleda i izdavanja upotrebne dozvole kod složenih inženjerskih objekat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Vršilac revizije (privredno društvo, odnosno ovlašćeni zastupnik, ali i ovlašćeni inženjeri) - dužan je da potpiše svaki dio tehničke dokumentacije koji je revidovao.</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vođač radova i vršilac nadzora -- dužni su da potpišu izjave </a:t>
            </a:r>
            <a:r>
              <a:rPr b="0" lang="sr-Latn-ME" sz="1500" spc="-1" strike="noStrike">
                <a:solidFill>
                  <a:srgbClr val="ffffff"/>
                </a:solidFill>
                <a:latin typeface="Arial"/>
              </a:rPr>
              <a:t>da je objekat izgrađen u skladu sa građevinskom dozvolom i revidovanim glavnim projek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Vršilac tehničkog pregleda (privredno društvo i/ili članovi komisije) - dužan je da potpiše izvještaj o tehničkom pregledu složenog inženjerskog objekt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Vršilac tehničkog pregleda (privredno društvo i/ili članovi komisije) koji je vršio tehnički pregled složenog inženjerskog objekta - dužan da potpiše </a:t>
            </a:r>
            <a:r>
              <a:rPr b="0" lang="sr-Latn-ME" sz="1500" spc="-1" strike="noStrike">
                <a:solidFill>
                  <a:srgbClr val="ffffff"/>
                </a:solidFill>
                <a:latin typeface="Arial"/>
              </a:rPr>
              <a:t>izjavu vršioca tehničkog pregleda da su radovi izvedeni u skladu sa revidovanim glavnim projektom, kao i propisima, standardima, tehničkim normativima i normama kvaliteta koje važe za pojedine vrste radova, odnosno materijala, opreme i instalacija</a:t>
            </a:r>
            <a:r>
              <a:rPr b="0" lang="sr-Latn-ME" sz="1500" spc="-1" strike="noStrike">
                <a:solidFill>
                  <a:srgbClr val="ffffff"/>
                </a:solidFill>
                <a:latin typeface="Arial"/>
              </a:rPr>
              <a:t>.</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NADZOR NAD SPROVOĐENJEM ZAKONA</a:t>
            </a:r>
            <a:endParaRPr b="0" lang="en-US" sz="2800" spc="-1" strike="noStrike">
              <a:solidFill>
                <a:srgbClr val="ffffff"/>
              </a:solidFill>
              <a:latin typeface="Arial"/>
            </a:endParaRPr>
          </a:p>
        </p:txBody>
      </p:sp>
      <p:sp>
        <p:nvSpPr>
          <p:cNvPr id="202" name=""/>
          <p:cNvSpPr txBox="1"/>
          <p:nvPr/>
        </p:nvSpPr>
        <p:spPr>
          <a:xfrm>
            <a:off x="1219320" y="1981080"/>
            <a:ext cx="10362960" cy="4114800"/>
          </a:xfrm>
          <a:prstGeom prst="rect">
            <a:avLst/>
          </a:prstGeom>
          <a:noFill/>
          <a:ln w="0">
            <a:noFill/>
          </a:ln>
        </p:spPr>
        <p:txBody>
          <a:bodyPr anchor="t">
            <a:normAutofit fontScale="97000"/>
          </a:bodyPr>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dzor nad sprovođenjem ovog zakona i drugih propisa donijetih na osnovu ovog zakona vrši Ministarstvo.</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love inspekcijskog nadzora u oblasti planiranja i izgradnje vrši Ministarstvo, u skladu sa ovim zakonom i zakonom kojim se uređuje inspekcijski nadzor.</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nspekcijski nadzor  vrši se preko: </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urbanističko-građevinskog inspektor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ruge inspekcije, u skladu sa zakonom (komunalna inspekcija  za privremene i pomoćne objekte, sanitarna ekološka itd)</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Ovlašćenja urbanističko-građevinskog inspektora – </a:t>
            </a:r>
            <a:r>
              <a:rPr b="0" lang="sr-Latn-ME" sz="1500" spc="-1" strike="noStrike">
                <a:solidFill>
                  <a:srgbClr val="ffffff"/>
                </a:solidFill>
                <a:latin typeface="Arial"/>
              </a:rPr>
              <a:t>provjera da li učesnici postupaju u skladu sa zakonom  (investitor, vlasnik objekta, izvođač, revident i revizor, stručni nadzor, vršilac tehničkog pregleda itd.)</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Upravne mjere i radnje urbanističko-građevinskog inspektora </a:t>
            </a:r>
            <a:r>
              <a:rPr b="0" lang="sr-Latn-ME" sz="1500" spc="-1" strike="noStrike">
                <a:solidFill>
                  <a:srgbClr val="ffffff"/>
                </a:solidFill>
                <a:latin typeface="Arial"/>
              </a:rPr>
              <a:t>(koje su propisane kao mjere koje može preduzeti pod određenim uslovim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redbe investitoru,  vlasniku i izvođaču da otklone nedostatke</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brana građenja ili daljeg izvođenja radov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brana obavljanja djelatnosti  privrednih društava (projektanta, izvođača, revidenta itd.), ukoliko ne postupaju u skladu sa nekim članovima Zakon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redi rušenje objekta, ili nekih radov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KAZNENE MJERE</a:t>
            </a:r>
            <a:endParaRPr b="0" lang="en-US" sz="2800" spc="-1" strike="noStrike">
              <a:solidFill>
                <a:srgbClr val="ffffff"/>
              </a:solidFill>
              <a:latin typeface="Arial"/>
            </a:endParaRPr>
          </a:p>
        </p:txBody>
      </p:sp>
      <p:sp>
        <p:nvSpPr>
          <p:cNvPr id="204" name=""/>
          <p:cNvSpPr txBox="1"/>
          <p:nvPr/>
        </p:nvSpPr>
        <p:spPr>
          <a:xfrm>
            <a:off x="911160" y="1981080"/>
            <a:ext cx="10671120" cy="411480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ovčane kazne za prekršaje (ua zavisnosti od prekršaja) z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avno lice  u iznosu od 5.000 eura do 40.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govorno lice u pravnom licu u iznosu od 500 eura do 4.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govorno lice u organu državne uprave odnosno u organu lokalne samouprave u iznosu od 500 eura do 4.000 eura (za neke prekršaje), odnosno  u iznosu od 1.000 do 12.000 eura, za druge prekršaj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eduzetnika od 1.000 eura do 12.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fizičko lice (revizori planskog dokumenta, odnosno tehničke dokumentacije) u iznosu od 500 eura do 4.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Uslovi za obavljanje djelatnosti izrade tehničke dokumentacije i građenja</a:t>
            </a:r>
            <a:r>
              <a:rPr b="1" lang="en-US" sz="2600" spc="-1" strike="noStrike">
                <a:solidFill>
                  <a:srgbClr val="ffffff"/>
                </a:solidFill>
                <a:latin typeface="Arial"/>
              </a:rPr>
              <a:t> </a:t>
            </a:r>
            <a:r>
              <a:rPr b="1" lang="sr-Latn-ME" sz="2600" spc="-1" strike="noStrike">
                <a:solidFill>
                  <a:srgbClr val="ffffff"/>
                </a:solidFill>
                <a:latin typeface="Arial"/>
              </a:rPr>
              <a:t>(za privedno društvo)</a:t>
            </a:r>
            <a:endParaRPr b="0" lang="en-US" sz="2600" spc="-1" strike="noStrike">
              <a:solidFill>
                <a:srgbClr val="ffffff"/>
              </a:solidFill>
              <a:latin typeface="Arial"/>
            </a:endParaRPr>
          </a:p>
        </p:txBody>
      </p:sp>
      <p:sp>
        <p:nvSpPr>
          <p:cNvPr id="130" name=""/>
          <p:cNvSpPr txBox="1"/>
          <p:nvPr/>
        </p:nvSpPr>
        <p:spPr>
          <a:xfrm>
            <a:off x="911160" y="1981080"/>
            <a:ext cx="10671120" cy="411480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je izrađuje tehničku dokumentaciju (projektant)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ra da ima najmanje jednog zaposlenog ovlašćenog inženjera po vrsti projekta koji izrađuje i to za: arhitektonski, građevinski, elektrotehnički i mašinski projekat</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koji rukovodi izradom cjelokupne tehničke dokumentacije (ministarstvu dostavlja obavještenje o imenovanju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za svaku vrstu projekta (ministarstvu dostavlja obavještenje o imenovanju )</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je gradi objekat (izvođač radova)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ra da ima najmanje jednog zaposlenog ovlašćenog inženjera po vrsti radova koje izvodi na osnovu tih projekat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koji rukovodi građenjem objekta u cjelini (ministarstvu dostavlja obavještenje o imenovanju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za svaku vrstu radova koje izvodi na osnovu tih projekata (ministarstvu dostavlja obavještenje o imenovanju )</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avljanje pojedinih poslova projektant odnosno izvođač radova može da obezbijedi i na osnovu zaključenog ugovora sa drugim privrednim društvom koje ima zaposlenog ovlašćenog inženjera za određenu vrstu projekta odnosno radov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500" spc="-1" strike="noStrike">
                <a:solidFill>
                  <a:srgbClr val="ffffff"/>
                </a:solidFill>
                <a:latin typeface="Arial"/>
              </a:rPr>
              <a:t>Uslovi za obavljanje djelatnosti revizije tehničke dokumentacije i stručnog nadzora</a:t>
            </a:r>
            <a:br>
              <a:rPr sz="2500"/>
            </a:br>
            <a:r>
              <a:rPr b="1" lang="sr-Latn-ME" sz="2500" spc="-1" strike="noStrike">
                <a:solidFill>
                  <a:srgbClr val="ffffff"/>
                </a:solidFill>
                <a:latin typeface="Arial"/>
              </a:rPr>
              <a:t>(za privedno društvo)</a:t>
            </a:r>
            <a:endParaRPr b="0" lang="en-US" sz="2500" spc="-1" strike="noStrike">
              <a:solidFill>
                <a:srgbClr val="ffffff"/>
              </a:solidFill>
              <a:latin typeface="Arial"/>
            </a:endParaRPr>
          </a:p>
        </p:txBody>
      </p:sp>
      <p:sp>
        <p:nvSpPr>
          <p:cNvPr id="132" name=""/>
          <p:cNvSpPr txBox="1"/>
          <p:nvPr/>
        </p:nvSpPr>
        <p:spPr>
          <a:xfrm>
            <a:off x="911160" y="1981080"/>
            <a:ext cx="10671120" cy="41148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1300" spc="-1" strike="noStrike">
                <a:solidFill>
                  <a:srgbClr val="ffffff"/>
                </a:solidFill>
                <a:latin typeface="Arial"/>
              </a:rPr>
              <a:t>koje vrši reviziju tehničke dokumentacije (revident) </a:t>
            </a:r>
            <a:r>
              <a:rPr b="0" lang="sr-Latn-ME" sz="1300" spc="-1" strike="noStrike">
                <a:solidFill>
                  <a:srgbClr val="ffffff"/>
                </a:solidFill>
                <a:latin typeface="Arial"/>
              </a:rPr>
              <a:t>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ora da ima </a:t>
            </a:r>
            <a:r>
              <a:rPr b="1" lang="sr-Latn-ME" sz="1300" spc="-1" strike="noStrike" u="sng">
                <a:solidFill>
                  <a:srgbClr val="ffffff"/>
                </a:solidFill>
                <a:uFillTx/>
                <a:latin typeface="Arial"/>
              </a:rPr>
              <a:t>najmanje po jednog zaposlenog </a:t>
            </a:r>
            <a:r>
              <a:rPr b="1" lang="vi-VN" sz="1300" spc="-1" strike="noStrike" u="sng">
                <a:solidFill>
                  <a:srgbClr val="ffffff"/>
                </a:solidFill>
                <a:uFillTx/>
                <a:latin typeface="Arial"/>
              </a:rPr>
              <a:t>revizora </a:t>
            </a:r>
            <a:r>
              <a:rPr b="0" lang="vi-VN" sz="1300" spc="-1" strike="noStrike">
                <a:solidFill>
                  <a:srgbClr val="ffffff"/>
                </a:solidFill>
                <a:latin typeface="Arial"/>
              </a:rPr>
              <a:t>i to za: arhitektonski, građevinski, elektrotehnički i mašinski projekat</a:t>
            </a:r>
            <a:r>
              <a:rPr b="0" lang="sr-Latn-ME" sz="1300" spc="-1" strike="noStrike">
                <a:solidFill>
                  <a:srgbClr val="ffffff"/>
                </a:solidFill>
                <a:latin typeface="Arial"/>
              </a:rPr>
              <a:t>, a izuzetno:</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 zgrade bruto građevinske površine do 300 m2, najmanje jednog zaposlenog revizora za arhitektonski ili građevinski projekat;</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 zgrade bruto građevinske površine od 300 do 1.000 m2, najmanje jednog zaposlenog revizora za arhitektonski i građevinski projekat; </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 zgrade bruto gradjevinske površine od 1.000 do 10.000 m2, najmanje jednog zaposlenog revizora za arhitektonski, građevinski i elektrotehnički projekat</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 inženjerske objekte koji nijesu složeni inženjerski objekti, najmanje po jednog zaposlenog revizora za dva pro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revizora koji rukovodi revizijom cjelokupne tehničke dokumentacije (ministarstvu dostavlja obavještenje o imenovanju)</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a:t>
            </a:r>
            <a:r>
              <a:rPr b="0" lang="pl-PL" sz="1300" spc="-1" strike="noStrike">
                <a:solidFill>
                  <a:srgbClr val="ffffff"/>
                </a:solidFill>
                <a:latin typeface="Arial"/>
              </a:rPr>
              <a:t>revizora za svaki posebni dio tehničke dokumentacije </a:t>
            </a:r>
            <a:r>
              <a:rPr b="0" lang="sr-Latn-ME" sz="1300" spc="-1" strike="noStrike">
                <a:solidFill>
                  <a:srgbClr val="ffffff"/>
                </a:solidFill>
                <a:latin typeface="Arial"/>
              </a:rPr>
              <a:t>(ministarstvu dostavlja obavještenje o imenovanj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ffffff"/>
                </a:solidFill>
                <a:latin typeface="Arial"/>
              </a:rPr>
              <a:t>koje obavlja poslove stručnog nadzora nad građenjem objekta (stručni nadzor)</a:t>
            </a:r>
            <a:r>
              <a:rPr b="0" lang="sr-Latn-ME" sz="1300" spc="-1" strike="noStrike">
                <a:solidFill>
                  <a:srgbClr val="ffffff"/>
                </a:solidFill>
                <a:latin typeface="Arial"/>
              </a:rPr>
              <a:t>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ora da </a:t>
            </a:r>
            <a:r>
              <a:rPr b="1" lang="sr-Latn-ME" sz="1300" spc="-1" strike="noStrike" u="sng">
                <a:solidFill>
                  <a:srgbClr val="ffffff"/>
                </a:solidFill>
                <a:uFillTx/>
                <a:latin typeface="Arial"/>
              </a:rPr>
              <a:t>ima najmanje  po jednog zaposlenog </a:t>
            </a:r>
            <a:r>
              <a:rPr b="0" lang="vi-VN" sz="1300" spc="-1" strike="noStrike">
                <a:solidFill>
                  <a:srgbClr val="ffffff"/>
                </a:solidFill>
                <a:latin typeface="Arial"/>
              </a:rPr>
              <a:t>revizora i to za: arhitektonski, građevinski, elektrotehnički i mašinski projekat</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a:t>
            </a:r>
            <a:r>
              <a:rPr b="0" lang="vi-VN" sz="1300" spc="-1" strike="noStrike">
                <a:solidFill>
                  <a:srgbClr val="ffffff"/>
                </a:solidFill>
                <a:latin typeface="Arial"/>
              </a:rPr>
              <a:t>revizora koji rukovodi stručnim nadzorom nad građenjem cjelokupnog objekta</a:t>
            </a:r>
            <a:r>
              <a:rPr b="0" lang="sr-Latn-ME" sz="1300" spc="-1" strike="noStrike">
                <a:solidFill>
                  <a:srgbClr val="ffffff"/>
                </a:solidFill>
                <a:latin typeface="Arial"/>
              </a:rPr>
              <a:t> (ministarstvu dostavlja obavještenje o imenovanju)</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a:t>
            </a:r>
            <a:r>
              <a:rPr b="0" lang="pl-PL" sz="1300" spc="-1" strike="noStrike">
                <a:solidFill>
                  <a:srgbClr val="ffffff"/>
                </a:solidFill>
                <a:latin typeface="Arial"/>
              </a:rPr>
              <a:t>revizora za pojedine radove na građenju objekta</a:t>
            </a:r>
            <a:r>
              <a:rPr b="0" lang="sr-Latn-ME" sz="1300" spc="-1" strike="noStrike">
                <a:solidFill>
                  <a:srgbClr val="ffffff"/>
                </a:solidFill>
                <a:latin typeface="Arial"/>
              </a:rPr>
              <a:t> (ministarstvu dostavlja obavještenje o imenovanju)</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I ZA OVLAŠĆENOG INŽENJERA</a:t>
            </a:r>
            <a:endParaRPr b="0" lang="en-US" sz="2800" spc="-1" strike="noStrike">
              <a:solidFill>
                <a:srgbClr val="ffffff"/>
              </a:solidFill>
              <a:latin typeface="Arial"/>
            </a:endParaRPr>
          </a:p>
        </p:txBody>
      </p:sp>
      <p:sp>
        <p:nvSpPr>
          <p:cNvPr id="134" name=""/>
          <p:cNvSpPr txBox="1"/>
          <p:nvPr/>
        </p:nvSpPr>
        <p:spPr>
          <a:xfrm>
            <a:off x="1055160" y="1731600"/>
            <a:ext cx="10526760" cy="43434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vlašćeni inženjer – uslov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fizičko lice koje obavlja poslove izrade tehničke dokumentacije odnosno građenja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govarajća struka (</a:t>
            </a:r>
            <a:r>
              <a:rPr b="0" lang="sv-SE" sz="1300" spc="-1" strike="noStrike">
                <a:solidFill>
                  <a:srgbClr val="ffffff"/>
                </a:solidFill>
                <a:latin typeface="Arial"/>
              </a:rPr>
              <a:t>arhitektonsk</a:t>
            </a:r>
            <a:r>
              <a:rPr b="0" lang="sr-Latn-ME" sz="1300" spc="-1" strike="noStrike">
                <a:solidFill>
                  <a:srgbClr val="ffffff"/>
                </a:solidFill>
                <a:latin typeface="Arial"/>
              </a:rPr>
              <a:t>a,</a:t>
            </a:r>
            <a:r>
              <a:rPr b="0" lang="sv-SE" sz="1300" spc="-1" strike="noStrike">
                <a:solidFill>
                  <a:srgbClr val="ffffff"/>
                </a:solidFill>
                <a:latin typeface="Arial"/>
              </a:rPr>
              <a:t> građevinsk</a:t>
            </a:r>
            <a:r>
              <a:rPr b="0" lang="sr-Latn-ME" sz="1300" spc="-1" strike="noStrike">
                <a:solidFill>
                  <a:srgbClr val="ffffff"/>
                </a:solidFill>
                <a:latin typeface="Arial"/>
              </a:rPr>
              <a:t>a</a:t>
            </a:r>
            <a:r>
              <a:rPr b="0" lang="sv-SE" sz="1300" spc="-1" strike="noStrike">
                <a:solidFill>
                  <a:srgbClr val="ffffff"/>
                </a:solidFill>
                <a:latin typeface="Arial"/>
              </a:rPr>
              <a:t>, elektrotehničk</a:t>
            </a:r>
            <a:r>
              <a:rPr b="0" lang="sr-Latn-ME" sz="1300" spc="-1" strike="noStrike">
                <a:solidFill>
                  <a:srgbClr val="ffffff"/>
                </a:solidFill>
                <a:latin typeface="Arial"/>
              </a:rPr>
              <a:t>a, </a:t>
            </a:r>
            <a:r>
              <a:rPr b="0" lang="sv-SE" sz="1300" spc="-1" strike="noStrike">
                <a:solidFill>
                  <a:srgbClr val="ffffff"/>
                </a:solidFill>
                <a:latin typeface="Arial"/>
              </a:rPr>
              <a:t>mašinsk</a:t>
            </a:r>
            <a:r>
              <a:rPr b="0" lang="sr-Latn-ME" sz="1300" spc="-1" strike="noStrike">
                <a:solidFill>
                  <a:srgbClr val="ffffff"/>
                </a:solidFill>
                <a:latin typeface="Arial"/>
              </a:rPr>
              <a: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isoko obrazovanje, najmanje kvalifikacija VII1 podnivoa okvira kvalifikacija i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jmanje tri godine radnog iskustva na stručnim poslovima izrade tehničke dokumentacije i/ili građenja objeka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ložen stručni ispit  (Stručnim ispitom provjerava se poznavanje propisa iz oblasti izgradnje objekata. Program i način polaganja stručnog ispita propisuje Ministarstvo)</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a je član Inženjerske komore Crne Gore (u daljem tekstu: Komor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duženja ovlašćenog inženjera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izrađuje dio tehničke dokumentacije odgovoran je za dio koji je izradio,</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izradom tehničke dokumentacije u cjelini odgovoran je za usaglašenost svih faza tehničke dokumentacije, (istovremeno može biti i ovlašćeni inženjer dijela tehničke dokumentacij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građenjem pojedinih vrsta radova na objektu odgovoran je za izvođenje tih rad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građenjem objekta u cjelini odgovoran je za međusobnu usklađenost i koordinaciju radova koji se izvode na objektu, (istovremeno može biti i ovlašćeni inženjer za pojedine radove na građenju objek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ffffff"/>
                </a:solidFill>
                <a:latin typeface="Arial"/>
              </a:rPr>
              <a:t>ima pravo i obavezu stručnog usavršavanja </a:t>
            </a:r>
            <a:r>
              <a:rPr b="0" lang="sr-Latn-ME" sz="1300" spc="-1" strike="noStrike">
                <a:solidFill>
                  <a:srgbClr val="ffffff"/>
                </a:solidFill>
                <a:latin typeface="Arial"/>
              </a:rPr>
              <a:t>i stiče bodove po tom osnovu u toku godin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ogram obuke stručnog usavršavanja utvrđuje Komor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čin vrednovanja stručnog usavršavanja članova propisuje Ministarstvo</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I ZA REVIZORA</a:t>
            </a:r>
            <a:endParaRPr b="0" lang="en-US" sz="2800" spc="-1" strike="noStrike">
              <a:solidFill>
                <a:srgbClr val="ffffff"/>
              </a:solidFill>
              <a:latin typeface="Arial"/>
            </a:endParaRPr>
          </a:p>
        </p:txBody>
      </p:sp>
      <p:sp>
        <p:nvSpPr>
          <p:cNvPr id="136" name=""/>
          <p:cNvSpPr txBox="1"/>
          <p:nvPr/>
        </p:nvSpPr>
        <p:spPr>
          <a:xfrm>
            <a:off x="1055160" y="1557000"/>
            <a:ext cx="10363320" cy="4343400"/>
          </a:xfrm>
          <a:prstGeom prst="rect">
            <a:avLst/>
          </a:prstGeom>
          <a:noFill/>
          <a:ln w="0">
            <a:noFill/>
          </a:ln>
        </p:spPr>
        <p:txBody>
          <a:bodyPr anchor="t">
            <a:normAutofit fontScale="93000"/>
          </a:bodyPr>
          <a:p>
            <a:pPr marL="318960" indent="-31896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evizor– uslovi:</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fizičko lice koje obavlja poslove revizije tehničke dokumentacije odnosno stučnog nadzora nad građenjem,</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crnogorski državljanin </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jmanje 7 godina radnog iskustva na stručnim poslovima izrade tehničke dokumentacije i/ili građenja objekata u svojstvu ovlašćenog inženjera, odnosno:</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govarajća struka (</a:t>
            </a:r>
            <a:r>
              <a:rPr b="0" lang="sv-SE" sz="1300" spc="-1" strike="noStrike">
                <a:solidFill>
                  <a:srgbClr val="ffffff"/>
                </a:solidFill>
                <a:latin typeface="Arial"/>
              </a:rPr>
              <a:t>arhitektonsk</a:t>
            </a:r>
            <a:r>
              <a:rPr b="0" lang="sr-Latn-ME" sz="1300" spc="-1" strike="noStrike">
                <a:solidFill>
                  <a:srgbClr val="ffffff"/>
                </a:solidFill>
                <a:latin typeface="Arial"/>
              </a:rPr>
              <a:t>a,</a:t>
            </a:r>
            <a:r>
              <a:rPr b="0" lang="sv-SE" sz="1300" spc="-1" strike="noStrike">
                <a:solidFill>
                  <a:srgbClr val="ffffff"/>
                </a:solidFill>
                <a:latin typeface="Arial"/>
              </a:rPr>
              <a:t> građevinsk</a:t>
            </a:r>
            <a:r>
              <a:rPr b="0" lang="sr-Latn-ME" sz="1300" spc="-1" strike="noStrike">
                <a:solidFill>
                  <a:srgbClr val="ffffff"/>
                </a:solidFill>
                <a:latin typeface="Arial"/>
              </a:rPr>
              <a:t>a</a:t>
            </a:r>
            <a:r>
              <a:rPr b="0" lang="sv-SE" sz="1300" spc="-1" strike="noStrike">
                <a:solidFill>
                  <a:srgbClr val="ffffff"/>
                </a:solidFill>
                <a:latin typeface="Arial"/>
              </a:rPr>
              <a:t>, elektrotehničk</a:t>
            </a:r>
            <a:r>
              <a:rPr b="0" lang="sr-Latn-ME" sz="1300" spc="-1" strike="noStrike">
                <a:solidFill>
                  <a:srgbClr val="ffffff"/>
                </a:solidFill>
                <a:latin typeface="Arial"/>
              </a:rPr>
              <a:t>a, </a:t>
            </a:r>
            <a:r>
              <a:rPr b="0" lang="sv-SE" sz="1300" spc="-1" strike="noStrike">
                <a:solidFill>
                  <a:srgbClr val="ffffff"/>
                </a:solidFill>
                <a:latin typeface="Arial"/>
              </a:rPr>
              <a:t>mašinsk</a:t>
            </a:r>
            <a:r>
              <a:rPr b="0" lang="sr-Latn-ME" sz="1300" spc="-1" strike="noStrike">
                <a:solidFill>
                  <a:srgbClr val="ffffff"/>
                </a:solidFill>
                <a:latin typeface="Arial"/>
              </a:rPr>
              <a:t>a)</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isoko obrazovanje, najmanje kvalifikacija VII1 podnivoa okvira kvalifikacija </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ložen stručni ispit  (Stručnim ispitom provjerava se poznavanje propisa iz oblasti izgradnje objekata. Program i način polaganja stručnog ispita propisuje Ministarstvo)</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a je član Inženjerske komore Crne Gore (u daljem tekstu: Komora).</a:t>
            </a:r>
            <a:endParaRPr b="0" lang="en-US" sz="1300" spc="-1" strike="noStrike">
              <a:solidFill>
                <a:srgbClr val="ffffff"/>
              </a:solidFill>
              <a:latin typeface="Arial"/>
            </a:endParaRPr>
          </a:p>
          <a:p>
            <a:pPr marL="318960" indent="-31896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duženja revizora</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revizijom dijela tehničke dokumentacije, odgovoran je za reviziju dijela tehničke dokumentacije koji je revidovao</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revizijom tehničke dokumentacije u cjelini odgovoran je za </a:t>
            </a:r>
            <a:r>
              <a:rPr b="0" lang="vi-VN" sz="1300" spc="-1" strike="noStrike">
                <a:solidFill>
                  <a:srgbClr val="ffffff"/>
                </a:solidFill>
                <a:latin typeface="Arial"/>
              </a:rPr>
              <a:t>provjeru međusobne usklađenosti svih djelova tehničke dokumentacije</a:t>
            </a:r>
            <a:r>
              <a:rPr b="0" lang="sr-Latn-ME" sz="1300" spc="-1" strike="noStrike">
                <a:solidFill>
                  <a:srgbClr val="ffffff"/>
                </a:solidFill>
                <a:latin typeface="Arial"/>
              </a:rPr>
              <a:t>, (istovremeno može biti i revizor dijela tehničke dokumentacije)</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stručnim nadzorom nad izvođenjem pojedinih vrsta radova na objektu odgovoran je za izvođenje tih radova.</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a:t>
            </a:r>
            <a:r>
              <a:rPr b="0" lang="pl-PL" sz="1300" spc="-1" strike="noStrike">
                <a:solidFill>
                  <a:srgbClr val="ffffff"/>
                </a:solidFill>
                <a:latin typeface="Arial"/>
              </a:rPr>
              <a:t>stručnim nadzorom nad građenjem objekta u cjelini, o</a:t>
            </a:r>
            <a:r>
              <a:rPr b="0" lang="sr-Latn-ME" sz="1300" spc="-1" strike="noStrike">
                <a:solidFill>
                  <a:srgbClr val="ffffff"/>
                </a:solidFill>
                <a:latin typeface="Arial"/>
              </a:rPr>
              <a:t>dgovoran je za provjeru međusobne usklađenost svih radova na građenju objekta, (istovremeno može biti i revizor nad izvođenjem pojedinih radova na građenju objekta)</a:t>
            </a:r>
            <a:endParaRPr b="0" lang="en-US" sz="1300" spc="-1" strike="noStrike">
              <a:solidFill>
                <a:srgbClr val="ffffff"/>
              </a:solidFill>
              <a:latin typeface="Arial"/>
            </a:endParaRPr>
          </a:p>
          <a:p>
            <a:pPr marL="318960" indent="-31896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ffffff"/>
                </a:solidFill>
                <a:latin typeface="Arial"/>
              </a:rPr>
              <a:t>ima pravo i obavezu stručnog usavršavanja </a:t>
            </a:r>
            <a:r>
              <a:rPr b="0" lang="sr-Latn-ME" sz="1300" spc="-1" strike="noStrike">
                <a:solidFill>
                  <a:srgbClr val="ffffff"/>
                </a:solidFill>
                <a:latin typeface="Arial"/>
              </a:rPr>
              <a:t>i stiče bodove po tom osnovu u toku godine</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ogram obuke stručnog usavršavanja utvrđuje Komora.</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čin vrednovanja stručnog usavršavanja članova propisuje Ministarstvo</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KLAĐIVANJE LICENCI</a:t>
            </a:r>
            <a:br>
              <a:rPr sz="2800"/>
            </a:br>
            <a:r>
              <a:rPr b="1" lang="sr-Latn-ME" sz="2800" spc="-1" strike="noStrike">
                <a:solidFill>
                  <a:srgbClr val="ffffff"/>
                </a:solidFill>
                <a:latin typeface="Arial"/>
              </a:rPr>
              <a:t>za privredna društva i fizička lica koja imaju licence po starom zakonu</a:t>
            </a:r>
            <a:endParaRPr b="0" lang="en-US" sz="2800" spc="-1" strike="noStrike">
              <a:solidFill>
                <a:srgbClr val="ffffff"/>
              </a:solidFill>
              <a:latin typeface="Arial"/>
            </a:endParaRPr>
          </a:p>
        </p:txBody>
      </p:sp>
      <p:sp>
        <p:nvSpPr>
          <p:cNvPr id="138" name=""/>
          <p:cNvSpPr txBox="1"/>
          <p:nvPr/>
        </p:nvSpPr>
        <p:spPr>
          <a:xfrm>
            <a:off x="550440" y="1752480"/>
            <a:ext cx="11031480" cy="46800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stare licence važe u roku od šest mjeseci od dana stupanja na snagu ovog zakona </a:t>
            </a:r>
            <a:r>
              <a:rPr b="0" lang="sr-Latn-ME" sz="1600" spc="-1" strike="noStrike" u="sng">
                <a:solidFill>
                  <a:srgbClr val="ff0000"/>
                </a:solidFill>
                <a:uFillTx/>
                <a:latin typeface="Arial"/>
              </a:rPr>
              <a:t>(rok teće od 14. oktobra 2017., dakle do 14. aprila 2018. godine)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u tom roku privredna društva i fizička lica treba da pribave licencu u skladu sa ovim zakon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ako se rok ne ispoštuje, stare licence prestaju da važ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Izuzetno, privrednom društvu odnosno fizičkom licu koje je do 27.09.2017. godine zaključilo ugovor o vršenju poslova iz djelatnosti uređenih ovim zakonom, licence, ovlašćenja odnosno ovjerena odobrenja za potrebe tog ugovora važe do isteka zaključenog ugov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uvažava se iskustvo koje su fizička lica stekla kao vodeći i odgovorni projektant, glavni i odgovorni inženjer (sa starim licenca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Do pristupanja Crne Gore Evropskoj uniji, strana lica obavljaće djelatnost u skladu sa uslovima utvrđenim ovim zakonom za domaća lic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00"/>
                </a:solidFill>
                <a:latin typeface="Arial"/>
              </a:rPr>
              <a:t>NIJE AKTUELNO, ROK JE ISTEKAO, OSIM ZA POSLEDNJU TAČK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2-10-03T19:30:04Z</dcterms:modified>
  <cp:revision>656</cp:revision>
  <dc:subject/>
  <dc:title>ZAKON O IZGRADNJI OBJEKATA</dc:title>
</cp:coreProperties>
</file>