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12193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843B-F98E-419A-9F70-B26D48E943F7}" type="slidenum">
              <a:rPr b="0" lang="sr-Latn-C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689A-7AA9-4AD9-B343-CA80067D7205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F40C-B1E2-43D1-8E48-D584EFE317AB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A7B7-84AD-4094-BFD6-8694279D2B35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E665-8CA9-45FB-8691-6E50C62DC0A1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BF9C-14BA-4A8C-9916-5846D7A2D288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6BE1-F65D-4990-9B3E-886589DFBA0F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EB90-EBED-415A-B923-9444801F5182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DB67-055B-48F8-9187-F328B0B7E659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A821-D187-4CF4-8F37-8195B8A1B648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6C1D-F2D1-44BF-BD92-87F5CEE14396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8206-64D4-4E86-86F8-164AE08CCCEE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5320-BC46-45FE-AE03-096FEB9763AE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1" marL="7412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organ za tehničke uslove je organ državne uprave, organ lokalne uprave i pravno lice nadležno za: zaštitu životne sredine, saobraćaj, energetiku, vodovod i kanalizaciju, vode, regionalno vodosnabdijevanje, elektroinstalacije, zaštitu kulturnih dobara, elektronske komunikacije i poštansku djelatnost, zaštitu i zdravlje na radu, katastar, zaštitu i spašavanje, upravljanje državnom imovinom i dr. koji u postupku izrade planskog dokumenta i tehničke dokumentacije dostavlja neophodne tehničke uslove, podloge, mišljenja, saglasnosti i druge dokaze potrebne za planiranje i izgradnju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5A6A-D13C-4381-9051-D08591B627E6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0E85-D5BA-4CF1-9151-1CEF4D294E0D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Arial"/>
              </a:rPr>
              <a:t>Iz Zakona o planiranju prostora i izgradnji objek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nvestitor je dužan da u toku građenja objekta obezbijedi vršenje stručnog nadzo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dzor iz stava 1 ovog člana vrši se počev od dana izvođenja pripremnih radova na objektu do završetka svih radova i stavljanja objekta u upotrebu i obuhvata sve faze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dzor iz stava 1 ovog člana obuhvata, naročito: kontrolu izvođenja radova prema revidovanom glavnom projektu, ovom zakonu i posebnim propisima; kontrolu usklađenosti radova; provjeru kvaliteta izvođenja radova; kontrolu kvaliteta materijala, instalacija i uređaja koji se ugrađuju; provjeru da li materijali, instalacije i uređaji koji se ugrađuju imaju propisanu dokumentaciju neophodnu za njihovo stavljanje u upotrebu; redovno praćenje dinamike izvođenja radova i poštovanje ugovorenih rokova; kontrolu primjene mjera koje je naložio izvođaču radova da preduzme u cilju otklanjanja nedostataka pri izvođenju radova; kontrolu radova koji se nakon zatvaranja, odnosno pokrivanja ne mogu kontrolisati; kontrolu primjene mjera za zaštitu životne sredine; definisanje faza za koje je neophodno sačiniti izvještaj; davanje tehnoloških i organizacionih upustava izvođaču radova i rješavanje drugih pitanja u vezi građenja objekta; saradnju sa projektantom radi obezbjeđenja detalja za nesmetano izvođenje radova i rješavanje drugih pitanja u vezi građenja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 objektima finansiranim u cjelosti ili djelimično iz donacija ili kredita međunarodnih finansijskih institucija ili iz sredstava drugih država kroz projekte međudržavne saradnje i pomoći, nadzor se vrši kao i na složenim inženjerskim objekti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Vršenje stručnog nadz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Član 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Zapažanja tokom stručnog nadzora, stručni nadzor upisuje u građevinski dnevni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Stručni nadzor dužan je da, bez odlaganja, u pisanoj formi obavijesti investitora ako se radovi ne izvode prema revidovanom glavnom projektu, ovom zakonu i posebnim propisima i/ili naloži izvođaču radova da otkloni utvrđene nedostatke u roku koji mu odred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Ako izvođač radova u roku iz stava 2 ovog člana ne otkloni utvrđene nedostatke, stručni nadzor je dužan da građenje objekta suprotno revidovanom glavnom projektu, ovom zakonu i posebnim propisima, bez odlaganja prijavi nadležnom inspekcijskom orga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Izvještaj o izvršenom stručnom nadzo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Član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O izvršenom stručnom nadzoru, stručni nadzor sačinjava izvješta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ještaj iz stava 1 ovog člana sačinjava se po fazama građenja objekta i kao konačan izvješta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Prije završetka određene faze građenja, stručni nadzor dužan je da obavijesti nadležni inspekcijski organ tri radna dana prije početka prijema radova određene faze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dležni inspekcijski organ može da prisustvuje prijemu pojedinačne faze građenja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ještaje po fazama stručni nadzor dužan je da dostavlja nadležnom inspekcijskom organu u roku od tri dana od dana prijema radova određene faze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Prije sačinjavanja konačnog izvještaja, stručni nadzor je dužan da obavijesti organ uprave nadležan za zaštitu kulturnih dobara u slučaju gradnje na ili u neposrednoj blizini objekta koji je zaštićeno kulturno dobro, koji utvrđuje da li je objekat izgrađen u skladu sa revidovanim glavnim projektom, odnosno projektom izvedenog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Konačni izvještaj o izvršenom stručnom nadzoru sa zapisnikom organa iz stava 6 ovog člana u kojem je konstatovano da je objekat građen u skladu sa revidovanim glavnim projektom, odnosno projektom izvedenog objekta, stručni nadzor dužan je da istovremeno dostavi investitoru, izvođaču radova, Ministarstvu, organu uprave nadležnom za zaštitu kulturnih dobara, u slučaju gradnje na ili u neposrednoj blizini objekta koji je zaštićeno kulturno dobro i nadležnom inspekcijskom orga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čin vršenja stručnog nadzora, obavezne faze u toku građenja za koje se radi izvještaj i način izrade i bližu sadržinu izvještaja o stručnom nadzoru propisuje Ministarst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Konačni izvještaj o izvršenom stručnom nadzo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Član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Stručni nadzor dužan je da u konačnom izvještaju o izvršenom stručnom nadzoru, navede tačne konstatacije o izvedenim radovima na građenju objekta i da pisanu izjavu da je objekat građen u skladu sa revidovanim glavnim projektom odnosno izgrađen u skladu sa revidovanim projektom izvedenog stanja, zakonom i drugim propisima odnosno izjavu da je objekat podoban za upotrebu i da se može namjenski koristi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ještaj iz stava 1 ovog člana sadrži i elaborat originalnih terenskih podataka izvedenog stanja ovjeren od strane licencirane geodetske organizacij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0663-2FF2-493D-8AD6-D5ECC2D12F16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59A0-4C61-4DFF-8205-CBC148896E3E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850B-79FE-44E1-8052-20181614BED3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3C65-C098-4E35-9FB2-D2D81FB23A79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3E81-E62B-4B6D-A55D-6F4F5AB39611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3803-6B09-4CD0-B07B-F28782740045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C6E5-19A7-4360-AD36-7B3430FF7F4A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D294-F4F7-47BE-859C-DC14AA0DDE37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8409-E990-4184-A7A3-E69D24D434AA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E036-76C0-4A75-B911-13C5854A56BC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85E3-A9F8-4572-B7A5-93D4FD22B152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4362-3784-436A-9FEE-78D4E738B06E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EE83-02EC-417B-90FF-15C170FFC4B5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9AE7-5672-44D8-8CFE-E3F66AB83080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8F09-05BF-4040-9EF6-ED39FA4CA9C5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3731-D693-45C5-A997-81C76700A069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54B5-23FA-476E-BB27-0E2FAF29D051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B3532-CDC2-4D70-B5AF-E9202908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0D58D-DEC7-4FAC-8AAE-60EB96F2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A07CB-FF05-4423-95D6-A8400C18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AE3F0-A50D-499B-AFEB-50B805BE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36D5-801F-4C42-B1BA-45770172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0A04-3E29-413E-B52D-4909B68A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3DA9-8862-4BA9-AAD4-BD0AE2CE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51DF-3DD1-42DA-A6DE-5710F6A5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F43A-5E65-4FDD-B3AB-E322E0B0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DAE4-5642-4DAF-A2C1-704F3E09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8F4B-22BB-49C6-A97E-7C88E897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434C7-DADA-40BD-99F5-9B6934BD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5A06-DA42-40FB-BE41-6510F5AA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7136-8D7A-4D7C-B64A-AA7E1BE2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9381-8481-4F8E-B063-6DE78BB4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53AB-9C02-4CBB-942F-85B5F835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2B2B-49CF-4AD7-AE4C-577F48B9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D4DEB-8F6F-43CA-A8D6-D71D82A1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D5A8C-4D59-40C6-8A8F-2E955BE7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0E8B4-3E63-4BBC-A51F-D3CE76DB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AF56D-DF6C-4613-99C7-FB036A16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6AA14-25B4-4470-92FD-8E509431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DC313-6E6D-447A-8FD9-6D25CA13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80AC4-65DE-469F-8D59-961E2A1B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38FC-5EE1-4CE5-B29D-9B333CC5CE1B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368280" y="638172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04920" y="304920"/>
            <a:ext cx="114807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04920" y="457200"/>
            <a:ext cx="1661400" cy="1371600"/>
            <a:chOff x="304920" y="457200"/>
            <a:chExt cx="1661400" cy="1371600"/>
          </a:xfrm>
        </p:grpSpPr>
        <p:sp>
          <p:nvSpPr>
            <p:cNvPr id="7" name="Rectangle 9"/>
            <p:cNvSpPr/>
            <p:nvPr/>
          </p:nvSpPr>
          <p:spPr>
            <a:xfrm>
              <a:off x="1246680" y="457200"/>
              <a:ext cx="5940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113480" y="457200"/>
              <a:ext cx="5904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77760" y="457200"/>
              <a:ext cx="5940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42400" y="457200"/>
              <a:ext cx="5940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08840" y="457200"/>
              <a:ext cx="5940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73480" y="457200"/>
              <a:ext cx="5940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438120" y="457200"/>
              <a:ext cx="6120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304920" y="457200"/>
              <a:ext cx="5904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382400" y="457200"/>
              <a:ext cx="5472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513440" y="457200"/>
              <a:ext cx="5256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642680" y="457200"/>
              <a:ext cx="5688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776240" y="457200"/>
              <a:ext cx="5904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909440" y="457200"/>
              <a:ext cx="5688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304920" y="990720"/>
            <a:ext cx="1148076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304920" y="1447920"/>
            <a:ext cx="3047040" cy="2514600"/>
            <a:chOff x="304920" y="1447920"/>
            <a:chExt cx="3047040" cy="2514600"/>
          </a:xfrm>
        </p:grpSpPr>
        <p:sp>
          <p:nvSpPr>
            <p:cNvPr id="59" name="Rectangle 9"/>
            <p:cNvSpPr/>
            <p:nvPr/>
          </p:nvSpPr>
          <p:spPr>
            <a:xfrm>
              <a:off x="2031480" y="1447920"/>
              <a:ext cx="11016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786320" y="1447920"/>
              <a:ext cx="11196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538640" y="1447920"/>
              <a:ext cx="11196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1290960" y="1447920"/>
              <a:ext cx="11196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1045440" y="1447920"/>
              <a:ext cx="11016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797760" y="1447920"/>
              <a:ext cx="11016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550440" y="1447920"/>
              <a:ext cx="10980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304920" y="1447920"/>
              <a:ext cx="10980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2279160" y="1447920"/>
              <a:ext cx="10332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2520720" y="1447920"/>
              <a:ext cx="10332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759760" y="1447920"/>
              <a:ext cx="10332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3000960" y="1447920"/>
              <a:ext cx="10980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3248640" y="1447920"/>
              <a:ext cx="10332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355680" y="645336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1F65-91CD-4815-8927-DC80139D0459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90760" y="1371600"/>
            <a:ext cx="64767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D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ZAKON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KA AKTA NA OSNOVU ZAKONA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O PLANIRANJU PROSTORA I IZGRADNJI OBJEKA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962160" y="4267080"/>
            <a:ext cx="7721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200" spc="-1" strike="noStrike">
                <a:solidFill>
                  <a:srgbClr val="ffffff"/>
                </a:solidFill>
                <a:latin typeface="Arial"/>
              </a:rPr>
              <a:t>dio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projektnog zadatk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v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cilj i svrha izrade tehničke dokumentacij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edmet tehničke dokumentacije (opšti podaci o objektu, lokacija, namjena, kapacitet, faznost gradnje, zahtijevani materijali i podatke o zahtijevanom nivou instalacija i opreme dr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snove za projektovanje sa podacima o zahtijevanim tehnološkim procesi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pecifični zahtjev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otpis i ovjer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investitor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stavni dio projektnog zadatka su  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rbanističko-tehnički uslovi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loge za izradu tehničke dokumentacije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ezultati prethodnih proučavanja, ako su ti rezultati urađen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tekstualn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hnički opis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tehnički uslovi za izvođenje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gram kontrole i osiguranja kvaliteta sa uslovima za ispunjavanje osnovnih zahtjeva za objekat tokom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rađenja i održavanja objekta (procedure za obezbjeđenje kvaliteta, program ispitivanja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 zgrade mora da sadrži rekapitulaciju građevinske bruto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vršine objekta (ukupno i po etažama), neto površine objekta (ukupno, po etažama i po posebnim djelovim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jekta), bruto i neto površinu podzemnih etaža, bruto i neto površinu nadzemnih etaža, kao i zapreminu objekta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računatu u skladu sa propisom kojim se uređuje način obračuna površine i zapremine objek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ada se radi idejno rješenje tekstualna dokumentacija sadrži 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hnički opis projektovanog objekta sa navođenjem potrebnih komunalnih kapacite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a zgrad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posebni osvrt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 materijalizaciju i obradu površina elemenata omotača (fasada i krovova), elemenata okvira stolarije/bravarije 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datnih fasadnih elemenata (balkonskih ograda, brisoleja i elemenata dekora), kao i materijalizaciju i obradu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vršina u okviru uređenja terena, potpisana od strane glavnog inženj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tehničkog opi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fffff"/>
                </a:solidFill>
                <a:latin typeface="Arial"/>
              </a:rPr>
              <a:t>za objekat – potpisuje ga glavni inženj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fffff"/>
                </a:solidFill>
                <a:latin typeface="Arial"/>
              </a:rPr>
              <a:t>opšti podaci o vrsti i namjeni objekt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pis lokacije objekta sa navođenjem katastarskih parcela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pis funkcionalnog rješenj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tehničko-tehnološke karakteristike objekt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pis svih građevinskih i građevinsko-zanatskih radov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spisak primjenjenih propisa, preporuka i važećih standarda prema kojima je objekat projektovan i prema kojima će se izvoditi radov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za pojedine djelove tehničke dokumentacije  - potpisuje ga odgovorni  (ovlašćeni)  inženj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snovni podaci o objektu- date na obrascu 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pis dijela tehničke dokumentacije sa opisom svih radova koji su predmet dijela tehničke dokumentacij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pis ispunjenja uslova propisanih urbanističko-tehničkim uslovima i osnovnih zahtjeva za objek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tehnički uslovi za izvođenje radov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karakteristike i svojstva materijala, instalacija i opreme 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spisak primjenjenih propisa, preporuka i standarda rema kojima je objekat projektovan i prema kojima će se izvoditi radov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p</a:t>
            </a:r>
            <a:r>
              <a:rPr b="0" lang="nn-NO" sz="2000" spc="-1" strike="noStrike">
                <a:solidFill>
                  <a:srgbClr val="ffffff"/>
                </a:solidFill>
                <a:latin typeface="Arial"/>
              </a:rPr>
              <a:t>rogram</a:t>
            </a: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nn-NO" sz="2000" spc="-1" strike="noStrike">
                <a:solidFill>
                  <a:srgbClr val="ffffff"/>
                </a:solidFill>
                <a:latin typeface="Arial"/>
              </a:rPr>
              <a:t> kontrole i osiguranja kvalite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 odgovarajućim dijelovima tehničke dokumentacije sadrž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vojstva bitnih karakteristika koje moraju imati građevnski i drugi proizvodi koji se ugrađuju u objeka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trebna ispitivanja i postupke dokazivanja upo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bljivosti građevinskih i drugih proizvoda za one proizvod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oji su proizvedeni na gradilištu za potrebe tog objekta u koji će biti ugrađen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trebna ispitivanja i postupke dokazivanja tehničke i/ili funkcionalne ispravnosti dijela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htjeve koji moraju biti ispunjeni tokom izvođenja objekta, a koji mogu uticati na postizanje projektovanih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tehničkih i/ili funkcionalnih svojstava tog dijela objekta, kao i na ispunjavanje osnovnih zahtjeva za objekat u cjelin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stupke ispitivanja izvedenih dijelova objekta koji se sprovode prije i tokom upotrebe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etaljan opis probnog rada kojim se moraju prikazati potrebna ispitivanja ispunjavanja zahtjeva za objekat,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edviđene rezultate ispitivanja i predviđeno vrijeme trajanja probnog rada, ako za taj objekat postoji potreb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probnog rad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zahtjeve učestalosti periodičnih pregleda tokom upotrebe, a u svrhu održavanja dijela objekta, pregled i opis potrebnih kontrolnih postupaka ispitivanja i zahtijevanih rezultata kojima će se dokazati usaglašenost s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jektom predviđenim svojstvim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pis propisa i standarda čiju primjenu program kontrole i osiguranja kvalitete određuj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numeričk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Numerička dokumentacija sadrž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odgovarajuće proračun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specifikaciju materijala i opreme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predmjer i predračun radov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šemu opterećenja, analizu opterećenja i sl. (zavisno od vrste objek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kada se radi idejno rješenje zgrade, numerička dokumentacija sadrži prikaz površina objekta sa namjenama i broj funkcionalnih jedin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grafičk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63720" y="1916280"/>
            <a:ext cx="1061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eodetska podlog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elaborat parcelacije po planskom dokumentu ovjeren od strane organa uprave nadležnog za poslove katastra -</a:t>
            </a:r>
            <a:r>
              <a:rPr b="0" lang="nn-NO" sz="1400" spc="-1" strike="noStrike">
                <a:solidFill>
                  <a:srgbClr val="ffffff"/>
                </a:solidFill>
                <a:latin typeface="Arial"/>
              </a:rPr>
              <a:t> za objekte infrastrukture prilaže se grafički prikaz buduće trase objekt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na ažurnim katastarskim podloga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ituacioni pl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ivelacioni pl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snove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arakteristični presjeci  ili podužni i poprečni profil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šem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gledi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detalji za izvođenje objekt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drugo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visno od vrste tehničke dokumentacije i ob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adionički crteži svih konstruktivnih elemenata, veza, montažnih i radioničkih nastavaka čeličnih konstrukcij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ordinate elementarnih (glavnih) tačaka i nadmorske </a:t>
            </a:r>
            <a:r>
              <a:rPr b="0" lang="nn-NO" sz="1400" spc="-1" strike="noStrike">
                <a:solidFill>
                  <a:srgbClr val="ffffff"/>
                </a:solidFill>
                <a:latin typeface="Arial"/>
              </a:rPr>
              <a:t>visine (kote) objekta u državnom koordinatnom sistemu i s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zbirni prikaz (sinhron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plan) tehničke infrastrukture (za glavni projeka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 rekonstrukciju objekta sadrži i priloge postojećeg stanja (situacioni plan, nivelacioni plan, osnove, karakteristične presjeke ili podužne i poprečne profile i izglede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vi grafički prilozi moraju biti potpisani od stran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LAVNOG INŽENJER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 odgovorni  ovlašćeni  projektanta i imati zaglavlje urađeno u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skladu sa grafičkim prilogom - Obrazac 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Ovjera i razmjera tehničk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vjera TD u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elektronskoj form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tpisana kvalifikovanim certifikatom z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valifikovani elektronski potpi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vjera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dštampanog primjerka glavnog projekta (ovjerava se svaki dio tehničke dokumentacije koji čini glavni projeka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štambiljem na kojem je upisan broj, datum i potpis odgovornog lica projektanta i revident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grafički prilozi tehničke dokumentacije ovjeravaju pečatom projektanta i reviden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akovanje odštampanog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vezuje se u jednu ili viš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umerisanih knjiga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umerisanih stranica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loženih u format A4 (21x29,7 cm)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njige moraju biti povezan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jemstvenikom koji se pečatira, kako bi zamjena sastavnih djelova knjiga bila onemogućen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Tehnička dokumentacija izrađena u analognoj formi mora biti identična tehničkoj dokumentaciji u elektronsko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formi na osnovu koje je izvršena prijava građenja objek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azmjera tehničke dokumentaci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mjerena da obezbijedi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eglednost i detaljnost podataka datih grafičkim prilogom ili drugim grafičkim prikazom primjereno nivou razrad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 skladu sa standardom MEST EN ISO 545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143160" y="2492280"/>
            <a:ext cx="70106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 (Sl. list CG 18/18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1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ema Zakonu (čl. 81.)  revizijom glavnog projekta vrši se provjer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sklađenosti projekta sa urbanističko-tehničkim uslovima, ovim zakonom, posebnim propisima i pravilima struke u odnosu na pitanja koja nijesu uređena ovim zakonom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sklađenosti projekta sa uslovima oblikovanja i materijalizacije, posebno u odnosu na ambijentalna svojstva područj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spunjenosti osnovnih zahtjeva za objeka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međusobne usklađenosti svih djelova tehničke dokumentacij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edmjera i predračuna svih radova na građenju objekt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spunjenosti uslova prilagođenosti objekta licima smanjene pokretljivosti i licima sa invaliditeto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1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zvještaj o reviziji može bi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egativan- i mora biti navedeno koje su neusklađe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zitivan – mora biti data izjava o tome da je sve usklađeno sa zahtjevima koji su provjerava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26"/>
              </a:spcBef>
              <a:buClr>
                <a:srgbClr val="0078f0"/>
              </a:buClr>
              <a:buSzPct val="11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Prema Pravilniku se još vrši provjer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usklađenosti glavnog projekta sa Zakonom, posebnim propisima i pravilima struke u odnosu na pitanja koj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ijesu uređena Zakonom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kompletnosti pro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amjenskih podloga za temeljenje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a li su u glavnom projektu ispravno primijenjeni rezultati dobijeni u podlogama za temeljenje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ispravnosti i tačnosti arhitektonskih, odnosno građevinskih rješenja, proračuna mehaničke otpornosti 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stabilnosti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razrade tehničko-tehnoloških i eksploatacionih karakteristika objekta sa opremom i instalacijama, uključujuć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energetske karakteristike objekta, ako je objekat zgrad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razrade detalja za izvođenje radova obuhvaćenih glavnim projektom, kao i tehničko-tehnološka 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rganizaciona rješenja za izgradnju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razrade priključaka objekta na odgovarajuću saobraćajnu i drugu infrastrukturu i uređenje slobodnih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površin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tehničkih rješenja za zaštitu objekta i susjednih objekata od požara i eksplozija i druga tehnička rješenj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zaštit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razrade mjera za sprječavanje ili smanjenje negativnih uticaja objekta na životnu sredinu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rugih projekata i elaborata, u skladu sa namjenom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okaza o pravu svojine na zemljištu, odnosno drugom pravu na građenje na zemljištu ili pravu svojine n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bjektu, odnosno drugom pravu na građenje, ako se radi o rekonstrukciji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a li je predviđena faznost građenja objekta i ako jeste, da li je na odgovarajući način određena (da li je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bezbijeđena podjela na tehničko-tehnološke i funkcionalne cjeline)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900" spc="-1" strike="noStrike">
                <a:solidFill>
                  <a:srgbClr val="ffffff"/>
                </a:solidFill>
                <a:latin typeface="Arial"/>
              </a:rPr>
              <a:t>SADRŽAJ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495160" y="1989000"/>
            <a:ext cx="7658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ČINU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ZRADE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DRŽINI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HNIČKE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KUMENTACIJE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 GRAĐENJE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KTA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 list CG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4/18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, 43/19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O NAČINU VRŠENJA REVIZIJE GLAVNOG PROJEKTA (Sl. list CG 18/18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 (Sl. list CG 48/18 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vi pravilnici va</a:t>
            </a:r>
            <a:r>
              <a:rPr b="0" i="1" lang="sr-Latn-ME" sz="2000" spc="-1" strike="noStrike">
                <a:solidFill>
                  <a:srgbClr val="ffffff"/>
                </a:solidFill>
                <a:latin typeface="Arial"/>
              </a:rPr>
              <a:t>že za objekte koji ne spadaju u složene inženjerske objek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adržaj izvještaja o revizi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Izvještaj o reviziji (u elektronskoj formi, sa elektronskim potpisom), sadrž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slovnu stranu sa podacima o objektu, lokaciji,  investitoru, revidentu, projektantu, ... – Obrazac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t o imenovanju reviden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odatke o vršiocu revizije (naziv, sjedište , adresa, matični broj, djeltnost i s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licencu reviden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t o imenovanju revizora koji je rukovodio revizijom glavnog projekta u cjelini i revizora za svaki posebni dio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datke o revizoru (ime i prezime, akademsko zvanje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licencu revizora koji je rukovodio revizijom glavnog projekta u cjelini i revizora za posebni dio glavnog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datke o projektantu (naziv, sjedište, adresa, matični i registarski broj, djelatnos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e, prezime i akademsko zvanje ovlašćenog inženjera koji je rukovodio izradom glavnog projekta u cjelini 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vlašćenih inženjera koji su izradili dio glavn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aziv glavnog projekta, odnosno naziv dijela glavn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pis i sadržaj svih djelova glavn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tačne konstatacije o usklađenosti, odnosno neusklađenosti glavnog projekta u smislu člana 81 st. 2 i 3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Zakon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opiju plana, list nepokretnosti i druge dokaze u skladu sa zakon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zitivan izvještaj sadrži i izjavu, koja je data na obrascu u skladu sa posebnim propisom kojim se propisuju obrasci zahtjeva, prijava i izjava u postupku izgradnje objekata, da se na osnovu glavnog projekta može graditi objek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oced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evident od organa za tehničke uslove zahtijeva (obrazac 1) uz ovjeru elektronskim potpisom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piju plana i list nepokretnost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glasnosti,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mišljenja i drugih dokaza u skladu sa zakonom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rgan za tehničke uslove dužan je da u roku od 15 dana od dana prijema zahtjeva od revidenta odgovori i dostavi elektronski potpisane tražene dokaze (bez naknade, takse ili drugih troškov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o organ za tehničke uslove u propisanom roku ne dostavi dokaze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tpisane naprednim elektronskim potpisom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matraće se da je saglasan sa dostavljenim revidovanim glavnim projektom (koji je dobio uz zahtjev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Revident u izvještaju prilaže elektronski dokaz potvrde prijema zahtjeva od strane organa nadležnog za izdavanje tehničkih uslov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Revident provjerava sve što je predviđeno ovim Pravilnik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Ako Revident utvrdi da j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neophodna provjera tačnosti numeričkih ili grafičkih rezultata (pojedinih djelova ili kompletnog glavnog projekta) i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da nedostaju dokazi koji su od uticaja na provjeru ispunjenosti propisanih usl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edložiće investitoru i glavnom inženjeru da obezbijedi dokaze o ispravnosti i tačnosti glavnog projekta, i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na zahtjev investitora, revident može da izvrši potrebne numeričke i grafičke kontrole glavnog projekta, odnosno da pribavi dokaze koji nedostaj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oced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o je izvještaj o reviziji negativ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evident je dužan da navede neusklađenost tehničke dokumentacije u smislu člana 81 stav 2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 3 Zakona planiranju prostora i izgradnji objek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o je izvještaj o reviziji pozitiv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evident je dužan da naved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nstatacije o u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klađenost tehničke dokumentacije u smislu člana 81 stav 2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 3 Zakona planiranju prostora iizgradnji objek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ačini pisanu izjavu da se na osnovu glavnog projekta može graditi objekat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(poseban obrazac koji potpisuje ovlašćeno lice revident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lektronskim potpisom se potpisuje svaki dio glavnog projekta od stran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vlašćenog lica revidenta (direktora firme) koji potpisuje svaki dio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evizora koji rukovodi revizijom u cjelini, a koji potpisuje svaki dio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evizora dijela glavnog projekta , a koji potpisuje samo taj dio koji je revidova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vještaj  (pozitivan ili negativan) revident je dužan da dostavi investitoru i projektantu koji je izradio glavni projek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evident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prikuplj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 organa za tehničke uslov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okaze o uređenju odnosa u pogledu plaća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sebne naknade n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nvesticije, u skladu sa zakonom kojim se uređuje regionalno vodosnabdijevanje Crnogorskog primorj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aknade z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omunalno opremanje građevinskog zemljišt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(d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 donošenja plana generalne regulacije Crne Gor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143160" y="2492280"/>
            <a:ext cx="70106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 (Sl. list CG 48/18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 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tručni nadz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Investitor je dužan da u toku građenja objekta obezbijedi vršenje stručnog nadz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počev od dana izvođenja pripremnih radova na objektu d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završetka svih radova i stavljanja objekta u upotrebu i obuhvata sve faze građenj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Vršenje stručnog nadzora se  realizuj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preko fizičkih lica  (revizora) odgovarajuće struke (arhitektonske, građevinske, elektro i mašinske), koja su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zaposlena kod stručnog nadzora i ko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ispunjavaju uslove shodno članu 125 Zakon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ako se na objektu izvode radovi većeg obima, stručni nadzor može za jednu vrstu radova imenovati više reviz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baveze stručog nadzora da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kontroliše ispunjenost uslova definisanih Zakon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apažanja tokom stručnog nadzora upisuje u građevinski dnevni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 pisanoj formi obavijesti investitora ako se radovi ne izvode prema revidovanom glavnom projektu, ovom zakonu i posebnim propisima i/il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loži izvođaču radova da otkloni utvrđene nedostatke u roku koji mu odredi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bez odlaganja prijavi nadležnom inspekcijskom organu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građenje objekta suprotno revidovanom glavnom projektu, ovom zakonu i posebnim propisim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ko izvođač radova u roku ne otkloni utvrđene nedostatk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sačinjava izvještaj o izvršenom stručnom nadzoru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po fazama građenja   (i dostavlja ga nadležnom inspekcijskom organu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konačni izvještaj (i dostavlja ga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investitoru, izvođaču radova, Ministarstvu, organu uprave nadležnom za zaštitu kulturnih dobara, u slučaju gradnje na ili u neposrednoj blizini objekta koji je zaštićeno kulturno dobro i nadležnom inspekcijskom organu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AVILNIK O </a:t>
            </a:r>
            <a:r>
              <a:rPr b="1" lang="hr-HR" sz="2600" spc="-1" strike="noStrike">
                <a:solidFill>
                  <a:srgbClr val="ffffff"/>
                </a:solidFill>
                <a:latin typeface="Arial"/>
              </a:rPr>
              <a:t>NAČINU I POSTUPKU </a:t>
            </a: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VRŠENJA STRUČNOG NADZORA</a:t>
            </a:r>
            <a:br>
              <a:rPr sz="2600"/>
            </a:b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Predmet nadzora (iz Zakona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izvođenja radova prema revidovanom glavnom projektu, ovom zakonu i posebnim propisim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usklađenosti radov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vjera kvaliteta izvođenja radov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kvaliteta materijala, instalacija i uređaja koji se ugrađuju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vjera da li materijali, instalacije i uređaji koji se ugrađuju imaju propisanu dokumentaciju neophodnu za njihovo stavljanje u upotrebu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dovno praćenje dinamike izvođenja radova i poštovanje ugovorenih rok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primjene mjera koje je naložio izvođaču radova da preduzme u cilju otklanjanja nedostataka pri izvođenju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radova koji se nakon zatvaranja, odnosno pokrivanja ne mogu kontrolisati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primjene mjera za zaštitu životne sredine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efinisanje faza za koje je neophodno sačiniti izvještaj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vanje tehnoloških i organizacionih upustava izvođaču radova i rješavanje drugih pitanja u vezi građenja objekt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radnja sa projektantom radi obezbjeđenja detalja za nesmetano izvođenje radova i rješavanje drugih pitanja u vezi građenja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 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ocedure nadzo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je početka građenja objekta stručni nadzor, na osnovu revidovanog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efiniše obavezne faze građenja (radovi koji se nakon završetka izvođenja ne mogu kontrolisati) za koje je neophodno sačiniti izvještaj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prema plan prijema radov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ostavlja plan investitoru, nadležnom inspekcijskom organu i izvođaču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 toku građenja objekt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ntroliše da li se radovi izvode u skladu sa revidovanim glavnim projektom, Zakonom, posebnim propisima i pravilima struk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vjer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v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spunjenost osnovnih zahtjeva za objekat, odnosno zahtjeva definisanih revidovanim glavnim projek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vjer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v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građevinsk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proizvod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u skladu sa posebnim propis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ređuje način otklanjanja nedostataka, odnosno nepravilnosti nastalih tokom građenja ob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ože da zabrani izvođenje radova  ili rukovođenje radovima u posebnim  slučajev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činjava izvještaje  o izvršenom  stručnom nadzoru na pojedinim fazama građenja ob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činjava konačni izvještaj  o izvršenom  stručnom nadzoru nad građenjem  objekta ili njegovog dije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pažanja tokom strulnog nadzora upisuje u građevinki dnev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Kontrola da li se radovi izvode u skladu sa revidovanim glavnim projektom, Zakonom, posebnim propisima i pravilima stru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eposredno na gradilištu, u mjeri i učestalosti koja osigurava da se u izvođenju neće odstupiti od revidovanog glavnog projekta, Zakona, posebnih propisa i pravila struke u dijelu u kojem su primjenjivi na objekat koji je predmet stručnog nadz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aćenjem i kontrolom izvođenja radova i na drugim mjestima na kojima se izvode radovi za potrebe građenja tog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om da li svaki od izvođača radova, sa kojima je investitor sklopio ugovor o građenju, ispunjava uslove propisane Zakonom i posebnim propisi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om da li privredno društvo, pravno lice odnosno preduzetnik koji je sa izvođačem radova zaključio ugovor o podizvođenju određenih radova ispunjava uslove propisane Zakonom i posebnim propisi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om da li je iskolčavanje objekta obavilo lice registrovano u Centralnom registru privrednih subjekata za obavljanje tih posl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om upotrebljivosti građevinskih proizvoda u skladu sa posebnim propis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aćenjem dinamike izvođenja radova i poštovanje ugovorenih rok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činjavanjem izvještaja po fazama građenj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ršenjem drugih aktivnosti propisanih Zakonom, ovim pravilnikom i posebnim propisima u dijelu u kojem su primjenjivi na objekat koji je predmet stručnog nadzora.dodatno definisa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rovjer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a,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 odnosno dokazivanj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 ispunjenosti osnovnih zahtjeva za objekat, zahtjeva definisanih revidovanim glavnim projektom kao i obaveze provjere građevinskih proizvoda u skladu sa posebnim propis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ontroliše da li su izvršeni pripremni radov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vjerava da li je iskolčavanje objekta izvršeno u skladu sa revidovanim glavnim projekt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ontroliše da li se izvode radovi na objektu u skladu sa revidovanim glavnim projekt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stvaruje saradnju sa projektantom radi obezbjeđenja detalja za nesmetano izvođenje radova i rješavanje drugih pitanja u vezi građenja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ređuje kontrolno tijelo i način sprovođenja kontrolnih postupaka u slučaju sumnje na kvalitet izvršenih radova ili ugrađenih građevinskih proizvoda, o čemu predhodno obavještava investit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vjerava da li je dokazana upotrebljivost građevinskog proizvoda proizvedenog van gradilišta za potrebe tog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vjerava da li je dokazana upotrebljivost građevinskog proizvoda proizvedenog na gradilištu za potrebe tog objekt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obrava odnosno zabranjuje ugradnju g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ađevinskih proizvoda upisom u građevinski dnevni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Nadzor određuje n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ačin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otklanjanja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utvrđenih 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nedostataka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nepravilnosti nastalih tokom građenja objek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ako dokumentacijom o ispitivanjima određenih dijelova objekta radi provjere odnosno dokazivanja ispunjenosti osnovnih zahtjeva za objekat predviđenih revidovanim glavnim projektom, nije dokazana usaglašenost, odnosno kvalitet objekta, njegovih dijelova, proizvoda, opreme i/ili postrojenj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ređuje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nači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provođenja postupaka kojima se može utvrditi stvarno stanje u odnosu na usaglašenost odnosno kvalitet ugrađenih dijelova objekata, građevinskih i drugih proizvoda, opreme i/ili postrojenj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ređ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je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ačunske ili druge provjere ispunjavanja propisanih zahtjeva za objekat pri čemu se uzima u obzir stvarno stanje u odnosu na usaglašenost, odnosno kvalitet ugrađenih dijelova objekta, građevinskih i drugih proizvoda, opreme i/ili postrojenja; i/i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ređuje d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ugi primjereni način kojim se može utvrditi zatečeno stvarno izvedeno stanje objekta (neposrednim uvidom, uvidom u dokumentaciju objekta, uzimanjem i ispitivanjem uzoraka sklopova objekta i proračunima) u svrhu upoređivanja sa svojstvima koje mora imati objekat odnosno njegovi dijelovi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34880" y="2492280"/>
            <a:ext cx="91170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ČINU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ZRADE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DRŽINI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HNIČKE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KUMENTACIJE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A GRAĐENJE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A 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l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. list C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4/18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, 43/19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Zabrana izvođenja radova u svrhu otklanjanja nedostataka odnosno nepravilnosti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Uslovi pod kojima se može zabraniti izvođenje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o izvođač radova ne ispunjava ili prestane da ispunjava uslove propisane Zakonom i posebnim propis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branjuje se rukovođenje građenjem, odnosno rukovođenjem pojedinim vrstama radova, ako ovlašćeni inženjer ne ispunjava ili prestane da ispunjava uslove propisane Zakonom i posebnim propis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 slučaju da iskolčavanje objekta nije izvršeno u skladu sa revidovanim glavnim projekt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 slučaju da  izvođač radova ne izvodi radove na objektu u skladu sa revidovanim glavnim projektom , nakon što se ocijeni d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stavak građenja odnosno izvođenja pojedinih vrsta radova može ugroziti ili onemogućiti sprovođenje  načina otklanjanja nedostatak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je ugrožena stabilnost objekta koji se gradi, stabilnost susjednih objekata i/ili zemljišta, i/i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je moguće ugrožavanje života i zdravlja ljudi ili javnog interes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Procedura za zabranu i nastavak građe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brana se upisuje u građevinski dnevnik odmah nakon utvrđivanja činje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kon upisane zabrane treba da se obezbijedi objekat odnosno dio objekta na kojem se građenje obustavl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vođenje radova se smije nastaviti nakon što revizor utvrdi da li su nedostaci odnosno nepravilnosti  otklonjene i upiše u građevinski dnevnik prestanak zabra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Izvještaj stručnog nadzora o izvršenom stručnom nadzoru po fazama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iprema  ga glavni revizor na osnovu izvještaja za pojedine vrste radova koji su sastavni dio ovog izvještaj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činjava se u elektronskom obliku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tpisuje  se naprednim elektronskim potpis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ilažu se sljedeći dokument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kt o imenovanju stručnog nadzora koji sadrži podatke o stručnom nadzoru (naziv, sjedište, adresa, matični i registarski broj, djelatno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a stručnog nadz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kt o imenovanju glavnog revizora i revizora, koji sadrži ime, prezime i akademsko zvanje reviz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e svih  imenovanih revizo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az o osiguranju od profesionalne odgovornosti stručnog nadzor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Izvještaj stručnog nadzora o izvršenom stručnom nadzoru po fazama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Sadržaj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naslovna strana (naziv stručnog nadzora; naziv objekta ili njegovog dijela; namjenu i lokaciju objekta; naziv investitora; naziv izvođača radova) - Obrazac 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podatke o izvođaču radova (naziv, sjedište, adresa, matični i registarski broj, djelatnos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ime, prezime i akademsko zvanje ovlašćenog inženjera koji je rukovodio građenjem objekta u cjelini i ovlašćenih inženjera koji su rukovodili izvođenjem pojedinih vrsta radova na građenju objekta, zavisno od namjene objekta, na osnovu arhitektonskog, građevinskog, elektro odnosno mašinsk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broj prijave građenj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opis vrste radov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podaci o projektantu i reviden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izvještaji o sprovođenju kontrolnih ispitivanja i drugih kontrolnih postupaka u pogledu ocjene i provjere svojstava odnosno dokazivanja kvaliteta određenih dijelova objekta odnosno faze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zapažanja o nepravilnostima uočenim u toku građenja faze objekta, kao i o nedostacima tokom građenja i njihovom otklanjanj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zapažanje o eventualno neizvedenim radovima koji su predviđeni revidovanim glavnim projektom, a koji nemaju uticaja na upotrebu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javu ovlašćenog inženjera koji rukovodi izvođenjem pojedinih vrsta radova na građenju objekta, datu na obrascu u skladu sa propisom kojim se uređuju obrasci zahtjeva, prijava, obavještenja i izjave u oblasti izgradnje objekata;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ruge podatke u vezi sa vršenjem stručnog nadzora zavisno od vrste objekta i izvedenim radovim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Konačni izvještaj stručnog nadzora o izvršenom stručnom nadzo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prem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g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glavni revizor koji je bio imenovan u trenutku završetka građenja objekta na osnovu izvještaja za pojedine vrste radova koji su sastavni dio konačnog izvještaja i zapisnika o primopredaji radova i dokumentacije od prethodnih revizor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činjava se u elektronskom obliku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otpisuje  se naprednim elektronskim potpisom (glavni revizor, revizor i odgovorno lice u privrednom društvu koje je obavljalo poslove stručnog nadzor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lažu se sljedeći dokumenti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akt o imenovanju stručnog nadzora koji sadrži podatke o stručnom nadzoru (naziv, sjedište, adresa, matični i registarski broj, djelatnos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licenc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stručnog nadzor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akt o imenovanju glavnog revizora i revizora, koji sadrži ime, prezime i akademsko zvanje revizor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licenc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vih imenovanih revizo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dokaz o osiguranju od profesionalne odgovornosti stručnog nadzor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zjav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ovlašćenog inženjera koji rukovodi građenjem objekta u cjelini, datu na obrascu u skladu sa propisom kojim se uređuju obrasci zahtjeva, prijava, obavještenja i izjave u oblasti izgradnje objeka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zapisn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nadležnih inspekcijskih organa, koji su u skladu sa posebnim propisima obavezni, a u kojima je konstatovano da je objekat izgrađen u skladu sa revidovanim glavnim projektom, odnosno projektom izvedenog stanja;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laborat originalnih terenskih podataka izvedenog stanja ovjeren od strane registrovane geodetske organizacij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Konačni izvještaj stručnog nadzora o izvršenom stručnom nadzoru po fazama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982440" y="1844280"/>
            <a:ext cx="1062036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ffffff"/>
                </a:solidFill>
                <a:latin typeface="Arial"/>
              </a:rPr>
              <a:t>Sadržaj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naslovn</a:t>
            </a: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 stran</a:t>
            </a: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 (naziv stručnog nadzora; naziv objekta ili njegovog dijela; namjenu i lokaciju objekta; naziv investitora; naziv izvođača radova) - Obrazac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poda</a:t>
            </a: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ci 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o izvođaču radova (naziv, sjedište, adresa, matični i registarski broj, djelatno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ime, prezime i akademsko zvanje ovlašćenog inženjera koji je rukovodio građenjem objekta u cjelini i ovlašćenih inženjera koji su rukovodili izvođenjem pojedinih radova na građenju objekta, zavisno od namjene objekta, na osnovu arhitektonskog, građevinskog, elektro odnosno mašinskog pro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broj prijave građenj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kraći opis objekta (vrste radova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poda</a:t>
            </a: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ci 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o projektantu i revident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izvještaje o sprovođenju kontrolnih ispitivanja i drugih kontrolnih postupaka u pogledu ocjene i provjere svojstava odnosno dokazivanja kvaliteta određenih dijelova objekta odnosno objekta u cjelin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z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apažanja o nepravilnostima uočenim u toku građenja, kao i o nedostacima tokom građenja i njihovom otklanjanju kao i o njihovom uticaju na upotrebu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d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c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 vođenju, objedinjavanju i čuvanju građevinskog dnevnik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vještaj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o izmjenama revidovanog glavnog projekta nastalim tokom izvođenja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Konačni izvještaj stručnog nadzora o izvršenom stručnom nadzoru po fazama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82440" y="1752120"/>
            <a:ext cx="106203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ffffff"/>
                </a:solidFill>
                <a:latin typeface="Arial"/>
              </a:rPr>
              <a:t>Sadržaj - 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nastava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vještaj o sprovedenom probnom radu, ako je sprovede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vještaj o probnom opterećenju, ako je sprovede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zapažanje o eventualno neizvedenim radovima koji su predviđeni revidovanim glavnim projektom, a koji nemaju uticaja na upotrebu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rug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pod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u vezi sa vršenjem stručnog nadzora zavisno od vrste objekta i izvedenim radovima (uvođenje u posao, primopredaja radova i dokumentacije i sl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jav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o cjelovitosti i međusobnoj usklađenosti stručnog nadz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java stručnog nadzora da je objekat izveden u skladu sa revidovanim glavnim projektom, odnosno projektom izvedenog objekta, Zakonom i posebnim propisima i da je podoban za upotreb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avez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investitora da, u zavisnosti od karakteristika tla i objekta, u određenom roku vrši odgovarajuća osmatranja ponašanja tla i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avez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investitora da, u zavisnosti od vrste objekta, u određenom roku vrši odgovarajuća osmatranja uticaja objekta na životnu sredinu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avezu investitora da o rezultatima osmatranja ponašanja tla i objekt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smatranja uticaja objekta na životnu sredinu i preduzetim mjerama obavještava nadležni inspekcijski orga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27160" y="1916280"/>
            <a:ext cx="10476000" cy="41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efinisani uslovi  koje mora ispuniti tehnička dokumentacija, odnosno mora biti u skladu s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Zakonom o planiranju prostora i izgradnji objek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osebnim propis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avilima struke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rbanističko-tehničkim uslov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efinisane vrste tehničke dokumentacije i njihov sadržaj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dejno rješen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dejni projek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lavni projek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ojekat izvedenog ob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efinisani djelovi tehničke dokumentacij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arhitektonski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građevinsk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elektrotehnički 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ašinski projek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stali projekti, elaborati i podlo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 u="sng">
                <a:solidFill>
                  <a:srgbClr val="ffffff"/>
                </a:solidFill>
                <a:uFillTx/>
                <a:latin typeface="Arial"/>
              </a:rPr>
              <a:t>Idejno rješenje</a:t>
            </a: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drž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ikaz planirane koncepcije objekt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ad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avanja saglasnosti državnog arhitekte za zgrade, trgove i ostale javne površin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agledavanj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esursnih i prostornih mogućnosti i ograničenja izgradnje objekat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a ciljem da 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usvoji makrolokacija i prostorn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ispozicija objekt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utvrde osnovne funkcio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lne, tehnološke i tehničke karakteristike objekt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faznost građenja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nos prema prostoru i životnoj sredini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nosno definiše optimalni koridor za linijske objek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 u="sng">
                <a:solidFill>
                  <a:srgbClr val="ffffff"/>
                </a:solidFill>
                <a:uFillTx/>
                <a:latin typeface="Arial"/>
              </a:rPr>
              <a:t>Idejni projekat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adrž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međusobno usklađene dijelove pojedinih projekata, kojima s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aju tehnička rješenj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jekt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efiniše objekat u prostoru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rjentaciono dokazuje ispunjenost osnovnih zahtjeva za objek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azuje usklađenost sa zakonom, propisima, pravilima struke i UT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Glavni projekat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rži međusobno usaglašene projekte neophodne za prijavu građenja i građenje objekta, kojim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se definiše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ložaj i kapacitet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storno oblikovanje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zbor konstruktivnog sistem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imenzionisanje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onstruktivnih elemenat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bor građevinskih materijala, instalacija i opreme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vrijednost građevinskih, zanatskih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instalaterskih i drugih radov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hnička rješenja priključaka objekta na odgovarajuću saobraćajnu, instalacionu 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rugu infrastrukturu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ao i druge proračune potrebne za prikaz svih detalja neophodnih za građenje objekta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uređenje slobodnih površina i uslove za održavanje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Za linijske infrastrukturne objekte u glavnom projektu se definiše trasa objekta sa svim potrebnim elementi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Projekat izvedenog objekt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adrži međusobno usaglašene projekte sa prikazom izmjena glavnog projekta u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kladu sa Zakonom, a neophodnih za korišćenje i održavanje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Izrada i sadržaj tehničk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drž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pštu dokumentacij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jektni zadatak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kstualnu dokumentaci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umeričku dokumentaci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grafičku dokumentaciju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loge za izradu tehničke dokumentaci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rađuje se u elektronskoj form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(bez mogućnost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mjena njenog sadržaj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– (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jedan primjerak glavnog projekta izrađuje se u analognoj formi za potreb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rađenja objekta, odnosno izvođenja pojedinih vrsta radova na objektu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naz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vi fajlov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kladu sa naslovom pro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ve se čuva u jednom folderu u kojem postoje posebni folder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folder u kojem se čuvaju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pšta dokumentacija i projektni zadata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folder u kojem se čuvaju  d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jelovi tehničke dokumentacij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u .pdf formatu (u ovom folderu su kao posebni fajlovi sačuvan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arhitektonski, građevinski, elektrotehnički i mašinski projekat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u .pdf formatu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folder u kojem se čuvaju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stali projekti, elaborati i podlo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opšt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slovna strana sa podacima o  objektu, lokaciji, investitoru, projektantu, datumu izrade.. Obrazac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držaj tehničke dokumentacije, odnosno spisak foldera ukoliko se tehnička dokumentacija sastoji iz više folde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držaj pojedinih dijelova tehničke dokumentacije, odnosno foldera koji čine tehničku dokumentaci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ovor između investitora i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projektan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projektantu (naziv, sjedište, adresa, matični i registarski broj, djelatnost);izvod iz Centralnog registra privrednih subjekata za  projektantsku organizacij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a  projektan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edbff"/>
                </a:solidFill>
                <a:latin typeface="Arial"/>
              </a:rPr>
              <a:t>rješenje o imenovanju ovlašćenog inženjera koji rukovodi izradom tehničke dokumentacije u cjelini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(glavni inženjer)</a:t>
            </a:r>
            <a:r>
              <a:rPr b="0" lang="pt-BR" sz="1600" spc="-1" strike="noStrike">
                <a:solidFill>
                  <a:srgbClr val="9edb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9edbff"/>
                </a:solidFill>
                <a:latin typeface="Arial"/>
              </a:rPr>
              <a:t>spisak odgovornih ovlašćenih inženjera za pojedine djelove tehničke dokumentacije - Obrazac 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licenca ovlašćenog inženjera koji rukovodi izradom tehničke dokumentacije u cjelini (glavni inženjer) i licence odgovornih ovlašćenih inženjera za pojedine djelove tehničke dokumentacije (odgovorni inženj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00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c9e4ff"/>
                </a:solidFill>
                <a:latin typeface="Arial"/>
              </a:rPr>
              <a:t>stavke 7,8 i 9 se ne prilažu uz idejno rješen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opšt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dokaz o osiguranju od profesionalne odgovornosti projektan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rbanističko - tehnički uslov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9edbff"/>
                </a:solidFill>
                <a:latin typeface="Arial"/>
              </a:rPr>
              <a:t>izjava odgovornog inženjera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9edbff"/>
                </a:solidFill>
                <a:latin typeface="Arial"/>
              </a:rPr>
              <a:t>da je tehnička dokumentacija izrađena u skladu sa propisima - Obrazac 3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i</a:t>
            </a:r>
            <a:r>
              <a:rPr b="0" lang="vi-VN" sz="1600" spc="-1" strike="noStrike">
                <a:solidFill>
                  <a:srgbClr val="9edbff"/>
                </a:solidFill>
                <a:latin typeface="Arial"/>
              </a:rPr>
              <a:t>zjava o međusobnoj usaglašenosti svih djelova tehničke dokumentacije, potpisanu od strane glavnog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9edbff"/>
                </a:solidFill>
                <a:latin typeface="Arial"/>
              </a:rPr>
              <a:t>inženjera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- Obrazac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hnički opis za objeka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uputstvo za upravljanje sa građevinskim otpadom, odnosno opasnim otpadom koji nastaje tokom građenja, korišćenja odnosno uklanjanja objekta, u skladu sa posebnim propis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zbirna rekapitulacija predmjera i predračuna radov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podaci potrebni za statistiku dati su na obrascu 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c9e4ff"/>
                </a:solidFill>
                <a:latin typeface="Arial"/>
              </a:rPr>
              <a:t>stavke 12, 13, 15, 16, 17 se ne prilažu uz idejno rješen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2:39Z</dcterms:created>
  <dc:creator>rade</dc:creator>
  <dc:description/>
  <dc:language>en-US</dc:language>
  <cp:lastModifiedBy>sneza</cp:lastModifiedBy>
  <cp:lastPrinted>2019-03-18T11:47:40Z</cp:lastPrinted>
  <dcterms:modified xsi:type="dcterms:W3CDTF">2022-10-03T19:34:26Z</dcterms:modified>
  <cp:revision>345</cp:revision>
  <dc:subject/>
  <dc:title>ZAKON O IZGRADNJI OBJEKATA</dc:title>
</cp:coreProperties>
</file>