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35D5-D003-4254-8E24-0B3BBC422691}"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ADDE-3FEC-4ECE-BC6A-58BC1A37FC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C9E8-5E5F-4735-8E39-D28EBF314A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547E-E6B1-4307-958E-0475EB8C29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9CE4-30C4-4378-A4A5-627173CE5E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310A-8197-4D4D-B17C-0A77505A21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74B3-D302-49D8-845F-CC27ED0B63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CCFA-C44F-4B34-B969-A54F58D363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BCCD-F168-4595-A5B6-1FF96AAF97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324-BCD3-4304-BAE4-125B4E9FFB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91F1-F88B-42B6-BFB1-F1FD46F914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8279-4C96-48CD-BA17-F33818C3F95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93E4-F11B-49CC-8B3D-5BF2446909A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E0B8-C451-418A-B407-0EBCEB40FA1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8D3C-B0EE-43C7-8B9A-F38BA7797D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D949-7EA7-4415-B247-972B558E1B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C8D2-91A2-44DD-9008-1042E7C01DE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EBF1-F6CC-4D69-89FE-D147DC311EE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F9ED-BD78-465E-AE85-95F1114864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BB3-85EB-4B3F-8476-AF9125784C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9E6D-99FA-4770-B1D8-BA2AA6846F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EB59-EC3B-4F79-B1FC-4B6B158C02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7DA3-AF52-4916-8148-94B763ED21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A3D0-4AC1-4216-8B9E-4392E58354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D0A4-4928-4768-917C-127E7290FA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A9DB-6368-4DCE-8B59-169A8CDB584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531A-AACB-4780-963B-D693DDD8AC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52DE-459B-4123-AC44-ACDDC56CC5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8BC5-9CE8-4A11-B7FD-A263F49E15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B6C7-DABD-451D-91A3-E29D6B66E5B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FE05-FF1C-4A9C-AA6B-A77485F1B1E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8D7B-9065-4E2B-8D84-BB3415EBA9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1D63-B1CD-443E-A749-C3A5461A76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EA88-AA9F-49F6-B767-20CCBC68739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7E80-55A0-47E7-AA57-6F4624DF5DF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F162-3207-41F2-91AB-89865FB71C3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181F-A952-4237-96DB-B8FDADF6CC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F217-73A3-49C8-899B-2D007A60BE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CC82-1B0D-419A-A4A8-21B1D3FF97D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DBDC-79E5-4AD4-8C15-4BA99C0B09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DE4CA-C88D-4E9B-8FB2-92ADB3A26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FBADA-296E-400F-9532-4ADE1C77F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CCB865-6F39-4136-87AA-57AFC85C81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C3F7D-7099-463B-9061-0B394CD8B1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22E5F-BE14-4527-AA92-F7423DC1B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4A266-62B6-430A-8FEE-075CC5CE1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B9F78-7AC4-406B-9390-6DF689CD6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35422-8151-45F7-9637-AC256F06A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F71CA-6CDE-4697-B61B-72FB53F90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FB120-6C03-423A-A281-FA05D686B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7722-CDE5-4F7F-A325-4A0394A2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82EF74-4C6C-466B-B8EE-8459EB40B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A9402-9FB7-48D8-B324-1D125396C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E6EA-93A2-4BF9-B9A0-8BCFFA656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B26B9-14D1-47BE-8F68-E511BA8B2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BDBEF-E2CE-4EC2-A255-1F0F54900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4055E-2F42-4AC4-AB9F-D773EF2C6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EE73C-7A58-4810-9F6E-8CE236A33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B2B981-C4FA-4398-9AEC-46CD2DFD7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BE93A7-48D4-4CD2-8468-78ED4493E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23C08-CE56-4123-9C7B-E2F8EBE7B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EF8E7-A23A-49E7-BF81-421622ADF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93705-1ABB-433C-9BAC-F0009249B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50CBE5-47FA-4E32-847A-160F00379A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EA14-971D-416A-A1EF-D1C9983921C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9F4E-959B-4AC4-83DE-5EDC8D714FB7}"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468360" y="1628640"/>
            <a:ext cx="8424720" cy="4238640"/>
          </a:xfrm>
          <a:prstGeom prst="rect">
            <a:avLst/>
          </a:prstGeom>
          <a:noFill/>
          <a:ln w="0">
            <a:noFill/>
          </a:ln>
        </p:spPr>
        <p:txBody>
          <a:bodyPr anchor="t">
            <a:normAutofit fontScale="96000"/>
          </a:bodyPr>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štava ponuđače o završetku pregovora uz dostavljanje konačne tehničke specifikacije i drugih elemenata u vezi sa predmetom nabavke koji su potrebni za sačinjavanje konačne ponude i odredjuje rok za podnošenje KONAČN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468360" y="1916280"/>
            <a:ext cx="8424720" cy="414792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 između ostalog u slučaju radov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8 dana, od dana dostavljanja tenderske dokumentacije (iz razloga hitnosti može krać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Naručilac obavještava ponuđače o zaključenju pregovora i određuje rok za podnošenje KONAČNIH ponud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ffff"/>
                </a:solidFill>
                <a:latin typeface="Arial"/>
              </a:rPr>
              <a:t>dokazi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potvrde</a:t>
            </a:r>
            <a:r>
              <a:rPr b="0" i="1" lang="sr-Latn-ME" sz="1400" spc="-1" strike="noStrike">
                <a:solidFill>
                  <a:srgbClr val="ffffff"/>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2060640"/>
            <a:ext cx="7926120" cy="395928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ffff"/>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ffff"/>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ffff"/>
                </a:solidFill>
                <a:latin typeface="Arial"/>
              </a:rPr>
              <a:t> potvrd</a:t>
            </a:r>
            <a:r>
              <a:rPr b="0" i="1" lang="sr-Latn-ME" sz="1400" spc="-1" strike="noStrike">
                <a:solidFill>
                  <a:srgbClr val="ffffff"/>
                </a:solidFill>
                <a:latin typeface="Arial"/>
              </a:rPr>
              <a:t>e</a:t>
            </a:r>
            <a:r>
              <a:rPr b="0" i="1" lang="en-GB" sz="1400" spc="-1" strike="noStrike">
                <a:solidFill>
                  <a:srgbClr val="ffffff"/>
                </a:solidFill>
                <a:latin typeface="Arial"/>
              </a:rPr>
              <a:t> izdat</a:t>
            </a:r>
            <a:r>
              <a:rPr b="0" i="1" lang="sr-Latn-ME" sz="1400" spc="-1" strike="noStrike">
                <a:solidFill>
                  <a:srgbClr val="ffffff"/>
                </a:solidFill>
                <a:latin typeface="Arial"/>
              </a:rPr>
              <a:t>e</a:t>
            </a:r>
            <a:r>
              <a:rPr b="0" i="1" lang="en-GB" sz="1400" spc="-1" strike="noStrike">
                <a:solidFill>
                  <a:srgbClr val="ffffff"/>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ffff"/>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ffff"/>
                </a:solidFill>
                <a:latin typeface="Arial"/>
              </a:rPr>
              <a:t> list</a:t>
            </a:r>
            <a:r>
              <a:rPr b="0" i="1" lang="sr-Latn-ME" sz="1400" spc="-1" strike="noStrike">
                <a:solidFill>
                  <a:srgbClr val="ffffff"/>
                </a:solidFill>
                <a:latin typeface="Arial"/>
              </a:rPr>
              <a:t>a</a:t>
            </a:r>
            <a:r>
              <a:rPr b="0" i="1" lang="en-GB" sz="1400" spc="-1" strike="noStrike">
                <a:solidFill>
                  <a:srgbClr val="ffffff"/>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ffff"/>
                </a:solidFill>
                <a:latin typeface="Arial"/>
              </a:rPr>
              <a:t> 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ffff"/>
                </a:solidFill>
                <a:latin typeface="Arial"/>
              </a:rPr>
              <a:t>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ffff"/>
                </a:solidFill>
                <a:latin typeface="Arial"/>
              </a:rPr>
              <a:t> uzor</a:t>
            </a:r>
            <a:r>
              <a:rPr b="0" i="1" lang="sr-Latn-ME" sz="1400" spc="-1" strike="noStrike">
                <a:solidFill>
                  <a:srgbClr val="ffffff"/>
                </a:solidFill>
                <a:latin typeface="Arial"/>
              </a:rPr>
              <a:t>a</a:t>
            </a:r>
            <a:r>
              <a:rPr b="0" i="1" lang="en-GB" sz="1400" spc="-1" strike="noStrike">
                <a:solidFill>
                  <a:srgbClr val="ffffff"/>
                </a:solidFill>
                <a:latin typeface="Arial"/>
              </a:rPr>
              <a:t>k odnosno fotografij</a:t>
            </a:r>
            <a:r>
              <a:rPr b="0" i="1" lang="sr-Latn-ME" sz="1400" spc="-1" strike="noStrike">
                <a:solidFill>
                  <a:srgbClr val="ffffff"/>
                </a:solidFill>
                <a:latin typeface="Arial"/>
              </a:rPr>
              <a:t>a</a:t>
            </a:r>
            <a:r>
              <a:rPr b="0" i="1" lang="en-GB" sz="1400" spc="-1" strike="noStrike">
                <a:solidFill>
                  <a:srgbClr val="ffffff"/>
                </a:solidFill>
                <a:latin typeface="Arial"/>
              </a:rPr>
              <a:t> koja je predmet nabavke, čiju je vrijednost ponuđač obavezan potvrditi, ukoliko to naru</a:t>
            </a:r>
            <a:r>
              <a:rPr b="0" i="1" lang="sr-Latn-ME" sz="1400" spc="-1" strike="noStrike">
                <a:solidFill>
                  <a:srgbClr val="ffffff"/>
                </a:solidFill>
                <a:latin typeface="Arial"/>
              </a:rPr>
              <a:t>č</a:t>
            </a:r>
            <a:r>
              <a:rPr b="0" i="1" lang="en-GB" sz="1400" spc="-1" strike="noStrike">
                <a:solidFill>
                  <a:srgbClr val="ffffff"/>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8:24Z</dcterms:modified>
  <cp:revision>739</cp:revision>
  <dc:subject/>
  <dc:title>ZAKON O IZGRADNJI OBJEKATA</dc:title>
</cp:coreProperties>
</file>