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1F434A-B574-4F27-A525-8835EC6B36A8}" type="datetime5">
              <a:rPr b="0" lang="sr-Latn-CS" sz="1300" spc="-1" strike="noStrike">
                <a:solidFill>
                  <a:srgbClr val="000000"/>
                </a:solidFill>
                <a:latin typeface="Times New Roman"/>
              </a:rPr>
              <a:t>31.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3E4CE5-B577-47B6-91A0-55BD5D8192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2C740E-5B0B-4F15-A5BE-F2F5FBAE8B79}"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B01C64-508E-491D-99CD-10A18BE12D4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02F2A7-F5EA-4BBA-9E93-C4FD2E3917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1CC3CA-EDBF-4587-B2AD-ECDE0B47B541}"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BF8227-6B54-43FE-96B9-ED8B636816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05B207-FC95-45B4-A957-F3F990C0F7F1}"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54C42C-753A-4181-B690-747BC05406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7E4BAF-2BED-46F4-A9DC-8465AD60AA2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EE7E28-CB8C-4366-A79B-FB033BF20F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58565E-A999-413E-99B0-EC979B4B023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E0B325-6297-4757-858D-0A7825845B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BE557F-E559-473A-AB25-7D2344D1E5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29EB5D-D83B-44C2-B271-2D54A3F8B9A2}"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7A3DC1-5DBB-418E-916E-818D0700AF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D81DDB-FD04-4A31-8C05-A5FDE9A937A4}"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3AF7EB-C88C-4A03-925E-2882D82274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DC4513-92E6-490A-96C8-0F1C9CE9C0E0}"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EF1711-CEB1-4287-A522-7640AAF503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9C1F20-CABA-42B5-9D53-82234F6002A6}"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E0B819-E9DD-4CD2-A06F-6345DE56F2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5DC724-8AA4-4FCE-BE5B-BCED3072206F}"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F1A050-9216-4E00-90BA-95ED7E5960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FFA40B-DE29-406A-929F-43355A3B873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827107-4C9D-4B2D-A67D-AA17ACA70F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E3ADAF-ED2E-4055-B6AD-2CB3C1FF16EC}"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9BD6B3-3D71-44F3-8353-58C1513FCB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4E5235-C8CD-4207-8E43-1004E49F62DF}"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35A21D-3217-42A6-9CE1-9D61682C83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0C390E-DF0B-4290-8B37-58318B622E45}"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365A16-FC30-4039-B2A1-8F324C11AA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55526F-01B9-4B84-B276-7199700464C1}"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693E5F-E9B4-4141-96BE-82E1CE1197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CE0089-4A98-4DC3-A0A5-FE166AE4D6B1}"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AB1C70-DB89-4368-9B38-00B0290004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F001AC-9E92-48EB-8CC7-6E4EDE28C33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3C4367-2D2D-43FE-9BF3-BFA111F77F0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D0781E-2BFA-4326-9444-CF2B16197094}"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529952-30BB-4625-BEC0-B8934F755D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1BDCD8-4511-4F38-B666-FC95067027A2}"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61C3C8-9A15-4185-AF5F-E10A9FF4A3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9EF2C4-F796-41D7-8E8C-A6E797B44C4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311750-1275-4DBF-9754-5834867329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371A32-30A0-4F71-8874-19A1353A7E3D}"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50142F-D2AC-4752-8E44-7ACBE4FE8E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434400-3203-4C3B-A928-BABE5EB03DF5}"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406478-4081-459C-850C-93CD50F4B5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BCCC0D-2702-4C7E-A522-21AC21CF700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674219-6E5E-4128-856B-72538093C2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375070-6C3C-400C-8243-A66C54F7D5DC}"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CF3524-F9F4-4BF1-8B88-75327C1CD7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70B319-CF09-4289-AF79-6B4064B11FD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9E97F5-D40D-40C2-A0C2-BE5EDB00F4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B17EFD-4490-403A-B38A-D0016CC5CCE5}"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F32203-0C5C-4684-AD2A-76DED12B13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5D6EEE-FAE1-4A92-949C-B34516470B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063842-E43D-4526-9753-379E78E134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F328B3-FAC5-47D1-858F-E3C4FB1BCB00}"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AAB774-6DBF-425C-BECA-04523A588E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BBFF12-849F-4949-9322-71A95CA4696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B44B76-6D63-4CC0-AD4F-2C096CE1ED39}"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B8CD4C-1BAD-4284-9FA3-07FCF9C147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9B4A02-E3DD-444F-BF8C-8A27AA9B544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FB2FBE-8DC7-44B6-9892-CAEEF4A362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8CFA16-0C6F-41D8-A364-9B2F92152C43}"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E0F836-3B25-4D1F-8ECF-D2F265B002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31AFFD-7C3B-44B4-A33F-DA37B4A8C893}"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13F83B-1E62-4ADA-BFE4-C606BF310A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6044DC-C40A-451C-903F-2E9491F24A7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6EA177-B4BE-4323-B505-011752B749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5B34223-403D-4FAA-A3F9-E6E8F4100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DC593B-0952-4B81-9D6A-1D850E8FD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FDA7377-6DC2-463F-A16B-F567C1A9B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1EC143D-7F91-4423-9B1B-457626A97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7522F59-1D53-4F8A-A5A5-D9E690711B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FB1AC63-3441-4AC7-B10C-EAA4D3F15D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92E62FB-2E18-42E5-979D-DC6B7E7208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F62B9E9-866F-48AE-8FD8-0D800C3A2C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8C10818-2E59-4136-8747-23CD92924D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9943CE5-06B9-4CE8-960C-DDBE00B1FA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F591300-3DBB-4E07-82D3-A6D04CAF3D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C74A27-A849-4210-9FC1-245FAC88B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262CEA7-417D-4B57-91E8-495F3952C1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1DE4631-5EFC-432A-9E26-3D0E9FD9C6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D6E65B2-BE7F-4D11-83B1-FAE46B51DA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C2E47AD-4D64-4257-AB31-60B8F7528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3A907ADD-7B32-49C9-A0E5-09F8086FCA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CDA2EB1-5C2A-46A3-8E1B-5EC5E900E3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63CC8E-A759-4474-9DAF-EEE40E1FC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C44D7A2-B4C9-4CDD-A27A-AFC730E49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B96964-3FBF-44EB-93FA-8D3C2B2C9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746D11-3DC1-4E9C-92D0-940C27D77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9B0101-5315-4A11-A4F2-2A748ADCAA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D30D37-AB3C-4C14-94A2-42C39E6791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7315-B66F-4712-B6DD-98F5CA89A75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1494-379B-4168-B413-7DBD546CBF6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7437-3A96-4772-B32D-0F4DAC66638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5E1C-05C7-429A-9E30-C6278A2F77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4E85-9EF2-4235-A8A8-B951A35514B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23DF-4674-4CCC-9F8A-7F95844595B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FA63-7EC4-41E0-B00D-8E239A9EF5A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2539-99A5-438E-873E-8C1BDC95E86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96A9-9692-40DF-B916-B8FBFC7E835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81BA-F865-4C93-800D-C8DC934BF2A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7827-65ED-4041-954B-44905CD7B2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558D-001D-4E51-8129-038E5AFCFF4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B271-C33C-494A-A896-075C74DD3F9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422A-A53F-4F16-B218-B321773EE7D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4CB4-2AF1-41FF-A7C1-3D629D43A12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AC0B-130C-472B-92B4-3BC7D9EAD78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981F-1625-4FC4-A9E6-0281FB1D5D0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1C53-85FB-4FED-B66E-0EE006E6C1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5A71-8471-486F-BCA8-7D30911D136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61A4-753B-4E2B-BCAC-38954719E87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F0A6-68EB-4994-9ADB-C86FCA1EED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A584-AAE8-4107-A216-48F296C0F97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F3F4-CD92-4C3E-8287-C9194016B1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0CBD-69F9-44FE-BB65-B32B9374649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C826-E4D0-4027-9660-64E9F62C507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7540-6ABF-476A-B20C-1716E34319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1122-B961-406D-BA5F-B0126C3F304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6C52-040F-4A6D-9AAA-48AB2EE020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4B75-9F65-4207-94C3-1DA516F2B7E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A70D-D9DD-4EED-B9DC-DF6ABBC79D1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5C7C-A93E-4722-9E46-DC72CC4E40B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5CA5-7DB5-44C9-B850-DD767C1737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07E9-3E13-49AB-B320-79E85FBFE6E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F1EA-5F32-4BAA-8F8B-D210AF585E0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BD37-4488-432B-AAC0-3AACCECD9DC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704F-96A1-45D4-ACA1-0B8E76547B1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666C-7653-4CEE-8034-B03ACAE8600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9703-CFCC-4F03-9FA8-829A86A8E66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766A-359B-4445-B515-127B9761895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19EC-0751-4946-84FE-49C54F10DD6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E0B4-5F74-49C8-8069-9D251879F3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29D1-E7EC-42EA-8A28-E9867A6D2C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C1B5-E078-43DA-A84A-AA7C465802F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738F-3A97-486E-87D2-24032183FD6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A9E5-9EF8-4B25-9714-1D4DBA11C40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7D68-E1C4-4797-8521-9AABF81C6E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DA9C-5996-483E-A670-CD48E0C857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A754-1C04-419D-A322-992EC808939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034D-A608-45BD-9C0E-55E4E68D33A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FAF1-E3E3-402F-A9A1-FD8ED37EA16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6C85-7BEC-412C-B376-C46145BEFE2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F8BD-93FD-4FA7-B78F-4CAD50C33FE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5B3C-BE7A-4556-AF6D-1D362D8C155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5D29-D391-49AD-9250-04A2D434BC2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BAB1-AB22-4155-B442-1065CE72500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5B63-4C98-4D74-B41E-33831312C2B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31C8-D074-4928-ABB2-CE0A4DCBF68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2939-4F27-4028-A042-056FE96DE1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549B-0FF1-4E4F-A553-EACA7E7F9A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8DED-E635-4266-A9AA-488476C4AC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31BC-FFF2-4EDC-A159-E1145964065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25E1-3CDC-497B-9179-0E8125CF0CF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AF7B-923E-4617-A1DF-BC3FCF3DEDD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228A-215E-4945-8001-72EC2252EF4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0A2D-683F-4CC1-BE87-9B5077B8E0C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4B3C-DEBE-4A82-A81E-2AEF2B9C4B0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E104-BCF0-4A0E-A7D1-180505C34B6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043A-3DB4-4238-901B-1AB4AC603C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49B8-AAEB-4A53-9252-7808D9F5781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6527-2168-45C2-BFD7-F2C24003A46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2A8B-998E-4932-A944-DC10CDACA2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2A00-C1AC-4E5A-B560-CD83A63961E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327D-BECA-4789-9549-459775E4EDE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54C4-4D5D-48ED-93FE-3C81F98D0D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FF85-48E1-4971-BBCD-9AC83A5AF7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B621-C52F-4D9D-B4FE-690051A28C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BF21-475A-4822-B244-F878EBE5DD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D4FE-2FE3-4C43-93E0-AA2BC9077F9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A3D2-2DD2-41AA-BE8C-790687A00F9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9DAA-B384-4BA5-8C37-F0300186144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5247-9D5D-45D6-8348-BE28F04797F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2913-D7B8-46EF-9BAD-F2CD0E19DAD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9442-3E1A-4871-8962-306B928E95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2E3D-3A9A-479A-866D-C834515479C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50F7-B2D9-4277-8271-C1093E2BA69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